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0.wmf" ContentType="image/x-wmf"/>
  <Override PartName="/ppt/media/image36.wmf" ContentType="image/x-wmf"/>
  <Override PartName="/ppt/media/image39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46.png" ContentType="image/png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4.wmf" ContentType="image/x-wmf"/>
  <Override PartName="/ppt/media/image31.wmf" ContentType="image/x-wmf"/>
  <Override PartName="/ppt/media/image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41.wmf" ContentType="image/x-wmf"/>
  <Override PartName="/ppt/media/image48.wmf" ContentType="image/x-wmf"/>
  <Override PartName="/ppt/media/image50.png" ContentType="image/png"/>
  <Override PartName="/ppt/media/image5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4197BA-33B3-4978-8F7E-E3C8ABA8D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8C6A25-4AE4-4089-89BC-8B8FAC11C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6D064B-3CBA-42D3-BD26-B89000921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F2CD-3F70-4D7C-954A-1855D43D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1.wmf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iembr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47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83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05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08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11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14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17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20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34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395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83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30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1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8600" y="1562040"/>
          <a:ext cx="8591400" cy="502776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plan estratégico d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ngel, D. Kollat, R. Blackwell, Consumer Behavio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 las necesidades a través de la 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l atractivo del mercado de referen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Construyendo diferenciación de marcas en una época de paridad de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desarrollo para el lanzamiento de nuevos product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Posi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 elección de una estrategia de mark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Nunes, B. Johnson, Are some customers more equal than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What is a strong brand?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Price, costs and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s decisiones estratégicas de comun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3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 y máximo 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dos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4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7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a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8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9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0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</cp:lastModifiedBy>
  <cp:lastPrinted>2000-05-08T17:12:16Z</cp:lastPrinted>
  <dcterms:modified xsi:type="dcterms:W3CDTF">2005-09-29T20:06:47Z</dcterms:modified>
  <cp:revision>447</cp:revision>
  <dc:subject/>
  <dc:title>UCAD Call Centre Transition Plan</dc:title>
</cp:coreProperties>
</file>