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136-4E3E-4784-815E-D91F65E2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99C-67B9-4328-B3CC-202A62A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8BD-BAF6-4328-AE63-AAC0726D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373-BFFA-4ADE-B860-9428FC0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0FF-B892-4C05-BEBC-6B96CB2C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CF16-ADED-4A86-B3CD-9CF93FC8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994B-F3AE-4F5A-97B5-416B9F3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4AFB-0B81-445B-9B05-C5CC7C1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A72-9806-40D1-92FD-000FA5AA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F027-5DCE-4A42-A178-E2B026D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785-287A-48ED-8B0E-83521E1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9D9-3FA1-410D-B549-B6212AE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F01-09A8-481C-8DCE-768D254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7FDE-9225-4E2F-940D-91A5A0F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1053-402C-4970-B4AD-13AE2F4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7DF3-6875-4D88-BAFF-7BF1224E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D98B-7C6D-4192-A99D-B23CE76F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FBC-2B39-4E2A-BC60-30A725D3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F39-5AB2-4358-B007-FA69C9CB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EEF-9466-4CF8-9DCB-BA0415C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D1C-EE80-44BC-B02B-CE230604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FFE-6022-480A-908A-15EABA8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200-01B5-45A2-A0CD-CB7C1E7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0F1-B264-445D-8233-1131B30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4EB7-4BE7-4F25-8198-7E0A2FDCDB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00C8-29E4-4ACB-B4DE-CCB9800A34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of.: Ángel Jiménez Mo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Magíster en Ingeniería de Negocios con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2000, XP, 2003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Dii</cp:lastModifiedBy>
  <dcterms:modified xsi:type="dcterms:W3CDTF">2005-07-02T14:02:53Z</dcterms:modified>
  <cp:revision>788</cp:revision>
  <dc:subject/>
  <dc:title>GESTION DE  TECNOLOGIA E INNOVACIÓN</dc:title>
</cp:coreProperties>
</file>