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A20-5C17-4C21-87F8-F01C5A1D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3FD-B47A-4A14-9FC1-2B724ADA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C9E-8FED-40C4-B4B1-04062958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CA3-A742-48D0-A44E-40741A3D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506B-1515-446E-B801-2ADFA0FC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CD96-8597-4524-9E8B-56268A6B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B98C-5944-4C61-873D-9B36F5CB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5175-2A44-43C7-BBBC-E4D58447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AFE1-DE1B-496D-B34D-4B97E595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89E7-AB5A-489D-AD78-96C9B101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B803-9E66-4E41-94BD-D2F5B087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AEF-F1D2-4CE3-B402-F784ED18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2DBC-E1BA-4612-97A3-4E7FE69F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6ACB-B5F7-4562-A4FE-622BBE9F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5FB4-F7AB-44E3-8EBB-6A9AE3D6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089A-AFC2-46B9-8422-1B3CAA06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0E6A-6BBA-473B-8B05-7F32AD19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CEB-5DC3-4AAE-B2AE-603929AF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DF2-E1AD-49B0-A622-90EAED77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4F3-3885-4C05-BA65-7F2B170E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551-2431-4CD2-A2C3-132B89DB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C41-C325-41FE-BAA7-518FCB50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8F6-2843-4473-81AB-5F238518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3EA-9AFC-4507-B2C4-0615954E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9079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4A05-599E-4A8C-BA3B-98CE6BF0707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7234-F73E-4B70-95F1-2FE199CBF51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 N T R O D U C C I Ó N               A  L A   P R O G R A M A C I Ó N   E N   J A V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4149720"/>
            <a:ext cx="7924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Prof.: Ángel Jiménez Mo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Magíster en Ingeniería de Negocios con 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0400" y="228600"/>
            <a:ext cx="2492280" cy="6094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1 EL LENGUAJE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620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ava es u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enguaje orientado a objeto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Esto significa que posee ciertas características que hoy día se consideran estándares en los lenguajes O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bje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as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étod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bclas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erencia simpl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lace dinámic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capsulamien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EL LENGUAJE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" y="1143000"/>
            <a:ext cx="5257800" cy="1734840"/>
            <a:chOff x="228600" y="1143000"/>
            <a:chExt cx="5257800" cy="1734840"/>
          </a:xfrm>
        </p:grpSpPr>
        <p:sp>
          <p:nvSpPr>
            <p:cNvPr id="119" name=""/>
            <p:cNvSpPr/>
            <p:nvPr/>
          </p:nvSpPr>
          <p:spPr>
            <a:xfrm>
              <a:off x="228600" y="1143000"/>
              <a:ext cx="5257800" cy="1734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" y="1143000"/>
              <a:ext cx="5257800" cy="16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        </a:t>
              </a:r>
              <a:r>
                <a:rPr b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 LADO OSCURO DE LOS OBJETOS                                                                                          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- La claridad, eficiencia y mantenibilidad del programa resultante dependerá principalmente de la </a:t>
              </a:r>
              <a:r>
                <a:rPr b="0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lidad del diseño de clases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- Un mal diseño de clases puede llevar a programas OO de peor calidad y de más alto costo que el programa equivalente no O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8600" y="5029200"/>
            <a:ext cx="5257800" cy="762120"/>
            <a:chOff x="228600" y="5029200"/>
            <a:chExt cx="5257800" cy="762120"/>
          </a:xfrm>
        </p:grpSpPr>
        <p:sp>
          <p:nvSpPr>
            <p:cNvPr id="122" name=""/>
            <p:cNvSpPr/>
            <p:nvPr/>
          </p:nvSpPr>
          <p:spPr>
            <a:xfrm>
              <a:off x="228600" y="5029200"/>
              <a:ext cx="5257800" cy="762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" y="5029200"/>
              <a:ext cx="525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a ventaja potencial más importante de un lenguaje OO está en las </a:t>
              </a:r>
              <a:r>
                <a:rPr b="0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bliotecas de clases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que se pueden construir para é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23880" y="3733920"/>
            <a:ext cx="2514600" cy="644760"/>
            <a:chOff x="1523880" y="3733920"/>
            <a:chExt cx="2514600" cy="644760"/>
          </a:xfrm>
        </p:grpSpPr>
        <p:sp>
          <p:nvSpPr>
            <p:cNvPr id="125" name=""/>
            <p:cNvSpPr/>
            <p:nvPr/>
          </p:nvSpPr>
          <p:spPr>
            <a:xfrm>
              <a:off x="1523880" y="3733920"/>
              <a:ext cx="251460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3880" y="3733920"/>
              <a:ext cx="25146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Verdana"/>
                </a:rPr>
                <a:t>¿Por qué usar Java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514600" y="29718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2670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638680" y="1371600"/>
            <a:ext cx="3225960" cy="4419720"/>
            <a:chOff x="5638680" y="1371600"/>
            <a:chExt cx="3225960" cy="4419720"/>
          </a:xfrm>
        </p:grpSpPr>
        <p:sp>
          <p:nvSpPr>
            <p:cNvPr id="130" name=""/>
            <p:cNvSpPr/>
            <p:nvPr/>
          </p:nvSpPr>
          <p:spPr>
            <a:xfrm>
              <a:off x="5638680" y="1371600"/>
              <a:ext cx="3225960" cy="4419720"/>
            </a:xfrm>
            <a:custGeom>
              <a:avLst/>
              <a:gdLst>
                <a:gd name="textAreaLeft" fmla="*/ 157320 w 3225960"/>
                <a:gd name="textAreaRight" fmla="*/ 3068640 w 3225960"/>
                <a:gd name="textAreaTop" fmla="*/ 157320 h 4419720"/>
                <a:gd name="textAreaBottom" fmla="*/ 4262400 h 4419720"/>
              </a:gdLst>
              <a:ahLst/>
              <a:rect l="textAreaLeft" t="textAreaTop" r="textAreaRight" b="textAreaBottom"/>
              <a:pathLst>
                <a:path w="21600" h="29592">
                  <a:moveTo>
                    <a:pt x="3600" y="0"/>
                  </a:moveTo>
                  <a:arcTo wR="3600" hR="3600" stAng="16200000" swAng="-5400000"/>
                  <a:lnTo>
                    <a:pt x="0" y="25992"/>
                  </a:lnTo>
                  <a:arcTo wR="3600" hR="3600" stAng="10800000" swAng="-5400000"/>
                  <a:lnTo>
                    <a:pt x="18000" y="29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1447920"/>
              <a:ext cx="3047760" cy="36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TIPOS DE PROGRAMADORES EN 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diseñador de clases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el encargado de definir qué clases ofrece una biblioteca y cuál es la funcionalidad que se espera de estas clas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programador de clases de biblioteca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Sólo programa las clases especificadas por el diseñador de clases. Debe entender orientación a objetos, pero no requiere mayor experiencia en el diseño de clas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cliente de bibliotecas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el programador de aplicaciones. Él sólo usa las clases que otros han diseñado y programado. Como en el caso anterior, necesita entender orientación a objetos y conocer la biblioteca que va a usar, pero no necesita mayor experi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2 JAVA ES MULTIPLATAFOR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programas en Java pueden ejecutarse en cualquiera de las siguientes plataformas, sin necesidad de hacer cambio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Windows/2000, XP, 2003 y /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wer/Ma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ix (Solaris, Silicon Graphics, ..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compatibilidad es total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 fuente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l lenguaje es exactamente e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ismo en todas las plataforma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 biblioteca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n todas las plataformas está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esentes las mismas bibliotecas estándar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l código compil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l código intermedio qu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genera el compilador es el mismo para todas las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lataformas. Lo que cambia es el intérprete del códig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termedi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3 EL LOOK-AND-FE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o único que varia de acuerdo a la plataforma es 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ok-and-fee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Un programa en Windows tendrá el aspecto característico de esta plataforma (en cuanto a la forma de los botones, barras de deslizamiento, menúes, etc.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mismo program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n Unix tendrá el aspecto característico de Motif. Y en Power/Mac se verá como un programa para Macintos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n embargo el código que escriben los programadores no tiene que tener presente las características de ninguna de estas plataform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 la implementación de la interfaz gráfica estándar de Java la que se encarga de desplegar las ventanas con 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ok-and-fee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de la plataforma loca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4 JAVA ES ROBUS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Informalmente : No se cae frente a una variedad de escenari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realiza chequeo de tipos durante la compilación y la ejecu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i el objeto no es compatible, entonces se levanta una excepción que informa al programador la línea exacta en dónde está la fuente de err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posee un recolector de basuras que administra automáticamente la memor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5 JAVA ES DISTRIBUI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se ha construido con extensas capacidades de interconexión TCP/IP. Esto permite a los programadores acceder a la información a través de la red con tanta facilidad como a los archivos de su P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verdad es que Java en sí, no es distribuido, sino que proporciona las librerías y herramientas para que los programas puedan ser distribuidos, es decir, que se corran en varias máquinas, interactuan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4. LA APLICACIÓN HELLO WOR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licación: Programa convencional que se invoca desde el interprete de coman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eamos el clásico “Hello World”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pilar con: </a:t>
            </a:r>
            <a:r>
              <a:rPr b="1" lang="es-MX" sz="2000" spc="-1" strike="noStrike">
                <a:solidFill>
                  <a:srgbClr val="6600cc"/>
                </a:solidFill>
                <a:latin typeface="Courier New"/>
              </a:rPr>
              <a:t>javac Hello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jecutar con: </a:t>
            </a:r>
            <a:r>
              <a:rPr b="1" lang="es-MX" sz="2000" spc="-1" strike="noStrike">
                <a:solidFill>
                  <a:srgbClr val="6600cc"/>
                </a:solidFill>
                <a:latin typeface="Courier New"/>
              </a:rPr>
              <a:t>java Hel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2666880"/>
            <a:ext cx="7695360" cy="2174040"/>
            <a:chOff x="228600" y="2666880"/>
            <a:chExt cx="7695360" cy="2174040"/>
          </a:xfrm>
        </p:grpSpPr>
        <p:sp>
          <p:nvSpPr>
            <p:cNvPr id="143" name=""/>
            <p:cNvSpPr/>
            <p:nvPr/>
          </p:nvSpPr>
          <p:spPr>
            <a:xfrm>
              <a:off x="228600" y="2666880"/>
              <a:ext cx="7475040" cy="2174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" y="2908800"/>
              <a:ext cx="7695360" cy="18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//La aplicación Hello Wor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public class Hello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public static void main (String[] args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System.out.println("Hello World!"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 </a:t>
              </a: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238880" y="1981080"/>
            <a:ext cx="1600200" cy="381240"/>
            <a:chOff x="7238880" y="1981080"/>
            <a:chExt cx="1600200" cy="381240"/>
          </a:xfrm>
        </p:grpSpPr>
        <p:sp>
          <p:nvSpPr>
            <p:cNvPr id="146" name=""/>
            <p:cNvSpPr/>
            <p:nvPr/>
          </p:nvSpPr>
          <p:spPr>
            <a:xfrm>
              <a:off x="7238880" y="1981080"/>
              <a:ext cx="16002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8880" y="1981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omenta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4495680" y="2209680"/>
            <a:ext cx="2743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238880" y="2514600"/>
            <a:ext cx="1600200" cy="609480"/>
            <a:chOff x="7238880" y="2514600"/>
            <a:chExt cx="1600200" cy="609480"/>
          </a:xfrm>
        </p:grpSpPr>
        <p:sp>
          <p:nvSpPr>
            <p:cNvPr id="150" name=""/>
            <p:cNvSpPr/>
            <p:nvPr/>
          </p:nvSpPr>
          <p:spPr>
            <a:xfrm>
              <a:off x="7238880" y="2514600"/>
              <a:ext cx="160020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8880" y="25146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finición de la cl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>
            <a:off x="3428640" y="2819520"/>
            <a:ext cx="3809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315200" y="4267080"/>
            <a:ext cx="1600200" cy="609840"/>
            <a:chOff x="7315200" y="4267080"/>
            <a:chExt cx="1600200" cy="609840"/>
          </a:xfrm>
        </p:grpSpPr>
        <p:sp>
          <p:nvSpPr>
            <p:cNvPr id="154" name=""/>
            <p:cNvSpPr/>
            <p:nvPr/>
          </p:nvSpPr>
          <p:spPr>
            <a:xfrm>
              <a:off x="7315200" y="4267080"/>
              <a:ext cx="160020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15200" y="4267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étodo 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flipV="1">
            <a:off x="807732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543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505320"/>
            <a:ext cx="9144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429000"/>
            <a:ext cx="24382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400800" y="5410080"/>
            <a:ext cx="2514600" cy="609840"/>
            <a:chOff x="6400800" y="5410080"/>
            <a:chExt cx="2514600" cy="609840"/>
          </a:xfrm>
        </p:grpSpPr>
        <p:sp>
          <p:nvSpPr>
            <p:cNvPr id="161" name=""/>
            <p:cNvSpPr/>
            <p:nvPr/>
          </p:nvSpPr>
          <p:spPr>
            <a:xfrm>
              <a:off x="6400800" y="5410080"/>
              <a:ext cx="251460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5410080"/>
              <a:ext cx="251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spliega un string en la conso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 flipV="1">
            <a:off x="3657240" y="4191120"/>
            <a:ext cx="3962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4.1 CONSIDERACIONES IMPORTAN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nombre del archivo (Hello.java) siempre debe ser el nombre de la clase (Hell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das las aplicaciones deben definir el método mai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 invocar el intérprete de java con java Hello, se busca y se invoca un método main que textualmente haya sido definido con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 cambie el nombre de este procedimiento ni omita ninguno de sus atributos. Tampoco cambie el tipo de los argumentos o el valor retornado.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S “CANÓNICO”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95280" y="3962520"/>
            <a:ext cx="6705720" cy="457200"/>
            <a:chOff x="1295280" y="3962520"/>
            <a:chExt cx="6705720" cy="457200"/>
          </a:xfrm>
        </p:grpSpPr>
        <p:sp>
          <p:nvSpPr>
            <p:cNvPr id="167" name=""/>
            <p:cNvSpPr/>
            <p:nvPr/>
          </p:nvSpPr>
          <p:spPr>
            <a:xfrm>
              <a:off x="1295280" y="3962520"/>
              <a:ext cx="670572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5280" y="3962520"/>
              <a:ext cx="67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6600cc"/>
                  </a:solidFill>
                  <a:latin typeface="Courier New"/>
                </a:rPr>
                <a:t>public static void main (String args[]) { ...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5. VARIABLES Y TIP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1 VARIABLES Y TIP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1143000"/>
            <a:ext cx="8458200" cy="774000"/>
            <a:chOff x="380880" y="1143000"/>
            <a:chExt cx="8458200" cy="774000"/>
          </a:xfrm>
        </p:grpSpPr>
        <p:sp>
          <p:nvSpPr>
            <p:cNvPr id="172" name=""/>
            <p:cNvSpPr/>
            <p:nvPr/>
          </p:nvSpPr>
          <p:spPr>
            <a:xfrm>
              <a:off x="380880" y="1143000"/>
              <a:ext cx="8458200" cy="774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1143000"/>
              <a:ext cx="84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VARIABLE                                                                                           “</a:t>
              </a:r>
              <a:r>
                <a:rPr b="1" i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dentificador que representa un espacio de memoria que contiene información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57200" y="2438280"/>
            <a:ext cx="8458200" cy="774720"/>
            <a:chOff x="457200" y="2438280"/>
            <a:chExt cx="8458200" cy="774720"/>
          </a:xfrm>
        </p:grpSpPr>
        <p:sp>
          <p:nvSpPr>
            <p:cNvPr id="175" name=""/>
            <p:cNvSpPr/>
            <p:nvPr/>
          </p:nvSpPr>
          <p:spPr>
            <a:xfrm>
              <a:off x="457200" y="2438280"/>
              <a:ext cx="8458200" cy="7747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" y="2438280"/>
              <a:ext cx="84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IPO                                                                                          “</a:t>
              </a:r>
              <a:r>
                <a:rPr b="1" i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racterística específica de la información almacenada, definida en la declaración de la variabl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23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05120" y="3886200"/>
            <a:ext cx="5410080" cy="1828800"/>
            <a:chOff x="1905120" y="3886200"/>
            <a:chExt cx="5410080" cy="1828800"/>
          </a:xfrm>
        </p:grpSpPr>
        <p:grpSp>
          <p:nvGrpSpPr>
            <p:cNvPr id="179" name=""/>
            <p:cNvGrpSpPr/>
            <p:nvPr/>
          </p:nvGrpSpPr>
          <p:grpSpPr>
            <a:xfrm>
              <a:off x="1912680" y="3894840"/>
              <a:ext cx="5393880" cy="1810800"/>
              <a:chOff x="1912680" y="3894840"/>
              <a:chExt cx="5393880" cy="181080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1912680" y="3894840"/>
                <a:ext cx="1272960" cy="362160"/>
                <a:chOff x="1912680" y="3894840"/>
                <a:chExt cx="1272960" cy="3621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912680" y="389484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ecla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912680" y="389484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185640" y="3894840"/>
                <a:ext cx="1356120" cy="362160"/>
                <a:chOff x="3185640" y="3894840"/>
                <a:chExt cx="1356120" cy="3621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185640" y="389484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dentificad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185640" y="389484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541760" y="3894840"/>
                <a:ext cx="2764800" cy="362160"/>
                <a:chOff x="4541760" y="3894840"/>
                <a:chExt cx="2764800" cy="3621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541760" y="389484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541760" y="389484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912680" y="4257000"/>
                <a:ext cx="1272960" cy="362160"/>
                <a:chOff x="1912680" y="4257000"/>
                <a:chExt cx="1272960" cy="3621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912680" y="425700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i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912680" y="425700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185640" y="4257000"/>
                <a:ext cx="1356120" cy="362160"/>
                <a:chOff x="3185640" y="4257000"/>
                <a:chExt cx="1356120" cy="362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185640" y="425700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185640" y="425700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541760" y="4257000"/>
                <a:ext cx="2764800" cy="362160"/>
                <a:chOff x="4541760" y="4257000"/>
                <a:chExt cx="2764800" cy="362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541760" y="425700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enter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541760" y="425700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912680" y="4619160"/>
                <a:ext cx="1272960" cy="362160"/>
                <a:chOff x="1912680" y="4619160"/>
                <a:chExt cx="1272960" cy="3621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912680" y="461916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ng s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12680" y="461916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3185640" y="4619160"/>
                <a:ext cx="1356120" cy="362160"/>
                <a:chOff x="3185640" y="4619160"/>
                <a:chExt cx="1356120" cy="362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185640" y="461916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185640" y="461916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541760" y="4619160"/>
                <a:ext cx="2764800" cy="362160"/>
                <a:chOff x="4541760" y="4619160"/>
                <a:chExt cx="2764800" cy="362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541760" y="461916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stri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41760" y="461916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912680" y="4981320"/>
                <a:ext cx="1272960" cy="362160"/>
                <a:chOff x="1912680" y="4981320"/>
                <a:chExt cx="1272960" cy="362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912680" y="498132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a[]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912680" y="498132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185640" y="4981320"/>
                <a:ext cx="1356120" cy="362160"/>
                <a:chOff x="3185640" y="4981320"/>
                <a:chExt cx="1356120" cy="36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185640" y="498132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185640" y="498132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541760" y="4981320"/>
                <a:ext cx="2764800" cy="362160"/>
                <a:chOff x="4541760" y="4981320"/>
                <a:chExt cx="2764800" cy="3621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541760" y="498132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arreglo de enter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541760" y="498132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912680" y="5343480"/>
                <a:ext cx="1272960" cy="362160"/>
                <a:chOff x="1912680" y="5343480"/>
                <a:chExt cx="1272960" cy="3621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912680" y="534348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[] b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912680" y="534348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85640" y="5343480"/>
                <a:ext cx="1356120" cy="362160"/>
                <a:chOff x="3185640" y="5343480"/>
                <a:chExt cx="1356120" cy="362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5640" y="534348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85640" y="534348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541760" y="5343480"/>
                <a:ext cx="2764800" cy="362160"/>
                <a:chOff x="4541760" y="5343480"/>
                <a:chExt cx="2764800" cy="3621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541760" y="534348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arreglo de enter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541760" y="534348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" name=""/>
            <p:cNvSpPr/>
            <p:nvPr/>
          </p:nvSpPr>
          <p:spPr>
            <a:xfrm>
              <a:off x="1905120" y="3886200"/>
              <a:ext cx="5410080" cy="1828800"/>
            </a:xfrm>
            <a:prstGeom prst="rect">
              <a:avLst/>
            </a:prstGeom>
            <a:noFill/>
            <a:ln w="223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 DE LA CL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620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rquitectura Cliente/Servi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plets en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aracterísticas de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aplicación Hello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ariables y Tip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struc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s y Cl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truct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ubclases y herenc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capsulamiento de cl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0240" y="990720"/>
            <a:ext cx="236376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2 TIPOS PRIMITIVOS Y         REFERENCIAS A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JAVA posee dos grandes categorías de tipos para las variab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90920" y="1828800"/>
            <a:ext cx="3962160" cy="1851120"/>
            <a:chOff x="2590920" y="1828800"/>
            <a:chExt cx="3962160" cy="1851120"/>
          </a:xfrm>
        </p:grpSpPr>
        <p:grpSp>
          <p:nvGrpSpPr>
            <p:cNvPr id="230" name=""/>
            <p:cNvGrpSpPr/>
            <p:nvPr/>
          </p:nvGrpSpPr>
          <p:grpSpPr>
            <a:xfrm>
              <a:off x="2598480" y="1839960"/>
              <a:ext cx="3946320" cy="1828800"/>
              <a:chOff x="2598480" y="1839960"/>
              <a:chExt cx="3946320" cy="18288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2598480" y="1839960"/>
                <a:ext cx="1840320" cy="457200"/>
                <a:chOff x="2598480" y="1839960"/>
                <a:chExt cx="1840320" cy="4572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598480" y="18399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s Primi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598480" y="18399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438800" y="1839960"/>
                <a:ext cx="2106000" cy="457200"/>
                <a:chOff x="4438800" y="1839960"/>
                <a:chExt cx="2106000" cy="4572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438800" y="18399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s a Objet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438800" y="18399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598480" y="2297160"/>
                <a:ext cx="1840320" cy="457200"/>
                <a:chOff x="2598480" y="2297160"/>
                <a:chExt cx="1840320" cy="4572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598480" y="22971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, short, byte, lo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98480" y="22971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438800" y="2297160"/>
                <a:ext cx="2106000" cy="457200"/>
                <a:chOff x="4438800" y="2297160"/>
                <a:chExt cx="2106000" cy="4572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438800" y="22971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ng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438800" y="22971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598480" y="2754360"/>
                <a:ext cx="1840320" cy="457200"/>
                <a:chOff x="2598480" y="2754360"/>
                <a:chExt cx="1840320" cy="4572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598480" y="27543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har, boolea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598480" y="27543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438800" y="2754360"/>
                <a:ext cx="2106000" cy="457200"/>
                <a:chOff x="4438800" y="2754360"/>
                <a:chExt cx="2106000" cy="4572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438800" y="27543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rregl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438800" y="27543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598480" y="3211560"/>
                <a:ext cx="1840320" cy="457200"/>
                <a:chOff x="2598480" y="3211560"/>
                <a:chExt cx="1840320" cy="4572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598480" y="32115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loat, doub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598480" y="32115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438800" y="3211560"/>
                <a:ext cx="2106000" cy="457200"/>
                <a:chOff x="4438800" y="3211560"/>
                <a:chExt cx="2106000" cy="4572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438800" y="32115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tros obje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438800" y="32115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2590920" y="1828800"/>
              <a:ext cx="3962160" cy="185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8600" y="1828800"/>
            <a:ext cx="2133720" cy="1904760"/>
            <a:chOff x="228600" y="1828800"/>
            <a:chExt cx="2133720" cy="1904760"/>
          </a:xfrm>
        </p:grpSpPr>
        <p:sp>
          <p:nvSpPr>
            <p:cNvPr id="257" name=""/>
            <p:cNvSpPr/>
            <p:nvPr/>
          </p:nvSpPr>
          <p:spPr>
            <a:xfrm>
              <a:off x="228600" y="1828800"/>
              <a:ext cx="2133720" cy="190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8600" y="1828800"/>
              <a:ext cx="2133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macenan directamente un valor que siempre pertenece al rango de ese tip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236196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781680" y="1828800"/>
            <a:ext cx="2133720" cy="1904760"/>
            <a:chOff x="6781680" y="1828800"/>
            <a:chExt cx="2133720" cy="1904760"/>
          </a:xfrm>
        </p:grpSpPr>
        <p:sp>
          <p:nvSpPr>
            <p:cNvPr id="261" name=""/>
            <p:cNvSpPr/>
            <p:nvPr/>
          </p:nvSpPr>
          <p:spPr>
            <a:xfrm>
              <a:off x="6781680" y="1828800"/>
              <a:ext cx="2133720" cy="190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1828800"/>
              <a:ext cx="2133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macenan direcciones a memoria, y no valores directamente. Se solicita con operador </a:t>
              </a:r>
              <a:r>
                <a:rPr b="1" lang="es-MX" sz="16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55308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3733920"/>
            <a:ext cx="83822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asignar una variable de “tipo primitivo” a otra variable del mismo tipo, se copia el valor de la primera en el espacio que ocupa la segunda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asignar una variable de tipo “referencia a objetos” a otra variable, se asigna la dirección y no el objeto referenciado por esa dirección. =&gt; Ambas variables quedan referenciando el mismo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6248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 EFECTO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64771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3 DIFERENCIAS DE ASIGNACIÓN              EN TIP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asigobj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5257800" cy="3384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33520" y="4648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Luis Mat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5146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251460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  <a:ea typeface="Arial"/>
              </a:rPr>
              <a:t>Esto tiene implicancias mayores, ya que si se modifica el objeto referenciado por “r”, entonces también se modifica el objeto referenciado por “s”, puesto que son el mismo obje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281952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5105520"/>
            <a:ext cx="83818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=&gt; Cuando se dice en JAVA que una variable es un string, lo que se quiere decir en realidad es que la variable es una referencia a un st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4 TIPOS PRIMITIV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828800" y="1219320"/>
            <a:ext cx="5464080" cy="3886200"/>
            <a:chOff x="1828800" y="1219320"/>
            <a:chExt cx="5464080" cy="3886200"/>
          </a:xfrm>
        </p:grpSpPr>
        <p:grpSp>
          <p:nvGrpSpPr>
            <p:cNvPr id="280" name=""/>
            <p:cNvGrpSpPr/>
            <p:nvPr/>
          </p:nvGrpSpPr>
          <p:grpSpPr>
            <a:xfrm>
              <a:off x="1837800" y="1229760"/>
              <a:ext cx="5445360" cy="3864600"/>
              <a:chOff x="1837800" y="1229760"/>
              <a:chExt cx="5445360" cy="386460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1837800" y="1229760"/>
                <a:ext cx="1003680" cy="429120"/>
                <a:chOff x="1837800" y="1229760"/>
                <a:chExt cx="1003680" cy="4291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7800" y="1229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7800" y="1229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841480" y="1229760"/>
                <a:ext cx="630000" cy="429120"/>
                <a:chOff x="2841480" y="1229760"/>
                <a:chExt cx="630000" cy="4291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841480" y="1229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it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841480" y="1229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471480" y="1229760"/>
                <a:ext cx="2004840" cy="429120"/>
                <a:chOff x="3471480" y="1229760"/>
                <a:chExt cx="2004840" cy="4291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471480" y="1229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ang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471480" y="1229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5476320" y="1229760"/>
                <a:ext cx="1806840" cy="429120"/>
                <a:chOff x="5476320" y="1229760"/>
                <a:chExt cx="1806840" cy="4291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476320" y="1229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Ejempl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76320" y="1229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837800" y="1658880"/>
                <a:ext cx="1003680" cy="429120"/>
                <a:chOff x="1837800" y="1658880"/>
                <a:chExt cx="1003680" cy="429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837800" y="16588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837800" y="16588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841480" y="1658880"/>
                <a:ext cx="630000" cy="429120"/>
                <a:chOff x="2841480" y="1658880"/>
                <a:chExt cx="630000" cy="4291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841480" y="16588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841480" y="16588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471480" y="1658880"/>
                <a:ext cx="2004840" cy="429120"/>
                <a:chOff x="3471480" y="1658880"/>
                <a:chExt cx="2004840" cy="4291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3471480" y="16588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31 .. 2**31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471480" y="16588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476320" y="1658880"/>
                <a:ext cx="1806840" cy="429120"/>
                <a:chOff x="5476320" y="1658880"/>
                <a:chExt cx="1806840" cy="4291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476320" y="16588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476320" y="16588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7800" y="2088360"/>
                <a:ext cx="1003680" cy="429120"/>
                <a:chOff x="1837800" y="2088360"/>
                <a:chExt cx="1003680" cy="4291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7800" y="20883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hor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7800" y="20883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2841480" y="2088360"/>
                <a:ext cx="630000" cy="429120"/>
                <a:chOff x="2841480" y="2088360"/>
                <a:chExt cx="630000" cy="4291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841480" y="20883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41480" y="20883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3471480" y="2088360"/>
                <a:ext cx="2004840" cy="429120"/>
                <a:chOff x="3471480" y="2088360"/>
                <a:chExt cx="2004840" cy="4291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471480" y="20883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15 .. 2**15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71480" y="20883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476320" y="2088360"/>
                <a:ext cx="1806840" cy="429120"/>
                <a:chOff x="5476320" y="2088360"/>
                <a:chExt cx="1806840" cy="4291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476320" y="20883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476320" y="20883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1837800" y="2517840"/>
                <a:ext cx="1003680" cy="429120"/>
                <a:chOff x="1837800" y="2517840"/>
                <a:chExt cx="1003680" cy="429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837800" y="25178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yt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837800" y="25178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2841480" y="2517840"/>
                <a:ext cx="630000" cy="429120"/>
                <a:chOff x="2841480" y="2517840"/>
                <a:chExt cx="630000" cy="4291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2841480" y="25178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841480" y="25178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3471480" y="2517840"/>
                <a:ext cx="2004840" cy="429120"/>
                <a:chOff x="3471480" y="2517840"/>
                <a:chExt cx="2004840" cy="4291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3471480" y="25178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7 .. 2**7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471480" y="25178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5476320" y="2517840"/>
                <a:ext cx="1806840" cy="429120"/>
                <a:chOff x="5476320" y="2517840"/>
                <a:chExt cx="1806840" cy="429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476320" y="25178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476320" y="25178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7800" y="2947320"/>
                <a:ext cx="1003680" cy="429120"/>
                <a:chOff x="1837800" y="2947320"/>
                <a:chExt cx="1003680" cy="4291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7800" y="294732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lo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7800" y="294732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2841480" y="2947320"/>
                <a:ext cx="630000" cy="429120"/>
                <a:chOff x="2841480" y="2947320"/>
                <a:chExt cx="630000" cy="4291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841480" y="294732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841480" y="294732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3471480" y="2947320"/>
                <a:ext cx="2004840" cy="429120"/>
                <a:chOff x="3471480" y="2947320"/>
                <a:chExt cx="2004840" cy="4291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3471480" y="294732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63 .. 2**63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471480" y="294732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5476320" y="2947320"/>
                <a:ext cx="1806840" cy="429120"/>
                <a:chOff x="5476320" y="2947320"/>
                <a:chExt cx="1806840" cy="4291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476320" y="294732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476320" y="294732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837800" y="3376800"/>
                <a:ext cx="1003680" cy="429120"/>
                <a:chOff x="1837800" y="3376800"/>
                <a:chExt cx="1003680" cy="4291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837800" y="337680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oolea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37800" y="337680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841480" y="3376800"/>
                <a:ext cx="630000" cy="429120"/>
                <a:chOff x="2841480" y="3376800"/>
                <a:chExt cx="630000" cy="4291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841480" y="337680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841480" y="337680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471480" y="3376800"/>
                <a:ext cx="2004840" cy="429120"/>
                <a:chOff x="3471480" y="3376800"/>
                <a:chExt cx="2004840" cy="4291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471480" y="337680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/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471480" y="337680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5476320" y="3376800"/>
                <a:ext cx="1806840" cy="429120"/>
                <a:chOff x="5476320" y="3376800"/>
                <a:chExt cx="1806840" cy="4291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76320" y="337680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alse, tru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76320" y="337680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7800" y="3806280"/>
                <a:ext cx="1003680" cy="429120"/>
                <a:chOff x="1837800" y="3806280"/>
                <a:chExt cx="1003680" cy="4291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7800" y="38062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ha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7800" y="38062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841480" y="3806280"/>
                <a:ext cx="630000" cy="429120"/>
                <a:chOff x="2841480" y="3806280"/>
                <a:chExt cx="630000" cy="4291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841480" y="38062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41480" y="38062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471480" y="3806280"/>
                <a:ext cx="2004840" cy="429120"/>
                <a:chOff x="3471480" y="3806280"/>
                <a:chExt cx="2004840" cy="4291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471480" y="38062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/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471480" y="38062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5476320" y="3806280"/>
                <a:ext cx="1806840" cy="429120"/>
                <a:chOff x="5476320" y="3806280"/>
                <a:chExt cx="1806840" cy="42912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476320" y="38062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'a', 'A', '0', '*'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476320" y="38062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837800" y="4235760"/>
                <a:ext cx="1003680" cy="429120"/>
                <a:chOff x="1837800" y="4235760"/>
                <a:chExt cx="1003680" cy="4291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837800" y="4235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loa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37800" y="4235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2841480" y="4235760"/>
                <a:ext cx="630000" cy="429120"/>
                <a:chOff x="2841480" y="4235760"/>
                <a:chExt cx="630000" cy="4291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2841480" y="4235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841480" y="4235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471480" y="4235760"/>
                <a:ext cx="2004840" cy="429120"/>
                <a:chOff x="3471480" y="4235760"/>
                <a:chExt cx="2004840" cy="4291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471480" y="4235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471480" y="4235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5476320" y="4235760"/>
                <a:ext cx="1806840" cy="429120"/>
                <a:chOff x="5476320" y="4235760"/>
                <a:chExt cx="1806840" cy="4291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5476320" y="4235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.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476320" y="4235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7800" y="4665240"/>
                <a:ext cx="1003680" cy="429120"/>
                <a:chOff x="1837800" y="4665240"/>
                <a:chExt cx="1003680" cy="4291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7800" y="46652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oub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7800" y="46652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841480" y="4665240"/>
                <a:ext cx="630000" cy="429120"/>
                <a:chOff x="2841480" y="4665240"/>
                <a:chExt cx="630000" cy="4291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841480" y="46652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841480" y="46652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471480" y="4665240"/>
                <a:ext cx="2004840" cy="429120"/>
                <a:chOff x="3471480" y="4665240"/>
                <a:chExt cx="2004840" cy="4291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471480" y="46652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471480" y="46652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5476320" y="4665240"/>
                <a:ext cx="1806840" cy="429120"/>
                <a:chOff x="5476320" y="4665240"/>
                <a:chExt cx="1806840" cy="4291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5476320" y="46652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.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476320" y="46652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9" name=""/>
            <p:cNvSpPr/>
            <p:nvPr/>
          </p:nvSpPr>
          <p:spPr>
            <a:xfrm>
              <a:off x="1828800" y="1219320"/>
              <a:ext cx="5464080" cy="388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1760" y="5257440"/>
            <a:ext cx="8381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ouble &gt; float &gt; long &gt; int &gt; short &gt; by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5 OPERAD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523880" y="1523880"/>
            <a:ext cx="2514600" cy="2057400"/>
            <a:chOff x="1523880" y="1523880"/>
            <a:chExt cx="2514600" cy="2057400"/>
          </a:xfrm>
        </p:grpSpPr>
        <p:grpSp>
          <p:nvGrpSpPr>
            <p:cNvPr id="394" name=""/>
            <p:cNvGrpSpPr/>
            <p:nvPr/>
          </p:nvGrpSpPr>
          <p:grpSpPr>
            <a:xfrm>
              <a:off x="1531800" y="1532160"/>
              <a:ext cx="2497680" cy="2040480"/>
              <a:chOff x="1531800" y="1532160"/>
              <a:chExt cx="2497680" cy="204048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1531800" y="1532160"/>
                <a:ext cx="981360" cy="339840"/>
                <a:chOff x="1531800" y="1532160"/>
                <a:chExt cx="981360" cy="3398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531800" y="153216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ímbol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531800" y="153216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2513160" y="1532160"/>
                <a:ext cx="1516320" cy="339840"/>
                <a:chOff x="2513160" y="1532160"/>
                <a:chExt cx="1516320" cy="339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513160" y="153216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3160" y="153216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531800" y="1872000"/>
                <a:ext cx="981360" cy="339840"/>
                <a:chOff x="1531800" y="1872000"/>
                <a:chExt cx="981360" cy="3398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531800" y="18720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+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531800" y="18720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513160" y="1872000"/>
                <a:ext cx="1516320" cy="339840"/>
                <a:chOff x="2513160" y="1872000"/>
                <a:chExt cx="1516320" cy="3398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513160" y="18720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um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13160" y="18720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1531800" y="2212200"/>
                <a:ext cx="981360" cy="339840"/>
                <a:chOff x="1531800" y="2212200"/>
                <a:chExt cx="981360" cy="3398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531800" y="22122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-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531800" y="22122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2513160" y="2212200"/>
                <a:ext cx="1516320" cy="339840"/>
                <a:chOff x="2513160" y="2212200"/>
                <a:chExt cx="1516320" cy="3398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2513160" y="22122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s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513160" y="22122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1531800" y="2552400"/>
                <a:ext cx="981360" cy="339840"/>
                <a:chOff x="1531800" y="2552400"/>
                <a:chExt cx="981360" cy="3398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531800" y="25524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*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531800" y="25524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513160" y="2552400"/>
                <a:ext cx="1516320" cy="339840"/>
                <a:chOff x="2513160" y="2552400"/>
                <a:chExt cx="1516320" cy="3398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2513160" y="25524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ultiplic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513160" y="25524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531800" y="2892600"/>
                <a:ext cx="981360" cy="339840"/>
                <a:chOff x="1531800" y="2892600"/>
                <a:chExt cx="981360" cy="3398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531800" y="28926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/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531800" y="28926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2513160" y="2892600"/>
                <a:ext cx="1516320" cy="339840"/>
                <a:chOff x="2513160" y="2892600"/>
                <a:chExt cx="1516320" cy="3398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513160" y="28926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ivis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513160" y="28926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531800" y="3232800"/>
                <a:ext cx="981360" cy="339840"/>
                <a:chOff x="1531800" y="3232800"/>
                <a:chExt cx="981360" cy="3398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531800" y="32328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%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531800" y="32328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2513160" y="3232800"/>
                <a:ext cx="1516320" cy="339840"/>
                <a:chOff x="2513160" y="3232800"/>
                <a:chExt cx="1516320" cy="3398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2513160" y="32328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es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513160" y="32328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1" name=""/>
            <p:cNvSpPr/>
            <p:nvPr/>
          </p:nvSpPr>
          <p:spPr>
            <a:xfrm>
              <a:off x="1523880" y="1523880"/>
              <a:ext cx="2514600" cy="2057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105520" y="1523880"/>
            <a:ext cx="2209680" cy="2362320"/>
            <a:chOff x="5105520" y="1523880"/>
            <a:chExt cx="2209680" cy="2362320"/>
          </a:xfrm>
        </p:grpSpPr>
        <p:grpSp>
          <p:nvGrpSpPr>
            <p:cNvPr id="433" name=""/>
            <p:cNvGrpSpPr/>
            <p:nvPr/>
          </p:nvGrpSpPr>
          <p:grpSpPr>
            <a:xfrm>
              <a:off x="5113440" y="1531800"/>
              <a:ext cx="2193480" cy="2345400"/>
              <a:chOff x="5113440" y="1531800"/>
              <a:chExt cx="2193480" cy="234540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5113440" y="1531800"/>
                <a:ext cx="954720" cy="334800"/>
                <a:chOff x="5113440" y="1531800"/>
                <a:chExt cx="954720" cy="3348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113440" y="15318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ímbol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113440" y="15318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068160" y="1531800"/>
                <a:ext cx="1238760" cy="334800"/>
                <a:chOff x="6068160" y="1531800"/>
                <a:chExt cx="1238760" cy="3348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6068160" y="15318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068160" y="15318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113440" y="1866600"/>
                <a:ext cx="954720" cy="334800"/>
                <a:chOff x="5113440" y="1866600"/>
                <a:chExt cx="954720" cy="3348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113440" y="18666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113440" y="18666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6068160" y="1866600"/>
                <a:ext cx="1238760" cy="334800"/>
                <a:chOff x="6068160" y="1866600"/>
                <a:chExt cx="1238760" cy="3348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6068160" y="18666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ay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068160" y="18666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113440" y="2201760"/>
                <a:ext cx="954720" cy="334800"/>
                <a:chOff x="5113440" y="2201760"/>
                <a:chExt cx="954720" cy="33480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113440" y="220176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lt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113440" y="220176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6068160" y="2201760"/>
                <a:ext cx="1238760" cy="334800"/>
                <a:chOff x="6068160" y="2201760"/>
                <a:chExt cx="1238760" cy="3348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6068160" y="220176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n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068160" y="220176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5113440" y="2536920"/>
                <a:ext cx="954720" cy="334800"/>
                <a:chOff x="5113440" y="2536920"/>
                <a:chExt cx="954720" cy="3348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113440" y="253692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113440" y="253692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6068160" y="2536920"/>
                <a:ext cx="1238760" cy="334800"/>
                <a:chOff x="6068160" y="2536920"/>
                <a:chExt cx="1238760" cy="33480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6068160" y="253692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ayor 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068160" y="253692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113440" y="2872080"/>
                <a:ext cx="954720" cy="334800"/>
                <a:chOff x="5113440" y="2872080"/>
                <a:chExt cx="954720" cy="3348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5113440" y="287208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lt;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113440" y="287208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6068160" y="2872080"/>
                <a:ext cx="1238760" cy="334800"/>
                <a:chOff x="6068160" y="2872080"/>
                <a:chExt cx="1238760" cy="3348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6068160" y="287208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nor 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068160" y="287208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113440" y="3207240"/>
                <a:ext cx="954720" cy="334800"/>
                <a:chOff x="5113440" y="3207240"/>
                <a:chExt cx="954720" cy="33480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5113440" y="320724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=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113440" y="320724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6068160" y="3207240"/>
                <a:ext cx="1238760" cy="334800"/>
                <a:chOff x="6068160" y="3207240"/>
                <a:chExt cx="1238760" cy="33480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6068160" y="320724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068160" y="320724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113440" y="3542400"/>
                <a:ext cx="954720" cy="334800"/>
                <a:chOff x="5113440" y="3542400"/>
                <a:chExt cx="954720" cy="3348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113440" y="35424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!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113440" y="35424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068160" y="3542400"/>
                <a:ext cx="1238760" cy="334800"/>
                <a:chOff x="6068160" y="3542400"/>
                <a:chExt cx="1238760" cy="3348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068160" y="35424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istin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068160" y="35424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6" name=""/>
            <p:cNvSpPr/>
            <p:nvPr/>
          </p:nvSpPr>
          <p:spPr>
            <a:xfrm>
              <a:off x="5105520" y="1523880"/>
              <a:ext cx="220968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83212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04920" y="4495680"/>
            <a:ext cx="2514600" cy="1524240"/>
            <a:chOff x="304920" y="4495680"/>
            <a:chExt cx="2514600" cy="1524240"/>
          </a:xfrm>
        </p:grpSpPr>
        <p:grpSp>
          <p:nvGrpSpPr>
            <p:cNvPr id="479" name=""/>
            <p:cNvGrpSpPr/>
            <p:nvPr/>
          </p:nvGrpSpPr>
          <p:grpSpPr>
            <a:xfrm>
              <a:off x="312840" y="4504680"/>
              <a:ext cx="2498400" cy="1505520"/>
              <a:chOff x="312840" y="4504680"/>
              <a:chExt cx="2498400" cy="150552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312840" y="4504680"/>
                <a:ext cx="1266840" cy="376200"/>
                <a:chOff x="312840" y="4504680"/>
                <a:chExt cx="1266840" cy="376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312840" y="45046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12840" y="45046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1579680" y="4504680"/>
                <a:ext cx="1231560" cy="376200"/>
                <a:chOff x="1579680" y="4504680"/>
                <a:chExt cx="1231560" cy="3762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1579680" y="45046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ignificad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579680" y="45046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12840" y="4880880"/>
                <a:ext cx="1266840" cy="376200"/>
                <a:chOff x="312840" y="4880880"/>
                <a:chExt cx="1266840" cy="37620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12840" y="48808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 &amp;&amp;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12840" y="48808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1579680" y="4880880"/>
                <a:ext cx="1231560" cy="376200"/>
                <a:chOff x="1579680" y="4880880"/>
                <a:chExt cx="1231560" cy="3762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579680" y="48808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y-lógic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579680" y="48808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312840" y="5257440"/>
                <a:ext cx="1266840" cy="376200"/>
                <a:chOff x="312840" y="5257440"/>
                <a:chExt cx="1266840" cy="3762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12840" y="525744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 ||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12840" y="525744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1579680" y="5257440"/>
                <a:ext cx="1231560" cy="376200"/>
                <a:chOff x="1579680" y="5257440"/>
                <a:chExt cx="1231560" cy="3762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1579680" y="525744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-lógic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579680" y="525744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312840" y="5634000"/>
                <a:ext cx="1266840" cy="376200"/>
                <a:chOff x="312840" y="5634000"/>
                <a:chExt cx="1266840" cy="3762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12840" y="563400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!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2840" y="563400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1579680" y="5634000"/>
                <a:ext cx="1231560" cy="376200"/>
                <a:chOff x="1579680" y="5634000"/>
                <a:chExt cx="1231560" cy="3762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579680" y="563400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eg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579680" y="563400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4" name=""/>
            <p:cNvSpPr/>
            <p:nvPr/>
          </p:nvSpPr>
          <p:spPr>
            <a:xfrm>
              <a:off x="304920" y="4495680"/>
              <a:ext cx="2514600" cy="1524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200400" y="4648320"/>
            <a:ext cx="5638680" cy="1371600"/>
            <a:chOff x="3200400" y="4648320"/>
            <a:chExt cx="5638680" cy="1371600"/>
          </a:xfrm>
        </p:grpSpPr>
        <p:sp>
          <p:nvSpPr>
            <p:cNvPr id="506" name=""/>
            <p:cNvSpPr/>
            <p:nvPr/>
          </p:nvSpPr>
          <p:spPr>
            <a:xfrm>
              <a:off x="3200400" y="4648320"/>
              <a:ext cx="5638680" cy="1371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00400" y="4648320"/>
              <a:ext cx="563868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int a=1, b=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v= ! a&lt;=b &amp;&amp; a==5 || b!=4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w= ((! a&lt;=b) &amp;&amp; a==5) || b!=4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w2= a&lt;=b &amp;&amp; a; // error a no es</a:t>
              </a:r>
              <a:r>
                <a:rPr b="0" lang="es-MX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</a:t>
              </a:r>
              <a:r>
                <a:rPr b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905120" y="1066680"/>
            <a:ext cx="1600200" cy="381240"/>
            <a:chOff x="1905120" y="1066680"/>
            <a:chExt cx="1600200" cy="381240"/>
          </a:xfrm>
        </p:grpSpPr>
        <p:sp>
          <p:nvSpPr>
            <p:cNvPr id="509" name=""/>
            <p:cNvSpPr/>
            <p:nvPr/>
          </p:nvSpPr>
          <p:spPr>
            <a:xfrm>
              <a:off x="1905120" y="1066680"/>
              <a:ext cx="16002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05120" y="1066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724280" y="1066680"/>
            <a:ext cx="2895840" cy="381240"/>
            <a:chOff x="4724280" y="1066680"/>
            <a:chExt cx="2895840" cy="381240"/>
          </a:xfrm>
        </p:grpSpPr>
        <p:sp>
          <p:nvSpPr>
            <p:cNvPr id="512" name=""/>
            <p:cNvSpPr/>
            <p:nvPr/>
          </p:nvSpPr>
          <p:spPr>
            <a:xfrm>
              <a:off x="4724280" y="1066680"/>
              <a:ext cx="289584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24280" y="106668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ios relacion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09480" y="3809880"/>
            <a:ext cx="1905120" cy="590760"/>
            <a:chOff x="609480" y="3809880"/>
            <a:chExt cx="1905120" cy="590760"/>
          </a:xfrm>
        </p:grpSpPr>
        <p:sp>
          <p:nvSpPr>
            <p:cNvPr id="515" name=""/>
            <p:cNvSpPr/>
            <p:nvPr/>
          </p:nvSpPr>
          <p:spPr>
            <a:xfrm>
              <a:off x="609480" y="3809880"/>
              <a:ext cx="1905120" cy="590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9480" y="3809880"/>
              <a:ext cx="190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ntre valores boolea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2819520" y="5257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6 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claración de un str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s= "Hola, "; // Declaración con asign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r= "esto es un string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t; // Declaración sin asignació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spliegue de un str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t); // Error t no tiene val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signación de string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t= "Chao"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catenación de string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 + r // "Hola, esto es un string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resultado de esta expresión es de tipo string.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t= s + "que tal"; // "Hola, que tal"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maño de un string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.length() // 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(s+r).length() // s.length()+r.length(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resultado de esta exprresión es de tipo i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tros (Investigar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Extracción de un carác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Extracción de subsecuenci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Comparación de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Conversión a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peraciones prohibid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Modificación de un carác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[0]= 'h'; //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.charAt(0)= 'h'; //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vanzar al siguiente caract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= s+1; // err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6. INSTRUC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04920" y="1066680"/>
            <a:ext cx="2514600" cy="1474200"/>
            <a:chOff x="304920" y="1066680"/>
            <a:chExt cx="2514600" cy="1474200"/>
          </a:xfrm>
        </p:grpSpPr>
        <p:sp>
          <p:nvSpPr>
            <p:cNvPr id="524" name=""/>
            <p:cNvSpPr/>
            <p:nvPr/>
          </p:nvSpPr>
          <p:spPr>
            <a:xfrm>
              <a:off x="304920" y="1066680"/>
              <a:ext cx="2514600" cy="1219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920" y="1066680"/>
              <a:ext cx="2514600" cy="14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Decl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6600cc"/>
                  </a:solidFill>
                  <a:latin typeface="Courier New"/>
                </a:rPr>
                <a:t>tipo variable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00cc"/>
                  </a:solidFill>
                  <a:latin typeface="Courier New"/>
                </a:rPr>
                <a:t>int a, b=1, c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00cc"/>
                  </a:solidFill>
                  <a:latin typeface="Courier New"/>
                </a:rPr>
                <a:t>boolean v,w=true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276720" y="1066680"/>
            <a:ext cx="2514600" cy="12016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1066680"/>
            <a:ext cx="25146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Asign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var = expres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= b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1066680"/>
            <a:ext cx="2514600" cy="1206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24480" y="1066680"/>
            <a:ext cx="25146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Grupo de instruc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{ inst1 inst2 ... instn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2438280"/>
            <a:ext cx="3886200" cy="23464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4920" y="2438280"/>
            <a:ext cx="38862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jecución condici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f(expresión boolean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2438280"/>
            <a:ext cx="3962160" cy="23400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76920" y="2438280"/>
            <a:ext cx="3962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iclos si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while(expresión boolean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t a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while (a&lt;=5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0880" y="5065560"/>
            <a:ext cx="8458200" cy="1136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0880" y="5065560"/>
            <a:ext cx="84582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iclo abrevi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For ( instrucción; expresión booleana; instrucció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7. CLASES Y OBJE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1 DEFINI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 : Una persona, lugar, evento o cosa sobre la cual queremos capturar inform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LASE : Un “Template” que se utiliza para definir y crear objetos (o instancias) específicos. Informalmente, diremos que una clase es una “fábrica” de obje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S E INSTANCI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6705720" cy="3233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2 CLASES Y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69608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Verdana"/>
              </a:rPr>
              <a:t>Esta presentación está basada en su mayor parte, en los apuntes de JAVA del profesor del DCC Luis Mate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3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Todos los objetos se crean con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new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1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 es el tipo del objeto cread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 es la </a:t>
            </a:r>
            <a:r>
              <a:rPr b="0" i="1" lang="es-MX" sz="1600" spc="-1" strike="noStrike">
                <a:solidFill>
                  <a:srgbClr val="000000"/>
                </a:solidFill>
                <a:latin typeface="Verdana"/>
              </a:rPr>
              <a:t>clase del objeto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. El objeto es una instancia de la clase 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La variable a1 es de tipo 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objeto posee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MX" sz="1800" spc="-1" strike="noStrike">
                <a:solidFill>
                  <a:srgbClr val="000000"/>
                </a:solidFill>
                <a:latin typeface="Verdana"/>
              </a:rPr>
              <a:t>variables de instancia o camp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 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x =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y = 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x + “ “ + a.y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); //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1 2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objeto posee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étod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(Procedimiento cuya invocación siempre va asociada a un objet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 // Variables de instancia o atribu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Méto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Set (int vx, int v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 = v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y = v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ncrementarX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mprimir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ystem.out.println ( x+ ” “ +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definición de un método tiene la siguiente sintax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tipo_retorno  nombre_método (tipo_parámetro  nombre,...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instruccion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i el método no retorna nada, se coloca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void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. En las instrucciones las variables que se accesen que no sean parámetros o variables locales del procedimiento deben ser variables de instancia del obje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a variable de tipo objeto es una referencia a un obje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8. 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DEFINICIÓN: El constructor de una clase es un método estándar para inicializar los objetos de esa clase. Se invoca automáticamente cuando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new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crea un objeto de esa cl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os constructores se declaran en el momento de definir la clas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() {  //El construc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y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Imprimir(); // 0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onstructor puede tener parámetros. En este caso, se deben colocar los argumentos respectivos al crear el obje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(int ix, intiy) {  // El construc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x = i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y = i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a = new A(1,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.Imprimir(); // 1 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= new A (); // Error, hay que colocar los argumen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e pueden colocar varios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structores. Durante la creación de un objeto, se invoca aquel que calza con los argumentos dado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() { x = 0; y = 0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(int ix, int iy) { x=ix, y=iy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(A n_objeto) { x=n_objeto.x ; y=n_objeto.y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1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1.Imprimir(); // 0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2 = new A(1,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2.Imprimir(); // 1 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3 = new A(a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3.Imprimir(); // 1 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 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MOTIVACIÓN : Los métodos y atributos (variables)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e posee un obje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finen la clase a la cual pertenece. Por ejemplo, todos los objetos de la clase A poseen los métodos Set, Inc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rementa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mprimi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las variables x e 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ede existir una clase B de objetos que po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todos los métodos y todas las variables de A, pero además po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otros métodos y/o variables que no poseen los objetos de A. En ese caso se dice que B es una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subclas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 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o que B hereda de A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objetos de la clase B también pertenecen a la clase A.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principio es que todo el código que se haya escrito para objetos de la clase A también funcionará con objetos de la clase B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772400" cy="495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848720" cy="4867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Una subclase se define media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B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extends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Variables que B agrega a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z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Métodos que B agrega a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Observar que B también posee 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ncrementarZ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z + 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bservación: Todos los objetos pertenecen a la clase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Object.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3276720" y="3962520"/>
            <a:ext cx="2057040" cy="2057400"/>
            <a:chOff x="3276720" y="3962520"/>
            <a:chExt cx="2057040" cy="2057400"/>
          </a:xfrm>
        </p:grpSpPr>
        <p:sp>
          <p:nvSpPr>
            <p:cNvPr id="563" name=""/>
            <p:cNvSpPr/>
            <p:nvPr/>
          </p:nvSpPr>
          <p:spPr>
            <a:xfrm>
              <a:off x="3910320" y="3962520"/>
              <a:ext cx="79092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43200" y="4795200"/>
              <a:ext cx="790560" cy="392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Perso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76720" y="4795200"/>
              <a:ext cx="79056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76720" y="5627880"/>
              <a:ext cx="79056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8265600">
              <a:off x="3571560" y="4563720"/>
              <a:ext cx="542880" cy="64440"/>
            </a:xfrm>
            <a:prstGeom prst="rightArrow">
              <a:avLst>
                <a:gd name="adj1" fmla="val 50000"/>
                <a:gd name="adj2" fmla="val 210615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rot="13334400">
              <a:off x="4474800" y="4549680"/>
              <a:ext cx="542880" cy="65160"/>
            </a:xfrm>
            <a:prstGeom prst="rightArrow">
              <a:avLst>
                <a:gd name="adj1" fmla="val 50000"/>
                <a:gd name="adj2" fmla="val 20828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3428640" y="5364360"/>
              <a:ext cx="504000" cy="69480"/>
            </a:xfrm>
            <a:prstGeom prst="rightArrow">
              <a:avLst>
                <a:gd name="adj1" fmla="val 50000"/>
                <a:gd name="adj2" fmla="val 18134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4956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1. ARQUITECTURA CLIENTE/SERVID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19580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90920" y="1562040"/>
          <a:ext cx="752400" cy="7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562040"/>
                    <a:ext cx="7524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514600" y="2833560"/>
            <a:ext cx="987480" cy="29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2833560"/>
            <a:ext cx="990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831840" y="1285920"/>
            <a:ext cx="102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32200" y="2598840"/>
            <a:ext cx="102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7720" y="1285920"/>
            <a:ext cx="2054160" cy="1312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usuario hace una llamada por algún requerimiento como calcular el total en el carro de compras, o validar dígito verificador u otros cam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38440" y="1503360"/>
            <a:ext cx="1614600" cy="874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a comunicación hacia el servidor se da por medio del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1908000" cy="17496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requerimiento se  procesa en el servidor  a través de alguna aplicación auxiliar , devolviendo HTML al usuario. (Genera contenidos en forma dinámica y temporal para el usuari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4120" y="1631880"/>
          <a:ext cx="895320" cy="77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1631880"/>
                    <a:ext cx="8953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3429000"/>
            <a:ext cx="84582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funcionamiento del Web está basado en el paradigma cliente/servid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 servidor almacena páginas Web en formato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TM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y los clientes las consultan. Los clientes corresponden a programas de navegación en el Web como por ejemplo Netscape, Internet Explorer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a página Web se transmite del servidor al cliente por medio de la red internet, en el momento en que el cliente la consult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1 EL CONSTRUCTOR DE UNA SUBCLAS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¡¡Los constructores no se heredan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A( int ix, int iy) {...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Class B extends A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B b = new B (1,2); // Error, ningún constructor calz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l constructor de la clase base se puede invocar con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B extend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B (int ix, iny i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 (ix,i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B (int ix, int iy, int iz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 (ix, i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iz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2 CLASES Y MÉTODOS ABSTRACTO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a clase abstracta es una clase que se introduce sólo para que se deriven nuevas clases de ella, no para que se creen objetos con su nomb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método abstracto es un método que se introduce para que sea redefinido en una clase deriva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700" spc="-1" strike="noStrike">
                <a:solidFill>
                  <a:srgbClr val="6600cc"/>
                </a:solidFill>
                <a:latin typeface="Courier New"/>
              </a:rPr>
              <a:t>abstract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class DibujaObj {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nt x, y; // La posición centr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(int ix, int iy) {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x= ix; y= 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// construc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void Move(int dx, int dy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x+= dx; y+= d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abstract void Paint(Graphics g); // Paint es abstract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LASES Y MÉTODOS ABSTRACTO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543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idea es que sólo se pueden crear objetos de clases derivadas de la clase anterior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class Line </a:t>
            </a:r>
            <a:r>
              <a:rPr b="0" lang="es-MX" sz="1700" spc="-1" strike="noStrike" u="sng">
                <a:solidFill>
                  <a:srgbClr val="6600cc"/>
                </a:solidFill>
                <a:uFillTx/>
                <a:latin typeface="Courier New"/>
              </a:rPr>
              <a:t>extends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DibujaObj { // x e y se hered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nt ix, 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(int aix, int aiy, int afx, int afy) {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super((aix+afx)/2, (aiy+afy)/2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x= aix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y= a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void Paint(Graphics g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g.DrawLine(xi,yi,x+(x-xi),y+(y-yi)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// Move se hereda de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10. ENCAPSULAMIENTO DE CLAS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FINICIÓN PREVIA : Un “paquete” es una colección de clases que se encuentran en el mismo directo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BLEMA: Desde cualquier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ase se pued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ccesar los campos de un objeto perteneciente a otra clase. Esto es una violación al principio de abstracción que dice que un tipo de datos abstracto sólo puede ser manipulado a través de las operaciones que se definen para és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jav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l definir una cla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se puede controlar la visibilidad que tendrán sus campos y métodos al exterior de la clase.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(Encapsular...)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ENCAPSULAMIENTO DE CLAS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control se efectúa de la siguiente form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sólo es visible dentro de la clase donde se def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otected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la clase en donde se define y en cualquiera de sus subclas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cualquier cl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inguna de las anterior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cualquiera de las clases pertenecientes al paquete en donde se def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2. APPLETS EN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2.1 APPLETS EN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a página Web puede contener varios medios audio/visuales: tex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imágen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ónid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ide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pplets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pplet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s un programa escrito en Java que anima una porción de la página Web. Al igual que el resto de los medio audio/visuales, el applet está almacenado en el servidor y se transmite al cliente por medio de intern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ventaja de los applets con respecto a otros medios audio/visuales es que el usuario puede interactuar con un applet, gracias a que se trata de un progra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Un applet se ejecuta completamente en el cliente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sto significa que una vez que fue transmitido, la velocidad de la interacción no depende de la velocidad y latencia de la red. Si es necesario, el applet también se puede comunicar con el servido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2.2 PORTABILIDAD DE APPL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xiste una amplia gama de plataformas con procesadores y sistemas operativos incompatibles entre sí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ava resuelve el problema de la incompatibilidad de los procesadores haciendo que los applets se almacenen en los servidores en un código intermedio independiente de la plataforma (el byte-cod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este byte-code el que se transmite hacia los client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los clientes ejecutan este código por medio de un intérpret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que sí es dependiente de la platafor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PORTABILIDAD DE APPL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multipla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315200" cy="3287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58672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Luis Mat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3. CARACTERÍSTICAS DE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5:33:12Z</dcterms:created>
  <dc:creator>Cecilia Ibarra</dc:creator>
  <dc:description/>
  <dc:language>en-US</dc:language>
  <cp:lastModifiedBy>Dii</cp:lastModifiedBy>
  <dcterms:modified xsi:type="dcterms:W3CDTF">2005-07-02T14:02:53Z</dcterms:modified>
  <cp:revision>788</cp:revision>
  <dc:subject/>
  <dc:title>GESTION DE  TECNOLOGIA E INNOVACIÓN</dc:title>
</cp:coreProperties>
</file>