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22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36.wmf" ContentType="image/x-wmf"/>
  <Override PartName="/ppt/media/image9.gif" ContentType="image/gi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660-8414-4720-A3E9-2F419B3A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6CCE-CF74-48B5-B2B5-4813E491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508-77E4-4AE6-AF35-BB909FAF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5D2-80AF-476E-8312-0CE1C8F1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35D7-019E-47F0-B8AC-8901CDAF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C99C-01A6-48E7-978C-774A88E9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B062-170C-43FB-BA5B-2A71984B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6554-8E08-420E-A9E7-DCDA5A02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B537-0B9E-456E-B098-84A5D3AE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0A18-31B1-48C9-BE16-52E4CF26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7DFA-8F58-421F-AABE-703C36C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C50-BDA1-4E3B-9B35-9E56349C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2ADC-4CE8-45D4-B6E1-16F4F0E0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8507-DFBA-4F49-A05E-4C6363A5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C818-87D8-4156-B0F3-6632C9F8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0345-1C42-4648-BC9D-1B475669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AEA2-96E4-4580-8163-6272FE94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904-F9B8-4C8D-B7E2-8C72C88C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5313-7C79-4FB3-A55B-28530EDF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E76-7BB6-4839-8F3B-9E263D82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153-1311-4075-A9DC-7A9D95E8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428-6960-485C-AEAA-9B09C6FC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4BBC-662B-40BE-B352-1DC2396E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8DE6-AA25-4FAC-BDE6-87EA3A1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987B-B2F1-4377-8909-B245E64C77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5953-7118-432B-A8BA-82BD6E7582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9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3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image" Target="../media/image35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image" Target="../media/image37.wmf"/><Relationship Id="rId18" Type="http://schemas.openxmlformats.org/officeDocument/2006/relationships/image" Target="../media/image39.wmf"/><Relationship Id="rId19" Type="http://schemas.openxmlformats.org/officeDocument/2006/relationships/image" Target="../media/image40.wmf"/><Relationship Id="rId20" Type="http://schemas.openxmlformats.org/officeDocument/2006/relationships/image" Target="../media/image39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image" Target="../media/image41.wmf"/><Relationship Id="rId24" Type="http://schemas.openxmlformats.org/officeDocument/2006/relationships/image" Target="../media/image43.wmf"/><Relationship Id="rId25" Type="http://schemas.openxmlformats.org/officeDocument/2006/relationships/image" Target="../media/image44.wmf"/><Relationship Id="rId26" Type="http://schemas.openxmlformats.org/officeDocument/2006/relationships/image" Target="../media/image43.wmf"/><Relationship Id="rId2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01960" y="188280"/>
            <a:ext cx="63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CALCULAR ÍNDICES DE GESTIÓ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2880" y="3352680"/>
            <a:ext cx="26766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5800" y="838080"/>
            <a:ext cx="2514600" cy="2219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51280" y="1916280"/>
            <a:ext cx="49878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Boundar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sirve de interfaz con otro sistema externo al ac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una interfaz de usu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1844640"/>
            <a:ext cx="515484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Contro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ejecuta lógica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aquella clase que se encarga de efectuar las transacciones y coordinaciones del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438280" cy="2149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2400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844640"/>
            <a:ext cx="50594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Entit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 representa datos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aquella clase que entrega/actualiza información del sistema y/o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362320" cy="207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2273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Estructur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42920" y="1773360"/>
            <a:ext cx="6697800" cy="4031640"/>
            <a:chOff x="1042920" y="1773360"/>
            <a:chExt cx="6697800" cy="4031640"/>
          </a:xfrm>
        </p:grpSpPr>
        <p:sp>
          <p:nvSpPr>
            <p:cNvPr id="147" name=""/>
            <p:cNvSpPr/>
            <p:nvPr/>
          </p:nvSpPr>
          <p:spPr>
            <a:xfrm flipH="1">
              <a:off x="6182640" y="2126880"/>
              <a:ext cx="311400" cy="14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56160" y="4037760"/>
              <a:ext cx="77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67560" y="5098320"/>
              <a:ext cx="7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50280" y="1773360"/>
              <a:ext cx="1090440" cy="120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Nombre de la cl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2920" y="3507480"/>
              <a:ext cx="1713240" cy="88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ariables de la clase </a:t>
              </a:r>
              <a:r>
                <a:rPr b="0" i="1" lang="es-CL" sz="1000" spc="-1" strike="noStrike">
                  <a:solidFill>
                    <a:srgbClr val="000000"/>
                  </a:solidFill>
                  <a:latin typeface="Arial"/>
                </a:rPr>
                <a:t>Datos_Proye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8440" y="4744800"/>
              <a:ext cx="1869120" cy="88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Times New Roman"/>
                </a:rPr>
                <a:t>Métodos de la clase </a:t>
              </a:r>
              <a:r>
                <a:rPr b="0" i="1" lang="es-CL" sz="1000" spc="-1" strike="noStrike">
                  <a:solidFill>
                    <a:srgbClr val="000000"/>
                  </a:solidFill>
                  <a:latin typeface="Arial"/>
                </a:rPr>
                <a:t>Datos_Proye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846600" y="2270160"/>
              <a:ext cx="2491920" cy="353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as de secu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1836720" y="0"/>
            <a:ext cx="127443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-2844720" y="0"/>
            <a:ext cx="137523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-396720" y="-316080"/>
            <a:ext cx="10945800" cy="80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540720" cy="662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87000" y="188280"/>
            <a:ext cx="73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CALIFICACIÓN OPORTUNIDA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48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-2052720" y="-387360"/>
            <a:ext cx="12385800" cy="78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872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44000" cy="80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181400" y="6672240"/>
            <a:ext cx="184320" cy="185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415080" y="309960"/>
            <a:ext cx="8295480" cy="6206400"/>
            <a:chOff x="415080" y="309960"/>
            <a:chExt cx="8295480" cy="6206400"/>
          </a:xfrm>
        </p:grpSpPr>
        <p:sp>
          <p:nvSpPr>
            <p:cNvPr id="169" name=""/>
            <p:cNvSpPr/>
            <p:nvPr/>
          </p:nvSpPr>
          <p:spPr>
            <a:xfrm>
              <a:off x="4964760" y="317160"/>
              <a:ext cx="3745800" cy="202860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35880" y="938880"/>
              <a:ext cx="234972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ágina de Respuesta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64760" y="1572480"/>
              <a:ext cx="3745800" cy="77328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4760" y="2035440"/>
              <a:ext cx="3745800" cy="31032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287680" y="1612080"/>
              <a:ext cx="29268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pliega la nuev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76840" y="1282320"/>
              <a:ext cx="297648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8038800" y="435960"/>
              <a:ext cx="590040" cy="461880"/>
              <a:chOff x="8038800" y="435960"/>
              <a:chExt cx="590040" cy="461880"/>
            </a:xfrm>
          </p:grpSpPr>
          <p:sp>
            <p:nvSpPr>
              <p:cNvPr id="179" name=""/>
              <p:cNvSpPr/>
              <p:nvPr/>
            </p:nvSpPr>
            <p:spPr>
              <a:xfrm>
                <a:off x="8235360" y="435960"/>
                <a:ext cx="393480" cy="46188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38800" y="545040"/>
                <a:ext cx="720" cy="24840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39520" y="667800"/>
                <a:ext cx="194760" cy="72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15080" y="309960"/>
              <a:ext cx="3571560" cy="204300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57480" y="931320"/>
              <a:ext cx="20232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ágina de Ingreso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5080" y="1566360"/>
              <a:ext cx="3571560" cy="78660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080" y="2028600"/>
              <a:ext cx="3571560" cy="3243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38000" y="1605600"/>
              <a:ext cx="27759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icita contenido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8960" y="1275840"/>
              <a:ext cx="297684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313440" y="429480"/>
              <a:ext cx="589680" cy="461880"/>
              <a:chOff x="3313440" y="429480"/>
              <a:chExt cx="589680" cy="461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510000" y="429480"/>
                <a:ext cx="393120" cy="46188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13440" y="537480"/>
                <a:ext cx="720" cy="24948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14160" y="661320"/>
                <a:ext cx="195480" cy="72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861440" y="3548880"/>
              <a:ext cx="3253320" cy="296712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7680" y="4170600"/>
              <a:ext cx="25491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a Foro de Discusió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61440" y="4804200"/>
              <a:ext cx="3253320" cy="1712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61440" y="6198840"/>
              <a:ext cx="3253320" cy="317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9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1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184000" y="4844880"/>
              <a:ext cx="139428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_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3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4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84000" y="5154840"/>
              <a:ext cx="21106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tulo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184000" y="5465160"/>
              <a:ext cx="2625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enido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8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9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0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84000" y="5776560"/>
              <a:ext cx="241164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ador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35640" y="4514040"/>
              <a:ext cx="2232000" cy="43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650720" y="3667680"/>
              <a:ext cx="381960" cy="462600"/>
              <a:chOff x="7650720" y="3667680"/>
              <a:chExt cx="381960" cy="462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650720" y="3667680"/>
                <a:ext cx="381960" cy="461880"/>
              </a:xfrm>
              <a:prstGeom prst="ellipse">
                <a:avLst/>
              </a:prstGeom>
              <a:solidFill>
                <a:srgbClr val="ffffcc"/>
              </a:solidFill>
              <a:ln w="720">
                <a:solidFill>
                  <a:srgbClr val="2427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50720" y="4129560"/>
                <a:ext cx="381960" cy="720"/>
              </a:xfrm>
              <a:prstGeom prst="line">
                <a:avLst/>
              </a:prstGeom>
              <a:ln w="720">
                <a:solidFill>
                  <a:srgbClr val="2427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437760" y="3628080"/>
              <a:ext cx="3002040" cy="238644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8960" y="4289040"/>
              <a:ext cx="1519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olidador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7760" y="4924080"/>
              <a:ext cx="3002040" cy="109080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7760" y="5697360"/>
              <a:ext cx="3002040" cy="317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1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2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3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59600" y="4963680"/>
              <a:ext cx="23364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 lista de discu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4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5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6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59600" y="5273640"/>
              <a:ext cx="163332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ate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85960" y="4632480"/>
              <a:ext cx="22320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963520" y="3747600"/>
              <a:ext cx="394200" cy="501120"/>
              <a:chOff x="2963520" y="3747600"/>
              <a:chExt cx="394200" cy="501120"/>
            </a:xfrm>
          </p:grpSpPr>
          <p:sp>
            <p:nvSpPr>
              <p:cNvPr id="233" name=""/>
              <p:cNvSpPr/>
              <p:nvPr/>
            </p:nvSpPr>
            <p:spPr>
              <a:xfrm>
                <a:off x="2963520" y="3786120"/>
                <a:ext cx="394200" cy="4626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119400" y="3747600"/>
                <a:ext cx="85320" cy="4356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flipV="1">
                <a:off x="3120480" y="3789720"/>
                <a:ext cx="85680" cy="4356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flipH="1">
              <a:off x="2033640" y="2372760"/>
              <a:ext cx="93240" cy="12488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034000" y="3390480"/>
              <a:ext cx="97920" cy="23076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68480" y="3377160"/>
              <a:ext cx="65520" cy="2444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55640" y="4897080"/>
              <a:ext cx="1399680" cy="662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664520" y="4857120"/>
              <a:ext cx="190800" cy="10620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653360" y="4963680"/>
              <a:ext cx="202320" cy="9252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455640" y="2365200"/>
              <a:ext cx="1941120" cy="13885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271840" y="2365560"/>
              <a:ext cx="125280" cy="2048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903600" y="610920"/>
              <a:ext cx="36720" cy="50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181400" y="6672240"/>
            <a:ext cx="184320" cy="185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-396720" y="-316080"/>
            <a:ext cx="1058544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706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36360" y="259560"/>
            <a:ext cx="60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CREAR SITIO COLABORATIV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66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2880" y="-36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DOCUMENT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RATEGIA DE LA OPOTUNIDA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396360" cy="604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36680" y="-72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DISCUSIÓ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2920" y="404640"/>
            <a:ext cx="9001080" cy="6453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9720" y="-360"/>
            <a:ext cx="51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BUSCAR CONTAC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E-STUDIES Y PROVEEDOR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756720" cy="660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47640" y="188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EDITAR RESPUEST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12200" y="300240"/>
            <a:ext cx="8292960" cy="5293440"/>
            <a:chOff x="412200" y="300240"/>
            <a:chExt cx="8292960" cy="5293440"/>
          </a:xfrm>
        </p:grpSpPr>
        <p:grpSp>
          <p:nvGrpSpPr>
            <p:cNvPr id="100" name=""/>
            <p:cNvGrpSpPr/>
            <p:nvPr/>
          </p:nvGrpSpPr>
          <p:grpSpPr>
            <a:xfrm>
              <a:off x="4204080" y="300240"/>
              <a:ext cx="537120" cy="739800"/>
              <a:chOff x="4204080" y="300240"/>
              <a:chExt cx="537120" cy="739800"/>
            </a:xfrm>
          </p:grpSpPr>
          <p:sp>
            <p:nvSpPr>
              <p:cNvPr id="101" name=""/>
              <p:cNvSpPr/>
              <p:nvPr/>
            </p:nvSpPr>
            <p:spPr>
              <a:xfrm>
                <a:off x="4355640" y="300240"/>
                <a:ext cx="244440" cy="244440"/>
              </a:xfrm>
              <a:prstGeom prst="ellipse">
                <a:avLst/>
              </a:prstGeom>
              <a:noFill/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73000" y="542520"/>
                <a:ext cx="720" cy="227880"/>
              </a:xfrm>
              <a:prstGeom prst="line">
                <a:avLst/>
              </a:prstGeom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78960" y="606960"/>
                <a:ext cx="387720" cy="720"/>
              </a:xfrm>
              <a:prstGeom prst="line">
                <a:avLst/>
              </a:prstGeom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04080" y="770760"/>
                <a:ext cx="537120" cy="2692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32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652120" y="1239480"/>
              <a:ext cx="330264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Jefe de PRoyecto, Calificador, Knowledge Broke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05640" y="1442880"/>
              <a:ext cx="26650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y/o miembro del equipo : &lt;Actor Name&gt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3360" y="1845720"/>
              <a:ext cx="720" cy="3747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01360" y="2336040"/>
              <a:ext cx="128880" cy="57816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01360" y="4088160"/>
              <a:ext cx="128880" cy="27864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2400" y="1101600"/>
              <a:ext cx="1472760" cy="53820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43440" y="1144800"/>
              <a:ext cx="8838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plicaci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76520" y="1845720"/>
              <a:ext cx="720" cy="3747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04160" y="2336040"/>
              <a:ext cx="129240" cy="27972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04160" y="4088160"/>
              <a:ext cx="129240" cy="57708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47520" y="2333520"/>
              <a:ext cx="3349080" cy="720"/>
            </a:xfrm>
            <a:prstGeom prst="line">
              <a:avLst/>
            </a:prstGeom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718040" y="233352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718040" y="225936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1440" y="2000880"/>
              <a:ext cx="28238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icita acceso a las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552920" y="4085640"/>
              <a:ext cx="3343680" cy="1080"/>
            </a:xfrm>
            <a:prstGeom prst="line">
              <a:avLst/>
            </a:prstGeom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408564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552920" y="4010400"/>
              <a:ext cx="178560" cy="7488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14240" y="3751920"/>
              <a:ext cx="19296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pliega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200" y="2333520"/>
              <a:ext cx="2597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toda actividad del proceso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200" y="2582640"/>
              <a:ext cx="2543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alquier miembro del equip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2200" y="2831040"/>
              <a:ext cx="29538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ede acceder al contenido de la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200" y="3080160"/>
              <a:ext cx="10670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cusione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200" y="4165560"/>
              <a:ext cx="222048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 aplicación despliega e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200" y="4399560"/>
              <a:ext cx="247896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enido de las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47640" y="6240240"/>
            <a:ext cx="5578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IGURA VI.20- ESCENARIO DEL CASO DE USO “ACCESO A LAS DISCUSIONES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42920" y="227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INTERME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Estereotipos Patrón MVC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(Model-View-Contro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Arquitectura de 3 c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Gentileza: Pablo Rom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1520" y="55641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03:34:43Z</dcterms:created>
  <dc:creator>DIPE</dc:creator>
  <dc:description/>
  <dc:language>en-US</dc:language>
  <cp:lastModifiedBy>DIPE</cp:lastModifiedBy>
  <dcterms:modified xsi:type="dcterms:W3CDTF">2005-06-04T03:40:03Z</dcterms:modified>
  <cp:revision>4</cp:revision>
  <dc:subject/>
  <dc:title>Diapositiva 1</dc:title>
</cp:coreProperties>
</file>