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22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9.gif" ContentType="image/gi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2C2-72AE-4B3D-AAF5-32345A8C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278-709C-43DD-BD8D-7609BA97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C41-0350-4B6F-BA19-5D5AFAA9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E25-D0C7-45D4-B47D-DF3C69A6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F17-672C-443A-86D4-F4D77903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E5E-66C4-46DF-9CE4-0307F565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956-16C3-41BB-BCA4-4C8581E4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207-F8B4-43E8-8E70-DFB39F4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3226-81BA-43F9-91ED-3A15E5D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C387-6E1F-4E50-8069-E954BC46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6326-F6ED-42AC-AFDA-5E6F2A7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D5C-A720-465C-A6DF-B16D91A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7418-8AC4-4457-9898-E7C7BA7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BBF1-4FA8-4C08-A73A-2D6DB97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CC6-F285-402A-939D-498AE0F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101-AC8B-4A59-A0C2-7E7DF4C6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C56-8BFE-4B40-BE0A-7E0D0824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85C-9E41-4C40-B8D8-6F8DAC9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368-9432-4B5D-BEB5-250898A1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2DD-398D-49C9-B98B-1B1C421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ACE-4A54-4A96-8B65-7BE583C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BF6-E074-4458-A4B7-3A1D191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AC2-6986-46DB-88F9-D9F001B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4D1-DB1E-4D51-879D-98BBE1F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2A0-402A-4926-B76D-8D7B9F078E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613-65AA-4F0F-B7A6-436A8A4421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9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3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5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image" Target="../media/image37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39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1.wmf"/><Relationship Id="rId24" Type="http://schemas.openxmlformats.org/officeDocument/2006/relationships/image" Target="../media/image43.wmf"/><Relationship Id="rId25" Type="http://schemas.openxmlformats.org/officeDocument/2006/relationships/image" Target="../media/image44.wmf"/><Relationship Id="rId26" Type="http://schemas.openxmlformats.org/officeDocument/2006/relationships/image" Target="../media/image43.wmf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1960" y="18828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ALCULAR ÍNDICES DE GEST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880" y="3352680"/>
            <a:ext cx="26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5800" y="838080"/>
            <a:ext cx="2514600" cy="2219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1916280"/>
            <a:ext cx="49878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Boundar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sirve de interfaz con otro sistema externo al a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una interfaz de usu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1844640"/>
            <a:ext cx="515484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Contr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ejecuta lógica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se encarga de efectuar las transacciones y coordinaciones del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438280" cy="214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240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844640"/>
            <a:ext cx="50594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Entit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 representa datos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entrega/actualiza información del sistema y/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362320" cy="207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227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Estructur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42920" y="1773360"/>
            <a:ext cx="6697800" cy="4031640"/>
            <a:chOff x="1042920" y="1773360"/>
            <a:chExt cx="6697800" cy="4031640"/>
          </a:xfrm>
        </p:grpSpPr>
        <p:sp>
          <p:nvSpPr>
            <p:cNvPr id="147" name=""/>
            <p:cNvSpPr/>
            <p:nvPr/>
          </p:nvSpPr>
          <p:spPr>
            <a:xfrm flipH="1">
              <a:off x="6182640" y="2126880"/>
              <a:ext cx="311400" cy="1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6160" y="4037760"/>
              <a:ext cx="77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7560" y="5098320"/>
              <a:ext cx="7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0280" y="1773360"/>
              <a:ext cx="1090440" cy="120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mbre de la cl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2920" y="3507480"/>
              <a:ext cx="171324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ariable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8440" y="4744800"/>
              <a:ext cx="186912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Método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846600" y="2270160"/>
              <a:ext cx="2491920" cy="353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836720" y="0"/>
            <a:ext cx="12744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2844720" y="0"/>
            <a:ext cx="13752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1094580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540720" cy="662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87000" y="188280"/>
            <a:ext cx="73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CALIFICACIÓN OPOR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48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2052720" y="-387360"/>
            <a:ext cx="12385800" cy="78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8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415080" y="309960"/>
            <a:ext cx="8295480" cy="6206400"/>
            <a:chOff x="415080" y="309960"/>
            <a:chExt cx="8295480" cy="6206400"/>
          </a:xfrm>
        </p:grpSpPr>
        <p:sp>
          <p:nvSpPr>
            <p:cNvPr id="169" name=""/>
            <p:cNvSpPr/>
            <p:nvPr/>
          </p:nvSpPr>
          <p:spPr>
            <a:xfrm>
              <a:off x="4964760" y="317160"/>
              <a:ext cx="3745800" cy="20286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5880" y="938880"/>
              <a:ext cx="23497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Respuesta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4760" y="1572480"/>
              <a:ext cx="3745800" cy="77328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4760" y="2035440"/>
              <a:ext cx="3745800" cy="31032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87680" y="1612080"/>
              <a:ext cx="29268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pliega la nuev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76840" y="1282320"/>
              <a:ext cx="29764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038800" y="435960"/>
              <a:ext cx="590040" cy="461880"/>
              <a:chOff x="8038800" y="435960"/>
              <a:chExt cx="590040" cy="461880"/>
            </a:xfrm>
          </p:grpSpPr>
          <p:sp>
            <p:nvSpPr>
              <p:cNvPr id="179" name=""/>
              <p:cNvSpPr/>
              <p:nvPr/>
            </p:nvSpPr>
            <p:spPr>
              <a:xfrm>
                <a:off x="8235360" y="435960"/>
                <a:ext cx="39348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8800" y="545040"/>
                <a:ext cx="720" cy="24840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9520" y="667800"/>
                <a:ext cx="19476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15080" y="309960"/>
              <a:ext cx="3571560" cy="20430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7480" y="931320"/>
              <a:ext cx="20232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Ingreso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080" y="1566360"/>
              <a:ext cx="3571560" cy="7866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080" y="2028600"/>
              <a:ext cx="3571560" cy="3243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000" y="1605600"/>
              <a:ext cx="27759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icita contenido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960" y="1275840"/>
              <a:ext cx="29768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313440" y="429480"/>
              <a:ext cx="589680" cy="461880"/>
              <a:chOff x="3313440" y="429480"/>
              <a:chExt cx="589680" cy="461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510000" y="429480"/>
                <a:ext cx="39312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13440" y="537480"/>
                <a:ext cx="720" cy="24948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14160" y="661320"/>
                <a:ext cx="19548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861440" y="3548880"/>
              <a:ext cx="3253320" cy="296712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7680" y="4170600"/>
              <a:ext cx="25491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a Foro de Discusió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1440" y="4804200"/>
              <a:ext cx="3253320" cy="1712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440" y="6198840"/>
              <a:ext cx="325332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9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1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84000" y="4844880"/>
              <a:ext cx="13942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_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84000" y="5154840"/>
              <a:ext cx="2110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ul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184000" y="5465160"/>
              <a:ext cx="2625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nid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8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9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0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84000" y="5776560"/>
              <a:ext cx="24116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dor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35640" y="4514040"/>
              <a:ext cx="2232000" cy="4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650720" y="3667680"/>
              <a:ext cx="381960" cy="462600"/>
              <a:chOff x="7650720" y="3667680"/>
              <a:chExt cx="381960" cy="462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650720" y="3667680"/>
                <a:ext cx="381960" cy="461880"/>
              </a:xfrm>
              <a:prstGeom prst="ellipse">
                <a:avLst/>
              </a:prstGeom>
              <a:solidFill>
                <a:srgbClr val="ffffcc"/>
              </a:solidFill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50720" y="4129560"/>
                <a:ext cx="381960" cy="720"/>
              </a:xfrm>
              <a:prstGeom prst="line">
                <a:avLst/>
              </a:prstGeom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37760" y="3628080"/>
              <a:ext cx="3002040" cy="238644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4289040"/>
              <a:ext cx="1519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olidador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7760" y="4924080"/>
              <a:ext cx="3002040" cy="10908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7760" y="5697360"/>
              <a:ext cx="300204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1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2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3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59600" y="4963680"/>
              <a:ext cx="23364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lista de discu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4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5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6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9600" y="5273640"/>
              <a:ext cx="16333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te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5960" y="4632480"/>
              <a:ext cx="22320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963520" y="3747600"/>
              <a:ext cx="394200" cy="501120"/>
              <a:chOff x="2963520" y="3747600"/>
              <a:chExt cx="394200" cy="501120"/>
            </a:xfrm>
          </p:grpSpPr>
          <p:sp>
            <p:nvSpPr>
              <p:cNvPr id="233" name=""/>
              <p:cNvSpPr/>
              <p:nvPr/>
            </p:nvSpPr>
            <p:spPr>
              <a:xfrm>
                <a:off x="2963520" y="3786120"/>
                <a:ext cx="394200" cy="4626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119400" y="3747600"/>
                <a:ext cx="8532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3120480" y="3789720"/>
                <a:ext cx="8568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H="1">
              <a:off x="2033640" y="2372760"/>
              <a:ext cx="93240" cy="1248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034000" y="3390480"/>
              <a:ext cx="97920" cy="23076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68480" y="3377160"/>
              <a:ext cx="65520" cy="2444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55640" y="4897080"/>
              <a:ext cx="1399680" cy="66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664520" y="4857120"/>
              <a:ext cx="190800" cy="10620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653360" y="4963680"/>
              <a:ext cx="202320" cy="9252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55640" y="2365200"/>
              <a:ext cx="1941120" cy="13885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71840" y="2365560"/>
              <a:ext cx="125280" cy="2048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903600" y="610920"/>
              <a:ext cx="36720" cy="50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-396720" y="-316080"/>
            <a:ext cx="1058544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706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6360" y="259560"/>
            <a:ext cx="60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REAR SITIO COLABORATIV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2880" y="-3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OCUMEN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TEGIA DE LA OPO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396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6680" y="-72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ISCUS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2920" y="404640"/>
            <a:ext cx="9001080" cy="645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9720" y="-36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BUSCAR CONTA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-STUDIES Y PROVEEDOR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756720" cy="66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1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EDITAR RESPUEST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2200" y="300240"/>
            <a:ext cx="8292960" cy="5293440"/>
            <a:chOff x="412200" y="300240"/>
            <a:chExt cx="8292960" cy="5293440"/>
          </a:xfrm>
        </p:grpSpPr>
        <p:grpSp>
          <p:nvGrpSpPr>
            <p:cNvPr id="100" name=""/>
            <p:cNvGrpSpPr/>
            <p:nvPr/>
          </p:nvGrpSpPr>
          <p:grpSpPr>
            <a:xfrm>
              <a:off x="4204080" y="300240"/>
              <a:ext cx="537120" cy="739800"/>
              <a:chOff x="4204080" y="300240"/>
              <a:chExt cx="537120" cy="739800"/>
            </a:xfrm>
          </p:grpSpPr>
          <p:sp>
            <p:nvSpPr>
              <p:cNvPr id="101" name=""/>
              <p:cNvSpPr/>
              <p:nvPr/>
            </p:nvSpPr>
            <p:spPr>
              <a:xfrm>
                <a:off x="4355640" y="300240"/>
                <a:ext cx="244440" cy="244440"/>
              </a:xfrm>
              <a:prstGeom prst="ellipse">
                <a:avLst/>
              </a:prstGeom>
              <a:noFill/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3000" y="542520"/>
                <a:ext cx="720" cy="22788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8960" y="606960"/>
                <a:ext cx="387720" cy="72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04080" y="770760"/>
                <a:ext cx="537120" cy="2692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3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652120" y="1239480"/>
              <a:ext cx="33026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Jefe de PRoyecto, Calificador, Knowledge Brok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5640" y="1442880"/>
              <a:ext cx="266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y/o miembro del equipo : &lt;Actor Name&gt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336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01360" y="2336040"/>
              <a:ext cx="128880" cy="57816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1360" y="4088160"/>
              <a:ext cx="128880" cy="27864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2400" y="1101600"/>
              <a:ext cx="1472760" cy="53820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3440" y="1144800"/>
              <a:ext cx="88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plic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7652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4160" y="2336040"/>
              <a:ext cx="129240" cy="27972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4160" y="4088160"/>
              <a:ext cx="129240" cy="5770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7520" y="2333520"/>
              <a:ext cx="3349080" cy="72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18040" y="233352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718040" y="225936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1440" y="2000880"/>
              <a:ext cx="28238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icita acceso a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52920" y="4085640"/>
              <a:ext cx="3343680" cy="108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408564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52920" y="4010400"/>
              <a:ext cx="178560" cy="7488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4240" y="3751920"/>
              <a:ext cx="19296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pliega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200" y="2333520"/>
              <a:ext cx="2597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toda actividad del proceso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200" y="2582640"/>
              <a:ext cx="2543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alquier miembro del equip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200" y="2831040"/>
              <a:ext cx="295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ede acceder al contenido de la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200" y="3080160"/>
              <a:ext cx="1067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cusione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200" y="4165560"/>
              <a:ext cx="2220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aplicación despliega e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200" y="4399560"/>
              <a:ext cx="247896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ido de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7640" y="6240240"/>
            <a:ext cx="5578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URA VI.20- ESCENARIO DEL CASO DE USO “ACCESO A LAS DISCUSIONES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INTER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Estereotipos Patrón MVC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(Model-View-Contro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Arquitectura de 3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entileza: Pablo Rom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1520" y="55641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3:34:43Z</dcterms:created>
  <dc:creator>DIPE</dc:creator>
  <dc:description/>
  <dc:language>en-US</dc:language>
  <cp:lastModifiedBy>DIPE</cp:lastModifiedBy>
  <dcterms:modified xsi:type="dcterms:W3CDTF">2005-06-04T03:40:03Z</dcterms:modified>
  <cp:revision>4</cp:revision>
  <dc:subject/>
  <dc:title>Diapositiva 1</dc:title>
</cp:coreProperties>
</file>