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9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13.png" ContentType="image/png"/>
  <Override PartName="/ppt/media/image8.wmf" ContentType="image/x-wmf"/>
  <Override PartName="/ppt/media/image38.wmf" ContentType="image/x-wmf"/>
  <Override PartName="/ppt/media/image40.wmf" ContentType="image/x-wmf"/>
  <Override PartName="/ppt/media/image22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42.wmf" ContentType="image/x-wmf"/>
  <Override PartName="/ppt/media/image31.wmf" ContentType="image/x-wmf"/>
  <Override PartName="/ppt/media/image11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37.wmf" ContentType="image/x-wmf"/>
  <Override PartName="/ppt/media/image7.wmf" ContentType="image/x-wmf"/>
  <Override PartName="/ppt/media/image12.png" ContentType="image/png"/>
  <Override PartName="/ppt/media/image6.wmf" ContentType="image/x-wmf"/>
  <Override PartName="/ppt/media/image36.wmf" ContentType="image/x-wmf"/>
  <Override PartName="/ppt/media/image9.gif" ContentType="image/gi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228F-540C-48E1-989C-8EE680EF7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DA2F-5366-4593-9944-7063B10CC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99F6-AE09-4344-AB27-F9B81E9BA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3E16-FC21-4D3B-84A3-3A153DCD3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F101E-2FC6-4A1E-9AAC-6F444615B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02ACC-198D-43F3-8C42-60B35B51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A1A0E-8ED6-40E5-AAE8-9D95C3563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13A43-BAC2-413A-BD0E-F268E610B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9B7C4-93EA-4E27-BA6F-D93F89024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CB420-7F92-47B5-9F59-6143F7F9E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34017-FF58-4795-9863-96E32F8D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FF4F-2F3A-4154-9AAF-B26B31ADD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C0182-5AA5-4D6F-96CE-05621A95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038F0-C5A4-4D12-B32D-866B8F67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B2A2F-B7EE-426D-914A-D3FD62D94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10626-D320-410F-ABD6-CA91B6E9F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73296-0BDF-4FEB-A37A-E60FC695D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6939-BB21-47CD-8B83-EE1EAF852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B224-C9CD-460E-A7B0-7CABA32DE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00CB-F924-4C22-9EED-63ABDCB98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AA30-AD7D-4A78-A36D-20BC91E82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AD97-EDD3-485A-8140-3B12696A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4866-74BC-4995-B962-4E5B8D5C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9BBA-FDEE-4D9E-9FDA-8F63D2F4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74AE5-AA2E-4117-A781-5F876AC0EA0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3EC0D-8DD9-423D-B747-8498E0D0A96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29.wmf"/><Relationship Id="rId6" Type="http://schemas.openxmlformats.org/officeDocument/2006/relationships/image" Target="../media/image31.wmf"/><Relationship Id="rId7" Type="http://schemas.openxmlformats.org/officeDocument/2006/relationships/image" Target="../media/image32.wmf"/><Relationship Id="rId8" Type="http://schemas.openxmlformats.org/officeDocument/2006/relationships/image" Target="../media/image31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image" Target="../media/image33.wmf"/><Relationship Id="rId12" Type="http://schemas.openxmlformats.org/officeDocument/2006/relationships/image" Target="../media/image35.wmf"/><Relationship Id="rId13" Type="http://schemas.openxmlformats.org/officeDocument/2006/relationships/image" Target="../media/image36.wmf"/><Relationship Id="rId14" Type="http://schemas.openxmlformats.org/officeDocument/2006/relationships/image" Target="../media/image35.wmf"/><Relationship Id="rId15" Type="http://schemas.openxmlformats.org/officeDocument/2006/relationships/image" Target="../media/image37.wmf"/><Relationship Id="rId16" Type="http://schemas.openxmlformats.org/officeDocument/2006/relationships/image" Target="../media/image38.wmf"/><Relationship Id="rId17" Type="http://schemas.openxmlformats.org/officeDocument/2006/relationships/image" Target="../media/image37.wmf"/><Relationship Id="rId18" Type="http://schemas.openxmlformats.org/officeDocument/2006/relationships/image" Target="../media/image39.wmf"/><Relationship Id="rId19" Type="http://schemas.openxmlformats.org/officeDocument/2006/relationships/image" Target="../media/image40.wmf"/><Relationship Id="rId20" Type="http://schemas.openxmlformats.org/officeDocument/2006/relationships/image" Target="../media/image39.wmf"/><Relationship Id="rId21" Type="http://schemas.openxmlformats.org/officeDocument/2006/relationships/image" Target="../media/image41.wmf"/><Relationship Id="rId22" Type="http://schemas.openxmlformats.org/officeDocument/2006/relationships/image" Target="../media/image42.wmf"/><Relationship Id="rId23" Type="http://schemas.openxmlformats.org/officeDocument/2006/relationships/image" Target="../media/image41.wmf"/><Relationship Id="rId24" Type="http://schemas.openxmlformats.org/officeDocument/2006/relationships/image" Target="../media/image43.wmf"/><Relationship Id="rId25" Type="http://schemas.openxmlformats.org/officeDocument/2006/relationships/image" Target="../media/image44.wmf"/><Relationship Id="rId26" Type="http://schemas.openxmlformats.org/officeDocument/2006/relationships/image" Target="../media/image43.wmf"/><Relationship Id="rId27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wmf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7002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001960" y="188280"/>
            <a:ext cx="636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SS DEL CASO DE USO “CALCULAR ÍNDICES DE GESTIÓN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stereotipos de Clas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42880" y="3352680"/>
            <a:ext cx="2676600" cy="27432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685800" y="838080"/>
            <a:ext cx="2514600" cy="22194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851280" y="1916280"/>
            <a:ext cx="4987800" cy="35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lase Boundary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: Es una clase que sirve de interfaz con otro sistema externo al act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el caso de un e-business corresponde a una interfaz de usuar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stereotipos de Clas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3635280" y="1844640"/>
            <a:ext cx="5154840" cy="38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lase Control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: Es una clase que ejecuta lógica del negoc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el caso de un e-business corresponde a aquella clase que se encarga de efectuar las transacciones y coordinaciones del caso de u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85800" y="914400"/>
            <a:ext cx="2438280" cy="21495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685800" y="3352680"/>
            <a:ext cx="24004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stereotipos de Clas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3708360" y="1844640"/>
            <a:ext cx="5059440" cy="37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lase Entity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: Es una clase que  representa datos del negoc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el caso de un e-business corresponde a aquella clase que entrega/actualiza información del sistema y/o Cli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85800" y="990720"/>
            <a:ext cx="2362320" cy="2079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685800" y="3429000"/>
            <a:ext cx="22734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jemplo Estructura Clas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42920" y="1773360"/>
            <a:ext cx="6697800" cy="4031640"/>
            <a:chOff x="1042920" y="1773360"/>
            <a:chExt cx="6697800" cy="4031640"/>
          </a:xfrm>
        </p:grpSpPr>
        <p:sp>
          <p:nvSpPr>
            <p:cNvPr id="147" name=""/>
            <p:cNvSpPr/>
            <p:nvPr/>
          </p:nvSpPr>
          <p:spPr>
            <a:xfrm flipH="1">
              <a:off x="6182640" y="2126880"/>
              <a:ext cx="311400" cy="14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756160" y="4037760"/>
              <a:ext cx="77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067560" y="5098320"/>
              <a:ext cx="77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650280" y="1773360"/>
              <a:ext cx="1090440" cy="1203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Nombre de la cla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42920" y="3507480"/>
              <a:ext cx="1713240" cy="88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Variables de la clase </a:t>
              </a:r>
              <a:r>
                <a:rPr b="0" i="1" lang="es-CL" sz="1000" spc="-1" strike="noStrike">
                  <a:solidFill>
                    <a:srgbClr val="000000"/>
                  </a:solidFill>
                  <a:latin typeface="Arial"/>
                </a:rPr>
                <a:t>Datos_Proyect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198440" y="4744800"/>
              <a:ext cx="1869120" cy="88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Times New Roman"/>
                </a:rPr>
                <a:t>Métodos de la clase </a:t>
              </a:r>
              <a:r>
                <a:rPr b="0" i="1" lang="es-CL" sz="1000" spc="-1" strike="noStrike">
                  <a:solidFill>
                    <a:srgbClr val="000000"/>
                  </a:solidFill>
                  <a:latin typeface="Arial"/>
                </a:rPr>
                <a:t>Datos_Proyect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3" name="" descr=""/>
            <p:cNvPicPr/>
            <p:nvPr/>
          </p:nvPicPr>
          <p:blipFill>
            <a:blip r:embed="rId2"/>
            <a:stretch/>
          </p:blipFill>
          <p:spPr>
            <a:xfrm>
              <a:off x="3846600" y="2270160"/>
              <a:ext cx="2491920" cy="3534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iagramas de secuenci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-1836720" y="0"/>
            <a:ext cx="12744360" cy="75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-2844720" y="0"/>
            <a:ext cx="13752360" cy="73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964720" cy="60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-396720" y="-316080"/>
            <a:ext cx="10945800" cy="806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476280"/>
            <a:ext cx="9540720" cy="66261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287000" y="188280"/>
            <a:ext cx="73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SS DEL CASO DE USO “INGRESAR CALIFICACIÓN OPORTUNIDAD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74872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-2052720" y="-387360"/>
            <a:ext cx="12385800" cy="78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0" y="-152280"/>
            <a:ext cx="914400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88720" cy="82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96472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44000" cy="80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181400" y="6672240"/>
            <a:ext cx="184320" cy="185760"/>
          </a:xfrm>
          <a:prstGeom prst="rect">
            <a:avLst/>
          </a:prstGeom>
          <a:ln w="0">
            <a:noFill/>
          </a:ln>
        </p:spPr>
      </p:pic>
      <p:grpSp>
        <p:nvGrpSpPr>
          <p:cNvPr id="168" name=""/>
          <p:cNvGrpSpPr/>
          <p:nvPr/>
        </p:nvGrpSpPr>
        <p:grpSpPr>
          <a:xfrm>
            <a:off x="415080" y="309960"/>
            <a:ext cx="8295480" cy="6206400"/>
            <a:chOff x="415080" y="309960"/>
            <a:chExt cx="8295480" cy="6206400"/>
          </a:xfrm>
        </p:grpSpPr>
        <p:sp>
          <p:nvSpPr>
            <p:cNvPr id="169" name=""/>
            <p:cNvSpPr/>
            <p:nvPr/>
          </p:nvSpPr>
          <p:spPr>
            <a:xfrm>
              <a:off x="4964760" y="317160"/>
              <a:ext cx="3745800" cy="2028600"/>
            </a:xfrm>
            <a:prstGeom prst="rect">
              <a:avLst/>
            </a:prstGeom>
            <a:solidFill>
              <a:srgbClr val="ffffcc"/>
            </a:solidFill>
            <a:ln w="39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735880" y="938880"/>
              <a:ext cx="2349720" cy="57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ágina de Respuesta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64760" y="1572480"/>
              <a:ext cx="3745800" cy="773280"/>
            </a:xfrm>
            <a:prstGeom prst="rect">
              <a:avLst/>
            </a:prstGeom>
            <a:noFill/>
            <a:ln w="39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64760" y="2035440"/>
              <a:ext cx="3745800" cy="310320"/>
            </a:xfrm>
            <a:prstGeom prst="rect">
              <a:avLst/>
            </a:prstGeom>
            <a:noFill/>
            <a:ln w="39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3" name="" descr=""/>
            <p:cNvPicPr/>
            <p:nvPr/>
          </p:nvPicPr>
          <p:blipFill>
            <a:blip r:embed="rId3"/>
            <a:stretch/>
          </p:blipFill>
          <p:spPr>
            <a:xfrm>
              <a:off x="5014800" y="1612080"/>
              <a:ext cx="272520" cy="30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4"/>
            <a:stretch/>
          </p:blipFill>
          <p:spPr>
            <a:xfrm>
              <a:off x="5014800" y="1612080"/>
              <a:ext cx="272520" cy="30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5"/>
            <a:stretch/>
          </p:blipFill>
          <p:spPr>
            <a:xfrm>
              <a:off x="5014800" y="1612080"/>
              <a:ext cx="272520" cy="30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5287680" y="1612080"/>
              <a:ext cx="2926800" cy="57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spliega la nueva discus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676840" y="1282320"/>
              <a:ext cx="2976480" cy="57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from Business Object Model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8038800" y="435960"/>
              <a:ext cx="590040" cy="461880"/>
              <a:chOff x="8038800" y="435960"/>
              <a:chExt cx="590040" cy="461880"/>
            </a:xfrm>
          </p:grpSpPr>
          <p:sp>
            <p:nvSpPr>
              <p:cNvPr id="179" name=""/>
              <p:cNvSpPr/>
              <p:nvPr/>
            </p:nvSpPr>
            <p:spPr>
              <a:xfrm>
                <a:off x="8235360" y="435960"/>
                <a:ext cx="393480" cy="461880"/>
              </a:xfrm>
              <a:prstGeom prst="ellipse">
                <a:avLst/>
              </a:prstGeom>
              <a:solidFill>
                <a:srgbClr val="ffffcc"/>
              </a:solidFill>
              <a:ln w="0">
                <a:solidFill>
                  <a:srgbClr val="1f1a1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8038800" y="545040"/>
                <a:ext cx="720" cy="248400"/>
              </a:xfrm>
              <a:prstGeom prst="line">
                <a:avLst/>
              </a:prstGeom>
              <a:ln w="0">
                <a:solidFill>
                  <a:srgbClr val="1f1a1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039520" y="667800"/>
                <a:ext cx="194760" cy="720"/>
              </a:xfrm>
              <a:prstGeom prst="line">
                <a:avLst/>
              </a:prstGeom>
              <a:ln w="0">
                <a:solidFill>
                  <a:srgbClr val="1f1a1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415080" y="309960"/>
              <a:ext cx="3571560" cy="2043000"/>
            </a:xfrm>
            <a:prstGeom prst="rect">
              <a:avLst/>
            </a:prstGeom>
            <a:solidFill>
              <a:srgbClr val="ffffcc"/>
            </a:solidFill>
            <a:ln w="39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257480" y="931320"/>
              <a:ext cx="2023200" cy="57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ágina de Ingreso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15080" y="1566360"/>
              <a:ext cx="3571560" cy="786600"/>
            </a:xfrm>
            <a:prstGeom prst="rect">
              <a:avLst/>
            </a:prstGeom>
            <a:noFill/>
            <a:ln w="39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15080" y="2028600"/>
              <a:ext cx="3571560" cy="324360"/>
            </a:xfrm>
            <a:prstGeom prst="rect">
              <a:avLst/>
            </a:prstGeom>
            <a:noFill/>
            <a:ln w="39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6" name="" descr=""/>
            <p:cNvPicPr/>
            <p:nvPr/>
          </p:nvPicPr>
          <p:blipFill>
            <a:blip r:embed="rId6"/>
            <a:stretch/>
          </p:blipFill>
          <p:spPr>
            <a:xfrm>
              <a:off x="464760" y="1605600"/>
              <a:ext cx="272880" cy="30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" descr=""/>
            <p:cNvPicPr/>
            <p:nvPr/>
          </p:nvPicPr>
          <p:blipFill>
            <a:blip r:embed="rId7"/>
            <a:stretch/>
          </p:blipFill>
          <p:spPr>
            <a:xfrm>
              <a:off x="464760" y="1605600"/>
              <a:ext cx="272880" cy="30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8"/>
            <a:stretch/>
          </p:blipFill>
          <p:spPr>
            <a:xfrm>
              <a:off x="464760" y="1605600"/>
              <a:ext cx="272880" cy="30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738000" y="1605600"/>
              <a:ext cx="2775960" cy="57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olicita contenido discus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038960" y="1275840"/>
              <a:ext cx="2976840" cy="57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from Business Object Model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3313440" y="429480"/>
              <a:ext cx="589680" cy="461880"/>
              <a:chOff x="3313440" y="429480"/>
              <a:chExt cx="589680" cy="461880"/>
            </a:xfrm>
          </p:grpSpPr>
          <p:sp>
            <p:nvSpPr>
              <p:cNvPr id="192" name=""/>
              <p:cNvSpPr/>
              <p:nvPr/>
            </p:nvSpPr>
            <p:spPr>
              <a:xfrm>
                <a:off x="3510000" y="429480"/>
                <a:ext cx="393120" cy="461880"/>
              </a:xfrm>
              <a:prstGeom prst="ellipse">
                <a:avLst/>
              </a:prstGeom>
              <a:solidFill>
                <a:srgbClr val="ffffcc"/>
              </a:solidFill>
              <a:ln w="0">
                <a:solidFill>
                  <a:srgbClr val="1f1a1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313440" y="537480"/>
                <a:ext cx="720" cy="249480"/>
              </a:xfrm>
              <a:prstGeom prst="line">
                <a:avLst/>
              </a:prstGeom>
              <a:ln w="0">
                <a:solidFill>
                  <a:srgbClr val="1f1a1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314160" y="661320"/>
                <a:ext cx="195480" cy="720"/>
              </a:xfrm>
              <a:prstGeom prst="line">
                <a:avLst/>
              </a:prstGeom>
              <a:ln w="0">
                <a:solidFill>
                  <a:srgbClr val="1f1a1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4861440" y="3548880"/>
              <a:ext cx="3253320" cy="2967120"/>
            </a:xfrm>
            <a:prstGeom prst="rect">
              <a:avLst/>
            </a:prstGeom>
            <a:solidFill>
              <a:srgbClr val="ffffcc"/>
            </a:solidFill>
            <a:ln w="39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287680" y="4170600"/>
              <a:ext cx="2549160" cy="57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ista Foro de Discusió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861440" y="4804200"/>
              <a:ext cx="3253320" cy="1712160"/>
            </a:xfrm>
            <a:prstGeom prst="rect">
              <a:avLst/>
            </a:prstGeom>
            <a:noFill/>
            <a:ln w="39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861440" y="6198840"/>
              <a:ext cx="3253320" cy="317160"/>
            </a:xfrm>
            <a:prstGeom prst="rect">
              <a:avLst/>
            </a:prstGeom>
            <a:noFill/>
            <a:ln w="39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9" name="" descr=""/>
            <p:cNvPicPr/>
            <p:nvPr/>
          </p:nvPicPr>
          <p:blipFill>
            <a:blip r:embed="rId9"/>
            <a:stretch/>
          </p:blipFill>
          <p:spPr>
            <a:xfrm>
              <a:off x="4910400" y="4844880"/>
              <a:ext cx="273600" cy="30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10"/>
            <a:stretch/>
          </p:blipFill>
          <p:spPr>
            <a:xfrm>
              <a:off x="4910400" y="4844880"/>
              <a:ext cx="273600" cy="30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11"/>
            <a:stretch/>
          </p:blipFill>
          <p:spPr>
            <a:xfrm>
              <a:off x="4910400" y="4844880"/>
              <a:ext cx="273600" cy="30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5184000" y="4844880"/>
              <a:ext cx="1394280" cy="57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D_ Discus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3" name="" descr=""/>
            <p:cNvPicPr/>
            <p:nvPr/>
          </p:nvPicPr>
          <p:blipFill>
            <a:blip r:embed="rId12"/>
            <a:stretch/>
          </p:blipFill>
          <p:spPr>
            <a:xfrm>
              <a:off x="4910400" y="5154840"/>
              <a:ext cx="273600" cy="30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" descr=""/>
            <p:cNvPicPr/>
            <p:nvPr/>
          </p:nvPicPr>
          <p:blipFill>
            <a:blip r:embed="rId13"/>
            <a:stretch/>
          </p:blipFill>
          <p:spPr>
            <a:xfrm>
              <a:off x="4910400" y="5154840"/>
              <a:ext cx="273600" cy="30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14"/>
            <a:stretch/>
          </p:blipFill>
          <p:spPr>
            <a:xfrm>
              <a:off x="4910400" y="5154840"/>
              <a:ext cx="273600" cy="30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5184000" y="5154840"/>
              <a:ext cx="211068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itulo de la discus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7" name="" descr=""/>
            <p:cNvPicPr/>
            <p:nvPr/>
          </p:nvPicPr>
          <p:blipFill>
            <a:blip r:embed="rId15"/>
            <a:stretch/>
          </p:blipFill>
          <p:spPr>
            <a:xfrm>
              <a:off x="4910400" y="5465160"/>
              <a:ext cx="27360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16"/>
            <a:stretch/>
          </p:blipFill>
          <p:spPr>
            <a:xfrm>
              <a:off x="4910400" y="5465160"/>
              <a:ext cx="27360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/>
            <p:cNvPicPr/>
            <p:nvPr/>
          </p:nvPicPr>
          <p:blipFill>
            <a:blip r:embed="rId17"/>
            <a:stretch/>
          </p:blipFill>
          <p:spPr>
            <a:xfrm>
              <a:off x="4910400" y="5465160"/>
              <a:ext cx="27360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5184000" y="5465160"/>
              <a:ext cx="262548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tenido de la Discus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1" name="" descr=""/>
            <p:cNvPicPr/>
            <p:nvPr/>
          </p:nvPicPr>
          <p:blipFill>
            <a:blip r:embed="rId18"/>
            <a:stretch/>
          </p:blipFill>
          <p:spPr>
            <a:xfrm>
              <a:off x="4910400" y="5776560"/>
              <a:ext cx="273600" cy="30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" descr=""/>
            <p:cNvPicPr/>
            <p:nvPr/>
          </p:nvPicPr>
          <p:blipFill>
            <a:blip r:embed="rId19"/>
            <a:stretch/>
          </p:blipFill>
          <p:spPr>
            <a:xfrm>
              <a:off x="4910400" y="5776560"/>
              <a:ext cx="273600" cy="30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" descr=""/>
            <p:cNvPicPr/>
            <p:nvPr/>
          </p:nvPicPr>
          <p:blipFill>
            <a:blip r:embed="rId20"/>
            <a:stretch/>
          </p:blipFill>
          <p:spPr>
            <a:xfrm>
              <a:off x="4910400" y="5776560"/>
              <a:ext cx="273600" cy="30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184000" y="5776560"/>
              <a:ext cx="2411640" cy="57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eador de la Discus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435640" y="4514040"/>
              <a:ext cx="2232000" cy="43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from Business Object Model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7650720" y="3667680"/>
              <a:ext cx="381960" cy="462600"/>
              <a:chOff x="7650720" y="3667680"/>
              <a:chExt cx="381960" cy="462600"/>
            </a:xfrm>
          </p:grpSpPr>
          <p:sp>
            <p:nvSpPr>
              <p:cNvPr id="217" name=""/>
              <p:cNvSpPr/>
              <p:nvPr/>
            </p:nvSpPr>
            <p:spPr>
              <a:xfrm>
                <a:off x="7650720" y="3667680"/>
                <a:ext cx="381960" cy="461880"/>
              </a:xfrm>
              <a:prstGeom prst="ellipse">
                <a:avLst/>
              </a:prstGeom>
              <a:solidFill>
                <a:srgbClr val="ffffcc"/>
              </a:solidFill>
              <a:ln w="720">
                <a:solidFill>
                  <a:srgbClr val="2427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650720" y="4129560"/>
                <a:ext cx="381960" cy="720"/>
              </a:xfrm>
              <a:prstGeom prst="line">
                <a:avLst/>
              </a:prstGeom>
              <a:ln w="720">
                <a:solidFill>
                  <a:srgbClr val="2427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" name=""/>
            <p:cNvSpPr/>
            <p:nvPr/>
          </p:nvSpPr>
          <p:spPr>
            <a:xfrm>
              <a:off x="437760" y="3628080"/>
              <a:ext cx="3002040" cy="2386440"/>
            </a:xfrm>
            <a:prstGeom prst="rect">
              <a:avLst/>
            </a:prstGeom>
            <a:solidFill>
              <a:srgbClr val="ffffcc"/>
            </a:solidFill>
            <a:ln w="39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18960" y="4289040"/>
              <a:ext cx="151992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olidador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37760" y="4924080"/>
              <a:ext cx="3002040" cy="1090800"/>
            </a:xfrm>
            <a:prstGeom prst="rect">
              <a:avLst/>
            </a:prstGeom>
            <a:noFill/>
            <a:ln w="39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37760" y="5697360"/>
              <a:ext cx="3002040" cy="317160"/>
            </a:xfrm>
            <a:prstGeom prst="rect">
              <a:avLst/>
            </a:prstGeom>
            <a:noFill/>
            <a:ln w="39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3" name="" descr=""/>
            <p:cNvPicPr/>
            <p:nvPr/>
          </p:nvPicPr>
          <p:blipFill>
            <a:blip r:embed="rId21"/>
            <a:stretch/>
          </p:blipFill>
          <p:spPr>
            <a:xfrm>
              <a:off x="486720" y="4963680"/>
              <a:ext cx="272880" cy="30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22"/>
            <a:stretch/>
          </p:blipFill>
          <p:spPr>
            <a:xfrm>
              <a:off x="486720" y="4963680"/>
              <a:ext cx="272880" cy="30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" descr=""/>
            <p:cNvPicPr/>
            <p:nvPr/>
          </p:nvPicPr>
          <p:blipFill>
            <a:blip r:embed="rId23"/>
            <a:stretch/>
          </p:blipFill>
          <p:spPr>
            <a:xfrm>
              <a:off x="486720" y="4963680"/>
              <a:ext cx="272880" cy="30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759600" y="4963680"/>
              <a:ext cx="2336400" cy="57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t lista de discusio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7" name="" descr=""/>
            <p:cNvPicPr/>
            <p:nvPr/>
          </p:nvPicPr>
          <p:blipFill>
            <a:blip r:embed="rId24"/>
            <a:stretch/>
          </p:blipFill>
          <p:spPr>
            <a:xfrm>
              <a:off x="486720" y="5273640"/>
              <a:ext cx="272880" cy="30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25"/>
            <a:stretch/>
          </p:blipFill>
          <p:spPr>
            <a:xfrm>
              <a:off x="486720" y="5273640"/>
              <a:ext cx="272880" cy="30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26"/>
            <a:stretch/>
          </p:blipFill>
          <p:spPr>
            <a:xfrm>
              <a:off x="486720" y="5273640"/>
              <a:ext cx="272880" cy="30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759600" y="5273640"/>
              <a:ext cx="1633320" cy="57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eate discus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85960" y="4632480"/>
              <a:ext cx="2232000" cy="43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from Business Object Model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2963520" y="3747600"/>
              <a:ext cx="394200" cy="501120"/>
              <a:chOff x="2963520" y="3747600"/>
              <a:chExt cx="394200" cy="501120"/>
            </a:xfrm>
          </p:grpSpPr>
          <p:sp>
            <p:nvSpPr>
              <p:cNvPr id="233" name=""/>
              <p:cNvSpPr/>
              <p:nvPr/>
            </p:nvSpPr>
            <p:spPr>
              <a:xfrm>
                <a:off x="2963520" y="3786120"/>
                <a:ext cx="394200" cy="462600"/>
              </a:xfrm>
              <a:prstGeom prst="ellipse">
                <a:avLst/>
              </a:prstGeom>
              <a:solidFill>
                <a:srgbClr val="ffffcc"/>
              </a:solidFill>
              <a:ln w="0">
                <a:solidFill>
                  <a:srgbClr val="1f1a1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3119400" y="3747600"/>
                <a:ext cx="85320" cy="43560"/>
              </a:xfrm>
              <a:prstGeom prst="line">
                <a:avLst/>
              </a:prstGeom>
              <a:ln w="0">
                <a:solidFill>
                  <a:srgbClr val="1f1a1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 flipV="1">
                <a:off x="3120480" y="3789720"/>
                <a:ext cx="85680" cy="43560"/>
              </a:xfrm>
              <a:prstGeom prst="line">
                <a:avLst/>
              </a:prstGeom>
              <a:ln w="0">
                <a:solidFill>
                  <a:srgbClr val="1f1a17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" name=""/>
            <p:cNvSpPr/>
            <p:nvPr/>
          </p:nvSpPr>
          <p:spPr>
            <a:xfrm flipH="1">
              <a:off x="2033640" y="2372760"/>
              <a:ext cx="93240" cy="1248840"/>
            </a:xfrm>
            <a:prstGeom prst="line">
              <a:avLst/>
            </a:prstGeom>
            <a:ln w="0">
              <a:solidFill>
                <a:srgbClr val="990033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2034000" y="3390480"/>
              <a:ext cx="97920" cy="230760"/>
            </a:xfrm>
            <a:prstGeom prst="line">
              <a:avLst/>
            </a:prstGeom>
            <a:ln w="39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 flipV="1">
              <a:off x="1968480" y="3377160"/>
              <a:ext cx="65520" cy="244440"/>
            </a:xfrm>
            <a:prstGeom prst="line">
              <a:avLst/>
            </a:prstGeom>
            <a:ln w="39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455640" y="4897080"/>
              <a:ext cx="1399680" cy="66240"/>
            </a:xfrm>
            <a:prstGeom prst="line">
              <a:avLst/>
            </a:prstGeom>
            <a:ln w="0">
              <a:solidFill>
                <a:srgbClr val="990033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 flipV="1">
              <a:off x="4664520" y="4857120"/>
              <a:ext cx="190800" cy="106200"/>
            </a:xfrm>
            <a:prstGeom prst="line">
              <a:avLst/>
            </a:prstGeom>
            <a:ln w="39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4653360" y="4963680"/>
              <a:ext cx="202320" cy="92520"/>
            </a:xfrm>
            <a:prstGeom prst="line">
              <a:avLst/>
            </a:prstGeom>
            <a:ln w="39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3455640" y="2365200"/>
              <a:ext cx="1941120" cy="1388520"/>
            </a:xfrm>
            <a:prstGeom prst="line">
              <a:avLst/>
            </a:prstGeom>
            <a:ln w="0">
              <a:solidFill>
                <a:srgbClr val="990033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5271840" y="2365560"/>
              <a:ext cx="125280" cy="204840"/>
            </a:xfrm>
            <a:prstGeom prst="line">
              <a:avLst/>
            </a:prstGeom>
            <a:ln w="39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903600" y="610920"/>
              <a:ext cx="36720" cy="5040"/>
            </a:xfrm>
            <a:prstGeom prst="line">
              <a:avLst/>
            </a:prstGeom>
            <a:ln w="39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4181400" y="6672240"/>
            <a:ext cx="184320" cy="1857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-396720" y="-316080"/>
            <a:ext cx="10585440" cy="892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404640"/>
            <a:ext cx="9144000" cy="70678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836360" y="259560"/>
            <a:ext cx="60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SS DEL CASO DE USO “CREAR SITIO COLABORATIVO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404640"/>
            <a:ext cx="9144000" cy="6669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982880" y="-360"/>
            <a:ext cx="573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SS DEL CASO DE USO “INGRESAR DOCUMENTO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STRATEGIA DE LA OPOTUNIDAD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396360" cy="60483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236680" y="-720"/>
            <a:ext cx="528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SS DEL CASO DE USO “INGRESAR DISCUSIÓN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42920" y="404640"/>
            <a:ext cx="9001080" cy="64533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989720" y="-360"/>
            <a:ext cx="515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SS DEL CASO DE USO “BUSCAR CONTACTO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SE-STUDIES Y PROVEEDORES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9756720" cy="6603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547640" y="188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SS DEL CASO DE USO “EDITAR RESPUESTAS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36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12200" y="300240"/>
            <a:ext cx="8292960" cy="5293440"/>
            <a:chOff x="412200" y="300240"/>
            <a:chExt cx="8292960" cy="5293440"/>
          </a:xfrm>
        </p:grpSpPr>
        <p:grpSp>
          <p:nvGrpSpPr>
            <p:cNvPr id="100" name=""/>
            <p:cNvGrpSpPr/>
            <p:nvPr/>
          </p:nvGrpSpPr>
          <p:grpSpPr>
            <a:xfrm>
              <a:off x="4204080" y="300240"/>
              <a:ext cx="537120" cy="739800"/>
              <a:chOff x="4204080" y="300240"/>
              <a:chExt cx="537120" cy="739800"/>
            </a:xfrm>
          </p:grpSpPr>
          <p:sp>
            <p:nvSpPr>
              <p:cNvPr id="101" name=""/>
              <p:cNvSpPr/>
              <p:nvPr/>
            </p:nvSpPr>
            <p:spPr>
              <a:xfrm>
                <a:off x="4355640" y="300240"/>
                <a:ext cx="244440" cy="244440"/>
              </a:xfrm>
              <a:prstGeom prst="ellipse">
                <a:avLst/>
              </a:prstGeom>
              <a:noFill/>
              <a:ln w="3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473000" y="542520"/>
                <a:ext cx="720" cy="227880"/>
              </a:xfrm>
              <a:prstGeom prst="line">
                <a:avLst/>
              </a:prstGeom>
              <a:ln w="3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278960" y="606960"/>
                <a:ext cx="387720" cy="720"/>
              </a:xfrm>
              <a:prstGeom prst="line">
                <a:avLst/>
              </a:prstGeom>
              <a:ln w="3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204080" y="770760"/>
                <a:ext cx="537120" cy="269280"/>
              </a:xfrm>
              <a:custGeom>
                <a:avLst/>
                <a:gdLst/>
                <a:ahLst/>
                <a:rect l="l" t="t" r="r" b="b"/>
                <a:pathLst>
                  <a:path w="108" h="54">
                    <a:moveTo>
                      <a:pt x="0" y="54"/>
                    </a:moveTo>
                    <a:lnTo>
                      <a:pt x="54" y="0"/>
                    </a:lnTo>
                    <a:lnTo>
                      <a:pt x="108" y="54"/>
                    </a:lnTo>
                  </a:path>
                </a:pathLst>
              </a:custGeom>
              <a:noFill/>
              <a:ln w="3240">
                <a:solidFill>
                  <a:srgbClr val="99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2652120" y="1239480"/>
              <a:ext cx="330264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7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Jefe de PRoyecto, Calificador, Knowledge Broker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005640" y="1442880"/>
              <a:ext cx="266508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7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y/o miembro del equipo : &lt;Actor Name&gt;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73360" y="1845720"/>
              <a:ext cx="720" cy="374796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401360" y="2336040"/>
              <a:ext cx="128880" cy="578160"/>
            </a:xfrm>
            <a:prstGeom prst="rect">
              <a:avLst/>
            </a:prstGeom>
            <a:solidFill>
              <a:srgbClr val="ffffff"/>
            </a:solidFill>
            <a:ln w="25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401360" y="4088160"/>
              <a:ext cx="128880" cy="278640"/>
            </a:xfrm>
            <a:prstGeom prst="rect">
              <a:avLst/>
            </a:prstGeom>
            <a:solidFill>
              <a:srgbClr val="ffffff"/>
            </a:solidFill>
            <a:ln w="25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232400" y="1101600"/>
              <a:ext cx="1472760" cy="538200"/>
            </a:xfrm>
            <a:prstGeom prst="rect">
              <a:avLst/>
            </a:prstGeom>
            <a:solidFill>
              <a:srgbClr val="ffffcc"/>
            </a:solidFill>
            <a:ln w="25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543440" y="1144800"/>
              <a:ext cx="883800" cy="44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 u="sng">
                  <a:solidFill>
                    <a:srgbClr val="000000"/>
                  </a:solidFill>
                  <a:uFillTx/>
                  <a:latin typeface="Arial"/>
                  <a:ea typeface="Times New Roman"/>
                </a:rPr>
                <a:t>Aplicació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976520" y="1845720"/>
              <a:ext cx="720" cy="374796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04160" y="2336040"/>
              <a:ext cx="129240" cy="279720"/>
            </a:xfrm>
            <a:prstGeom prst="rect">
              <a:avLst/>
            </a:prstGeom>
            <a:solidFill>
              <a:srgbClr val="ffffff"/>
            </a:solidFill>
            <a:ln w="25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904160" y="4088160"/>
              <a:ext cx="129240" cy="577080"/>
            </a:xfrm>
            <a:prstGeom prst="rect">
              <a:avLst/>
            </a:prstGeom>
            <a:solidFill>
              <a:srgbClr val="ffffff"/>
            </a:solidFill>
            <a:ln w="25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47520" y="2333520"/>
              <a:ext cx="3349080" cy="720"/>
            </a:xfrm>
            <a:prstGeom prst="line">
              <a:avLst/>
            </a:prstGeom>
            <a:ln w="25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7718040" y="2333520"/>
              <a:ext cx="178560" cy="74160"/>
            </a:xfrm>
            <a:prstGeom prst="line">
              <a:avLst/>
            </a:prstGeom>
            <a:ln w="82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>
              <a:off x="7718040" y="2259360"/>
              <a:ext cx="178560" cy="74160"/>
            </a:xfrm>
            <a:prstGeom prst="line">
              <a:avLst/>
            </a:prstGeom>
            <a:ln w="82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71440" y="2000880"/>
              <a:ext cx="2823840" cy="44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olicita acceso a las discusion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4552920" y="4085640"/>
              <a:ext cx="3343680" cy="1080"/>
            </a:xfrm>
            <a:prstGeom prst="line">
              <a:avLst/>
            </a:prstGeom>
            <a:ln w="25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52920" y="4085640"/>
              <a:ext cx="178560" cy="74160"/>
            </a:xfrm>
            <a:prstGeom prst="line">
              <a:avLst/>
            </a:prstGeom>
            <a:ln w="82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4552920" y="4010400"/>
              <a:ext cx="178560" cy="74880"/>
            </a:xfrm>
            <a:prstGeom prst="line">
              <a:avLst/>
            </a:prstGeom>
            <a:ln w="828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214240" y="3751920"/>
              <a:ext cx="1929600" cy="44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espliega discusion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2200" y="2333520"/>
              <a:ext cx="2597400" cy="44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n toda actividad del proceso,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12200" y="2582640"/>
              <a:ext cx="2543400" cy="44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ualquier miembro del equipo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2200" y="2831040"/>
              <a:ext cx="2953800" cy="44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uede acceder al contenido de las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12200" y="3080160"/>
              <a:ext cx="1067040" cy="44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iscusiones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12200" y="4165560"/>
              <a:ext cx="2220480" cy="44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a aplicación despliega el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12200" y="4399560"/>
              <a:ext cx="2478960" cy="44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ntenido de las discusion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1547640" y="6240240"/>
            <a:ext cx="557856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86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FIGURA VI.20- ESCENARIO DEL CASO DE USO “ACCESO A LAS DISCUSIONES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042920" y="2276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Verdana"/>
              </a:rPr>
              <a:t>INTERME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Verdana"/>
              </a:rPr>
              <a:t>Estereotipos Patrón MVC </a:t>
            </a:r>
            <a:br>
              <a:rPr sz="3600"/>
            </a:br>
            <a:r>
              <a:rPr b="0" lang="es-CL" sz="3600" spc="-1" strike="noStrike">
                <a:solidFill>
                  <a:srgbClr val="000000"/>
                </a:solidFill>
                <a:latin typeface="Verdana"/>
              </a:rPr>
              <a:t>(Model-View-Control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4292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Arquitectura de 3 cap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Gentileza: Pablo Romá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851520" y="5564160"/>
            <a:ext cx="122868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4T03:34:43Z</dcterms:created>
  <dc:creator>DIPE</dc:creator>
  <dc:description/>
  <dc:language>en-US</dc:language>
  <cp:lastModifiedBy>DIPE</cp:lastModifiedBy>
  <dcterms:modified xsi:type="dcterms:W3CDTF">2005-06-04T03:40:03Z</dcterms:modified>
  <cp:revision>4</cp:revision>
  <dc:subject/>
  <dc:title>Diapositiva 1</dc:title>
</cp:coreProperties>
</file>