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4948E-0141-45AC-8AA8-DAF6B0E5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4CEDC-C41B-4573-9028-15871B7D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87B4D-5414-4993-BEA5-566443F2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C2D05-D31B-4519-BF69-795005B8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009FA-44D9-44ED-9C76-CA44908D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ABB48-0F73-4E0F-BFF1-BA42809D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4B980-1EF1-4721-A21D-D54FC41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D5BAE-15F4-42D9-9D60-AEAD65F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E7884-4096-48F2-84BB-15D7A350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A33D0-22E1-44B9-91D9-439564F3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F8164-09B5-4BED-9720-82F84770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3F89A-401F-4C96-B8A4-A8987EE4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77J, Orientación a Objetos para un e-Business                 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F8DE-895C-4CDD-8E21-5BFF89E1422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jimenez@dii.uchile.cl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Desarrollo de Proyectos de Software Orientado a Objet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8135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77J – Orientación a Objetos para un e-Bus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alle de las componentes (se expresan en términos de)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gas de trabajo que deben ejecuta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tefactos que deben construir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bajadores responsables de su real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ntienen las actividades que contribuyen directamente con la construcción del sistem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amiento del negocio: modelo de negocio, procesos de nego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aptura de requisit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nálisi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mplemen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ueb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uesta en servi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ene como fin la comprensión cabal por parte del equipo de desarrollo de la estructura de funcionamiento de la organización a la cual brindará soporte la aplicación a construi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 aporte es la identificación del problema que debe ser resuelto por la aplic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uál es el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la descripción de las funcionalidades y características que debe (y no debe) ofrecer el sistema a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ce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e una estructura y funcionalidad de los componentes del sistema, de modo que satisfagan las necesidades de sus clientes y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resenta estática y dinámicamente un modelo de los requisi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Cómo funciona el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sta componente se “aterriza” el desarrollo del sistema, al incorporar en su concepción la consideración de la arquitectura lógica y física sobre la que va a funciona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ños lóg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tas estáticas y dinám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stemas opera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oco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nguajes de progra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ómo se construye el sist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Tangibiliza el sistema al verter en archivos de código fuente, comandos, librerías, ejecutables, etc., la conceptualización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Hasta el momento el sistema estaba expresado sólo en modelos, generalmente gráfic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ue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alúa los componentes construidos y el sistema completo a fin de garantizar que satisfacen un cierto conjunto de requisitos y contienen un número mínimo de defect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uesta en Servi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rende la instalación del sistema en la planta física y los equipos del cliente y, su entrega en operación a satisfacción del cliente y los usu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fuerzo Relativo de las Disciplin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407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Nombre: Ángel Jiménez Moli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ducación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icenciado en Ciencias de la Ingeniería, Mención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geniero Civil Industrial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Magíster en Ingeniería de Negocios con TI, U de Chile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-Mail: </a:t>
            </a:r>
            <a:r>
              <a:rPr b="0" lang="es-ES" sz="1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jimenez@dii.uchile.c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tereses Académico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Intelligenc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Knowledge Managemen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Business Proces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Information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Object Oriented Design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onentes de Sopor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n las actividades de carácter administrativ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 configuración y camb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ón del proyec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or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estión de Configuración y Camb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liza el seguimiento y mantiene la integridad de los artefactos a medida que evolucion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hace el control de versiones, la administración y el análisis de impacto de los cambios y, la extracción de información sobre el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ión del Proye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quí se elabora la planeación del proyecto y su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as estrategias para la gestión de los riesgos y se realiza el monitoreo de avance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sta soporte al equipo de desarrollo mediante la provisión, configuración y mantenimiento de las herramientas computacionales y metodológicas requeridas por 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inámico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representada por la organización en el tiemp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cribe cómo avanza el ciclo de vid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d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iclo de desarroll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nduce a la construcción y entrega de una nueva vers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divide en fases, cada una de las cuales culmina con u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y puede ser desarrollada en una o varias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ases Dinámic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iferencia de las fases del modelo en cascada, no están delimitadas por la finalización secuencial de las activida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n delimitadas por hitos en los que se evalúan los resultados obtenid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st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pa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i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s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 propósito es allegar la suficiente información sobre el problema plante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establecen los objetivos, alcance, factibi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ina con un hito consistente en la decisión de lanzamiento o no del proyec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orientada fundamentalmente a la definición de la arquitectura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ica continuar con el refinamiento del modelo de negocio y los requisitos iniciados en la fase de ges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avanza en el análisis y el diseño hasta obtener la arquitectura del sistema, implementar y probar uno o más prototipos a fin de validar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ún se puede abortar por razones de viabilidad técnica o económica (Hit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tru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recorren todos los componentes del proceso de desarrollo a través de varias iter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mayor esfuerzo está centrado en la culminación del diseño y la implement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aplicación en condiciones de ser operada por usuarios fin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la transferencia de la aplicación al cliente, incluyendo su puesta en operación en las instalaciones de éste, el entrenamiento de los usuarios, la depuración de los err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o: entrega final de la aplicación a satisfacción del cli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ceso de Desarro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o en el trabajo de “Los Tres Amigos”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ames Rumbaug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an generado una guía metodológica y un lenguaje unificado de modelamient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Process (UP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nified Modeling Language (U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ventajas del 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iende a hacer mas lento el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ra evitar aquello usar KIS (keep it simp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iseñar de forma adaptable (retroalimentars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lanificar la próxima fase/ite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buso de los modelos UM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enga conciencia del cambio, ya que si refina mucho mas le costará cambiar el 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so de UML y sus Exten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P hace hincapié en la elaboración de modelos gráficos del sistema: U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ML: “Es un lenguaje para especificar, visualizar, construir y documentar los artefactos de los sistemas de software, así como para el modelamiento del negocio y otros sistemas (no software)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51116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ándar de fac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undadores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dy Booch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Jim Rumbaugh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var Jacobso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ocidos como “los 3 amigos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ML estándar OMG (Object Management Group) de 199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http://www.omg.o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Gran cantidad de artefactos y detalles de artefact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5329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lación entre Componentes y Modelos UM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odelamiento del Negoc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er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ptura de requisi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Verdana"/>
              </a:rPr>
              <a:t>Modelo de casos de 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 de sistema (D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dominio o concep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secu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ramas de cl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mplement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delo de implem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el eje del desarrollo del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función de él se construyen los demás mode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Fueron propuestos por Ivar Jacobs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Describen el comportamiento de un sistema en términos de secuencias de interacciones entre él y las entidades que hacen parte de su entorno, denominadas </a:t>
            </a:r>
            <a:r>
              <a:rPr b="0" lang="es-ES" sz="3000" spc="-1" strike="noStrike">
                <a:solidFill>
                  <a:srgbClr val="cc0000"/>
                </a:solidFill>
                <a:latin typeface="Verdana"/>
              </a:rPr>
              <a:t>acto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pecto de un Caso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408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Casos de U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lases de los modelos de análisis y diseño se identifican en función de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s casos de uso son implementados finalmente por el código del modelo de implemen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pruebas se diseñan para establecer si el comportamiento de la aplicación corresponde al establecido en los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34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ctores del negocio: Representan los clientes, proveedores, socios y demás entidades externas con las cuales interactúa la organiz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asos de uso del negocio: Representan los procesos y procedimientos que se llevan a cabo en la organziación, en respuesta a una demanda extern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tidades del negocio: Representan los elementos que la organización gestiona o produce (unidades de información y otros recurs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stereotipos para el Modelamiento del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80643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Software Development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junto de acciones y elementos necesarios para transformar los requisitos de los usuarios en un sistema informát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define en término 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ién hace qu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ándo ha de hacer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ómo obtener un cierto obje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 Diagrama de Casos de Us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0483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pecificación Caso de Uso: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Solicitar Préstamo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so de Uso: Solicitar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tores: Cliente (iniciador) y analist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po: Primar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cripción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aso de uso empieza cuando el cliente ingresa a la opción de solicitar un préstam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su identif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verifica que el cliente tenga una cuenta activ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consulta el perfil del cliente para establecer si no está inhabilitado para gestionar su crédi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solicita al cliente la información del crédito dese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cliente ingresa la información solicitad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 sistema registra la información y notifica al analista que hay un nuevo crédito para su estudi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incipios Fundamentales del </a:t>
            </a: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caracteriza por tres principios fundamenta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conducido por casos de 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á centrado en la arquitectu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odelo en cascada: las actividades de captura de requisitos, análisis, diseño, implementación y pruebas se agotan de manera secuencial hasta llegar a la termina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P propende por una ruptura definitiva con el modelo en casc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UP las actividades son ejecutadas con mayor o menor intensidad a lo largo de todo el ciclo de desarrollo: </a:t>
            </a:r>
            <a:r>
              <a:rPr b="0" lang="es-ES" sz="2600" spc="-1" strike="noStrike">
                <a:solidFill>
                  <a:srgbClr val="cc0000"/>
                </a:solidFill>
                <a:latin typeface="Verdana"/>
              </a:rPr>
              <a:t>Iterativo e incremen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iniproyectos que permiten un mejor control del avance de la construcción del siste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P v/s Modelo en Casca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ciclo de desarrollo se divide e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que están definidas en términos de los productos (denominados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artefac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 que deben ser obtenidos en ciertos momentos claves (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, mediante el concurso de todas o al menos varias de las actividades de desarroll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064360" cy="4981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ción del Proceso Unifica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rganización del Proceso Unificado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vertical las actividades se organizan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mponen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l eje horizontal (tiempo) se aprecia la intensidad de ejecución, organizado en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as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teracione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hit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omponentes agrupan las actividades según su naturaleza, estableciendo la estructura del proceso de desarrol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09-23T02:50:59Z</dcterms:modified>
  <cp:revision>39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