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6FCB6-7431-4E83-9AC1-E7426E40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49622-58FE-4A60-A5F7-F8EFE04E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AEEFA-3DB2-4B64-BFCB-BA987082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B5972-7EB3-4921-93A2-EAD52B18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6CEA0-213A-4CB1-8E1E-0DFC755F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0E683-5854-46D1-95C5-43AE54F9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87DEF-DB80-4B15-8B77-08917E09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C21E8-944D-4D63-BA68-9DC27EA2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8063D-1E50-4B16-A3C7-C1A05210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8DD77-45F5-41D5-A12F-42D804EC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BB263-A2FE-4BAA-BC50-5D6CCA61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B5766-4122-4391-BAF1-A3F03130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77J, Orientación a Objetos para un e-Business                 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23E4-E2C9-41BE-8C08-BF9271985B9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ajimenez@dii.uchile.cl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Desarrollo de Proyectos de Software Orientado a Obje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81356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feso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77J – Orientación a Objetos para un e-Bus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rganización del Proceso Unificado (3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alle de las componentes (se expresan en términos de)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gas de trabajo que deben ejecutar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tefactos que deben construir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bajadores responsables de su real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ponentes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ntienen las actividades que contribuyen directamente con la construcción del sistem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odelamiento del negocio: modelo de negocio, procesos de negoci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aptura de requisit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nálisi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Diseñ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mplement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ueb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uesta en servi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odelamiento del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ene como fin la comprensión cabal por parte del equipo de desarrollo de la estructura de funcionamiento de la organización a la cual brindará soporte la aplicación a construi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 aporte es la identificación del problema que debe ser resuelto por la aplic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¿Cuál es el problem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ptura de Requisi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 propósito es la descripción de las funcionalidades y características que debe (y no debe) ofrecer el sistema a sus clientes y usu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¿Qué hace el sistem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áli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e una estructura y funcionalidad de los componentes del sistema, de modo que satisfagan las necesidades de sus clientes y usu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presenta estática y dinámicamente un modelo de los requisit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¿Cómo funciona el sistem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 esta componente se “aterriza” el desarrollo del sistema, al incorporar en su concepción la consideración de la arquitectura lógica y física sobre la que va a funciona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eños lóg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stas estáticas y dinámic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stemas operati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tocol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nguajes de program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¿Cómo se construye el sistem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lem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Tangibiliza el sistema al verter en archivos de código fuente, comandos, librerías, ejecutables, etc., la conceptualización del siste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Hasta el momento el sistema estaba expresado sólo en modelos, generalmente gráfic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ueb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alúa los componentes construidos y el sistema completo a fin de garantizar que satisfacen un cierto conjunto de requisitos y contienen un número mínimo de defect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uesta en Servi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rende la instalación del sistema en la planta física y los equipos del cliente y, su entrega en operación a satisfacción del cliente y los usu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fuerzo Relativo de las Disciplin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84072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Nombre: Ángel Jiménez Molin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Educación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Licenciado en Ciencias de la Ingeniería, Mención Industrial, U de Chil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Ingeniero Civil Industrial, U de Chil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Magíster en Ingeniería de Negocios con TI, U de Chil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es-ES" sz="17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ajimenez@dii.uchile.c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Intereses Académico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Business Intelligenc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Knowledge Managemen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Business Proces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Information Syste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Object Oriented Design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ponentes de Sopor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ienen las actividades de carácter administrativ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ión de configuración y camb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ión del proyec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tor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estión de Configuración y Cambi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liza el seguimiento y mantiene la integridad de los artefactos a medida que evoluciona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quí se hace el control de versiones, la administración y el análisis de impacto de los cambios y, la extracción de información sobre el avance del proyec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stión del Proye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quí se elabora la planeación del proyecto y sus iteracion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establecen las estrategias para la gestión de los riesgos y se realiza el monitoreo de avance del proyec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sta soporte al equipo de desarrollo mediante la provisión, configuración y mantenimiento de las herramientas computacionales y metodológicas requeridas por el proyec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specto Dinámico del 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á representada por la organización en el tiemp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be cómo avanza el ciclo de vida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da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ciclo de desarroll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nduce a la construcción y entrega de una nueva versión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divide en fases, cada una de las cuales culmina con un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hi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y puede ser desarrollada en una o varias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iteracion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ases Dinámicas del 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diferencia de las fases del modelo en cascada, no están delimitadas por la finalización secuencial de las actividad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án delimitadas por hitos en los que se evalúan los resultados obtenid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s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st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par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nsi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s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 propósito es allegar la suficiente información sobre el problema plante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establecen los objetivos, alcance, factibilida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ina con un hito consistente en la decisión de lanzamiento o no del proyec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pa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á orientada fundamentalmente a la definición de la arquitectura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lica continuar con el refinamiento del modelo de negocio y los requisitos iniciados en la fase de gest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avanza en el análisis y el diseño hasta obtener la arquitectura del sistema, implementar y probar uno o más prototipos a fin de validar la arquitectur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ún se puede abortar por razones de viabilidad técnica o económica (Hit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struc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recorren todos los componentes del proceso de desarrollo a través de varias iteracion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 mayor esfuerzo está centrado en la culminación del diseño y la implement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to: aplicación en condiciones de ser operada por usuarios final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iste en la transferencia de la aplicación al cliente, incluyendo su puesta en operación en las instalaciones de éste, el entrenamiento de los usuarios, la depuración de los erro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to: entrega final de la aplicación a satisfacción del clien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ceso de Desarro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Basado en el trabajo de “Los Tres Amigos”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Grady Boo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James Rumbaug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var Jacobs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Han generado una guía metodológica y un lenguaje unificado de modelamient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nified Process (UP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nified Modeling Language (U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sventajas del 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Tiende a hacer mas lento el desarrol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ara evitar aquello usar KIS (keep it simpl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Diseñar de forma adaptable (retroalimentars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lanificar la próxima fase/iter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buso de los modelos UM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enga conciencia del cambio, ya que si refina mucho mas le costará cambiar el diseñ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so de UML y sus Exten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P hace hincapié en la elaboración de modelos gráficos del sistema: U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ML: “Es un lenguaje para especificar, visualizar, construir y documentar los artefactos de los sistemas de software, así como para el modelamiento del negocio y otros sistemas (no software)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51116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stándar de fac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Fundadores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Grady Booch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Jim Rumbaugh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var Jacobso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nocidos como “los 3 amigos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ML estándar OMG (Object Management Group) de 199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http://www.omg.or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Gran cantidad de artefactos y detalles de artefact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53290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lación entre Componentes y Modelos UM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Modelamiento del Negoc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bert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aptura de requisi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Verdana"/>
              </a:rPr>
              <a:t>Modelo de casos de u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náli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agramas de secuencia de sistema (D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odelo de dominio o concept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iseñ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agramas de secu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agramas de cl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Implement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odelo de implemen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de </a:t>
            </a: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Casos de U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el eje del desarrollo del siste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n función de él se construyen los demás model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Fueron propuestos por Ivar Jacobs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escriben el comportamiento de un sistema en términos de secuencias de interacciones entre él y las entidades que hacen parte de su entorno, denominadas </a:t>
            </a:r>
            <a:r>
              <a:rPr b="0" lang="es-ES" sz="3000" spc="-1" strike="noStrike">
                <a:solidFill>
                  <a:srgbClr val="cc0000"/>
                </a:solidFill>
                <a:latin typeface="Verdana"/>
              </a:rPr>
              <a:t>acto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specto de un Caso de U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4087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de </a:t>
            </a: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Casos de U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clases de los modelos de análisis y diseño se identifican en función de los casos de u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s casos de uso son implementados finalmente por el código del modelo de implement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pruebas se diseñan para establecer si el comportamiento de la aplicación corresponde al establecido en los casos de u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stereotipos para el Modelamiento del Negoc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73440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stereotipos para el Modelamiento del Negoc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ctores del negocio: Representan los clientes, proveedores, socios y demás entidades externas con las cuales interactúa la organiz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asos de uso del negocio: Representan los procesos y procedimientos que se llevan a cabo en la organziación, en respuesta a una demanda extern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ntidades del negocio: Representan los elementos que la organización gestiona o produce (unidades de información y otros recurs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stereotipos para el Modelamiento del Negoc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806436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Software Development Proce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junto de acciones y elementos necesarios para transformar los requisitos de los usuarios en un sistema informátic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define en término d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ién hace qué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ándo ha de hacer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ómo obtener un cierto objetiv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jemplo Diagrama de Casos de Us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60483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pecificación Caso de Uso: </a:t>
            </a: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Solicitar Préstamo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so de Uso: Solicitar Préstam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ctores: Cliente (iniciador) y analist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po: Primari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scripción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caso de uso empieza cuando el cliente ingresa a la opción de solicitar un préstam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solicita al cliente su identific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cliente ingresa su identific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verifica que el cliente tenga una cuenta activ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consulta el perfil del cliente para establecer si no está inhabilitado para gestionar su crédit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solicita al cliente la información del crédito desead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cliente ingresa la información solicitad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registra la información y notifica al analista que hay un nuevo crédito para su estudi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incipios Fundamentales del </a:t>
            </a: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caracteriza por tres principios fundamental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 iterativo e incremen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 conducido por casos de u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á centrado en la arquitectur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P v/s Modelo en Casca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Modelo en cascada: las actividades de captura de requisitos, análisis, diseño, implementación y pruebas se agotan de manera secuencial hasta llegar a la terminación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P propende por una ruptura definitiva con el modelo en cascad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UP las actividades son ejecutadas con mayor o menor intensidad a lo largo de todo el ciclo de desarrollo: </a:t>
            </a:r>
            <a:r>
              <a:rPr b="0" lang="es-ES" sz="2600" spc="-1" strike="noStrike">
                <a:solidFill>
                  <a:srgbClr val="cc0000"/>
                </a:solidFill>
                <a:latin typeface="Verdana"/>
              </a:rPr>
              <a:t>Iterativo e incremen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Miniproyectos que permiten un mejor control del avance de la construcción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P v/s Modelo en Casca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 ciclo de desarrollo se divide en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fas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que están definidas en términos de los productos (denominados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artefacto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que deben ser obtenidos en ciertos momentos claves (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hito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, mediante el concurso de todas o al menos varias de las actividades de desarroll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8064360" cy="4981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rganización del Proceso Unifica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rganización del Proceso Unificado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 el eje vertical las actividades se organizan en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component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 el eje horizontal (tiempo) se aprecia la intensidad de ejecución, organizado en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fas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iteraciones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hito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componentes agrupan las actividades según su naturaleza, estableciendo la estructura del proceso de desarrol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DIPE</cp:lastModifiedBy>
  <dcterms:modified xsi:type="dcterms:W3CDTF">2005-09-23T02:50:59Z</dcterms:modified>
  <cp:revision>39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