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5616F8-C785-4D5C-A1B9-DE6902730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B0D287-D486-4EA5-9B1E-B4B5E0764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22BDF9-25DB-4B50-AC9A-48CE19358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53E445-2628-4301-BBDF-E7F53C2E8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EB0D61-89D2-4B2E-A8F6-CA24E0F7C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5FD4AE-E222-4905-A4CA-6DDA43628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69189F-71C8-4BAE-AFC9-BDB95E754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C276E1-D419-465E-9948-E5E33F16C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98BB21-DCFB-4B4C-A48E-BB3C59495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68B174-F885-4FDE-B9C1-3125546FD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508D83-3B93-4D51-8020-5B679B83D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8BA574-401C-469C-950D-138E4B044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539640" y="6244920"/>
            <a:ext cx="806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77J, Orientación a Objetos para un e-Business                                                      Primavera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" name=""/>
          <p:cNvGraphicFramePr/>
          <p:nvPr/>
        </p:nvGraphicFramePr>
        <p:xfrm>
          <a:off x="7596360" y="189000"/>
          <a:ext cx="1368360" cy="36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96360" y="189000"/>
                    <a:ext cx="136836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58E8F-424D-4A91-BF0D-253688B15C16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780000" y="5589720"/>
          <a:ext cx="1368360" cy="36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0000" y="5589720"/>
                    <a:ext cx="136836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ajimenez@dii.uchile.cl" TargetMode="External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Desarrollo de Proyectos de Software Orientado a Objeto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84000" y="2707920"/>
            <a:ext cx="813564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Profesor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Ángel Jiménez Molin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Magíster en Ingeniería de Negocios con TI (MB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IN77J – Orientación a Objetos para un e-Busin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rganización del Proceso Unificado (3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talle de las componentes (se expresan en términos de)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rgas de trabajo que deben ejecutars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rtefactos que deben construirs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rabajadores responsables de su realizació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mponentes del Proces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Contienen las actividades que contribuyen directamente con la construcción del sistema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Modelamiento del negocio: modelo de negocio, procesos de negocio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Captura de requisito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Análisi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Diseñ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Implementació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Prueba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Puesta en servici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Modelamiento del Negoci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iene como fin la comprensión cabal por parte del equipo de desarrollo de la estructura de funcionamiento de la organización a la cual brindará soporte la aplicación a construi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u aporte es la identificación del problema que debe ser resuelto por la aplicació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¿Cuál es el problema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aptura de Requisit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u propósito es la descripción de las funcionalidades y características que debe (y no debe) ofrecer el sistema a sus clientes y usuario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¿Qué hace el sistema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nálisi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fine una estructura y funcionalidad de los componentes del sistema, de modo que satisfagan las necesidades de sus clientes y usuario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presenta estática y dinámicamente un modelo de los requisito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¿Cómo funciona el sistema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Diseñ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 esta componente se “aterriza” el desarrollo del sistema, al incorporar en su concepción la consideración de la arquitectura lógica y física sobre la que va a funcionar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iseños lógic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stas estáticas y dinámica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stemas operativ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tocol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nguajes de programació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¿Cómo se construye el sistema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mplement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Tangibiliza el sistema al verter en archivos de código fuente, comandos, librerías, ejecutables, etc., la conceptualización del sistema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Hasta el momento el sistema estaba expresado sólo en modelos, generalmente gráfico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rueb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valúa los componentes construidos y el sistema completo a fin de garantizar que satisfacen un cierto conjunto de requisitos y contienen un número mínimo de defecto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uesta en Servici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mprende la instalación del sistema en la planta física y los equipos del cliente y, su entrega en operación a satisfacción del cliente y los usuario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sfuerzo Relativo de las Disciplina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116000" y="1844640"/>
            <a:ext cx="6840720" cy="39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resent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Nombre: Ángel Jiménez Molina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Educación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Licenciado en Ciencias de la Ingeniería, Mención Industrial, U de Chile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Ingeniero Civil Industrial, U de Chile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Magíster en Ingeniería de Negocios con TI, U de Chile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E-Mail: </a:t>
            </a:r>
            <a:r>
              <a:rPr b="0" lang="es-ES" sz="17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ajimenez@dii.uchile.c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Intereses Académicos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Business Intelligenc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Knowledge Management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Business Proces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Information System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Object Oriented Design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mponentes de Soport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tienen las actividades de carácter administrativo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estión de configuración y cambio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estión del proyect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torn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estión de Configuración y Cambio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aliza el seguimiento y mantiene la integridad de los artefactos a medida que evoluciona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quí se hace el control de versiones, la administración y el análisis de impacto de los cambios y, la extracción de información sobre el avance del proyect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Gestión del Proyect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quí se elabora la planeación del proyecto y sus iteracione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 establecen las estrategias para la gestión de los riesgos y se realiza el monitoreo de avance del proyect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ntorn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esta soporte al equipo de desarrollo mediante la provisión, configuración y mantenimiento de las herramientas computacionales y metodológicas requeridas por el proyect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specto Dinámico del UP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stá representada por la organización en el tiemp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scribe cómo avanza el ciclo de vida del sistem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da </a:t>
            </a: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ciclo de desarrollo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conduce a la construcción y entrega de una nueva versión del sistem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 divide en fases, cada una de las cuales culmina con un </a:t>
            </a: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hito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y puede ser desarrollada en una o varias </a:t>
            </a: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iteraciones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Fases Dinámicas del UP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 diferencia de las fases del modelo en cascada, no están delimitadas por la finalización secuencial de las actividad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stán delimitadas por hitos en los que se evalúan los resultados obtenido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ase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stació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eparació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strucció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ransició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Gest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u propósito es allegar la suficiente información sobre el problema plantead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 establecen los objetivos, alcance, factibilidad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ermina con un hito consistente en la decisión de lanzamiento o no del proyect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repar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stá orientada fundamentalmente a la definición de la arquitectura del sistem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mplica continuar con el refinamiento del modelo de negocio y los requisitos iniciados en la fase de gestació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 avanza en el análisis y el diseño hasta obtener la arquitectura del sistema, implementar y probar uno o más prototipos a fin de validar la arquitectur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ún se puede abortar por razones de viabilidad técnica o económica (Hito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nstruc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 recorren todos los componentes del proceso de desarrollo a través de varias iteracione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l mayor esfuerzo está centrado en la culminación del diseño y la implementació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ito: aplicación en condiciones de ser operada por usuarios finale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ransi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siste en la transferencia de la aplicación al cliente, incluyendo su puesta en operación en las instalaciones de éste, el entrenamiento de los usuarios, la depuración de los errore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ito: entrega final de la aplicación a satisfacción del client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roceso de Desarroll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Basado en el trabajo de “Los Tres Amigos”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Grady Boo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James Rumbaug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Ivar Jacobs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Han generado una guía metodológica y un lenguaje unificado de modelamiento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Unified Process (UP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Unified Modeling Language (UML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Desventajas del UP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Tiende a hacer mas lento el desarroll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Para evitar aquello usar KIS (keep it simple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Diseñar de forma adaptable (retroalimentarse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Planificar la próxima fase/iteració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Abuso de los modelos UM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Tenga conciencia del cambio, ya que si refina mucho mas le costará cambiar el diseñ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Uso de UML y sus Extension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UP hace hincapié en la elaboración de modelos gráficos del sistema: UM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UML: “Es un lenguaje para especificar, visualizar, construir y documentar los artefactos de los sistemas de software, así como para el modelamiento del negocio y otros sistemas (no software).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1692360" y="4724280"/>
            <a:ext cx="5111640" cy="13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8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Estándar de fact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Fundadores: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Grady Booch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Jim Rumbaugh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Ivar Jacobson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Conocidos como “los 3 amigos”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UML estándar OMG (Object Management Group) de 1997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http://www.omg.or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Gran cantidad de artefactos y detalles de artefacto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611280" y="189000"/>
            <a:ext cx="532908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8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lación entre Componentes y Modelos UM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Modelamiento del Negoci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ibert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Captura de requisit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0000"/>
                </a:solidFill>
                <a:latin typeface="Verdana"/>
              </a:rPr>
              <a:t>Modelo de casos de us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Análisi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iagramas de secuencia de sistema (DS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odelo de dominio o conceptu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Diseñ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iagramas de secuenc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iagramas de cla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Implementació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odelo de implement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odelo de </a:t>
            </a:r>
            <a:r>
              <a:rPr b="0" lang="en-US" sz="3800" spc="-1" strike="noStrike">
                <a:solidFill>
                  <a:srgbClr val="cc0000"/>
                </a:solidFill>
                <a:latin typeface="Verdana"/>
              </a:rPr>
              <a:t>Casos de Us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Es el eje del desarrollo del sistema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En función de él se construyen los demás modelo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Fueron propuestos por Ivar Jacobso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Describen el comportamiento de un sistema en términos de secuencias de interacciones entre él y las entidades que hacen parte de su entorno, denominadas </a:t>
            </a:r>
            <a:r>
              <a:rPr b="0" lang="es-ES" sz="3000" spc="-1" strike="noStrike">
                <a:solidFill>
                  <a:srgbClr val="cc0000"/>
                </a:solidFill>
                <a:latin typeface="Verdana"/>
              </a:rPr>
              <a:t>actore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specto de un Caso de Us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403280" y="1916280"/>
            <a:ext cx="640872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odelo de </a:t>
            </a:r>
            <a:r>
              <a:rPr b="0" lang="en-US" sz="3800" spc="-1" strike="noStrike">
                <a:solidFill>
                  <a:srgbClr val="cc0000"/>
                </a:solidFill>
                <a:latin typeface="Verdana"/>
              </a:rPr>
              <a:t>Casos de Us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as clases de los modelos de análisis y diseño se identifican en función de los casos de us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s casos de uso son implementados finalmente por el código del modelo de implementació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as pruebas se diseñan para establecer si el comportamiento de la aplicación corresponde al establecido en los casos de us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Verdana"/>
              </a:rPr>
              <a:t>Estereotipos para el Modelamiento del Negoci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900000" y="1773360"/>
            <a:ext cx="7344000" cy="40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Verdana"/>
              </a:rPr>
              <a:t>Estereotipos para el Modelamiento del Negoci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Actores del negocio: Representan los clientes, proveedores, socios y demás entidades externas con las cuales interactúa la organizació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Casos de uso del negocio: Representan los procesos y procedimientos que se llevan a cabo en la organziación, en respuesta a una demanda externa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Entidades del negocio: Representan los elementos que la organización gestiona o produce (unidades de información y otros recurso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Verdana"/>
              </a:rPr>
              <a:t>Estereotipos para el Modelamiento del Negoci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611280" y="2133720"/>
            <a:ext cx="8064360" cy="30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Software Development Proces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junto de acciones y elementos necesarios para transformar los requisitos de los usuarios en un sistema informátic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 define en término d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Quién hace qué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uándo ha de hacerl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ómo obtener un cierto objetiv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jemplo Diagrama de Casos de Us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1403280" y="1844640"/>
            <a:ext cx="604836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specificación Caso de Uso: </a:t>
            </a:r>
            <a:r>
              <a:rPr b="0" i="1" lang="en-US" sz="3400" spc="-1" strike="noStrike">
                <a:solidFill>
                  <a:srgbClr val="000000"/>
                </a:solidFill>
                <a:latin typeface="Verdana"/>
              </a:rPr>
              <a:t>Solicitar Préstamo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8713800" cy="44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aso de Uso: Solicitar Préstamo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ctores: Cliente (iniciador) y analista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ipo: Primario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escripción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l caso de uso empieza cuando el cliente ingresa a la opción de solicitar un préstamo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l sistema solicita al cliente su identificación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l cliente ingresa su identificación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l sistema verifica que el cliente tenga una cuenta activa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l sistema consulta el perfil del cliente para establecer si no está inhabilitado para gestionar su crédito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l sistema solicita al cliente la información del crédito deseado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l cliente ingresa la información solicitada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l sistema registra la información y notifica al analista que hay un nuevo crédito para su estudio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incipios Fundamentales del </a:t>
            </a:r>
            <a:r>
              <a:rPr b="0" i="1" lang="en-US" sz="3400" spc="-1" strike="noStrike">
                <a:solidFill>
                  <a:srgbClr val="000000"/>
                </a:solidFill>
                <a:latin typeface="Verdana"/>
              </a:rPr>
              <a:t>U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 caracteriza por tres principios fundamentale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s iterativo e increment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s conducido por casos de us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stá centrado en la arquitectur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UP v/s Modelo en Cascad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Modelo en cascada: las actividades de captura de requisitos, análisis, diseño, implementación y pruebas se agotan de manera secuencial hasta llegar a la terminación del sistem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UP propende por una ruptura definitiva con el modelo en cascad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En UP las actividades son ejecutadas con mayor o menor intensidad a lo largo de todo el ciclo de desarrollo: </a:t>
            </a:r>
            <a:r>
              <a:rPr b="0" lang="es-ES" sz="2600" spc="-1" strike="noStrike">
                <a:solidFill>
                  <a:srgbClr val="cc0000"/>
                </a:solidFill>
                <a:latin typeface="Verdana"/>
              </a:rPr>
              <a:t>Iterativo e increment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Miniproyectos que permiten un mejor control del avance de la construcción del sistem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UP v/s Modelo en Cascad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l ciclo de desarrollo se divide en </a:t>
            </a: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fases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, que están definidas en términos de los productos (denominados </a:t>
            </a: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artefactos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) que deben ser obtenidos en ciertos momentos claves (</a:t>
            </a: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hitos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), mediante el concurso de todas o al menos varias de las actividades de desarroll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11280" y="1700280"/>
            <a:ext cx="8064360" cy="49816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rganización del Proceso Unificad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rganización del Proceso Unificado (2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 el eje vertical las actividades se organizan en </a:t>
            </a: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componentes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 el eje horizontal (tiempo) se aprecia la intensidad de ejecución, organizado en </a:t>
            </a: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fases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iteraciones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 </a:t>
            </a: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hitos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as componentes agrupan las actividades según su naturaleza, estableciendo la estructura del proceso de desarroll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1T19:10:11Z</dcterms:created>
  <dc:creator>Samuel</dc:creator>
  <dc:description/>
  <dc:language>en-US</dc:language>
  <cp:lastModifiedBy>DIPE</cp:lastModifiedBy>
  <dcterms:modified xsi:type="dcterms:W3CDTF">2005-09-23T02:50:59Z</dcterms:modified>
  <cp:revision>393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91608271</vt:r8>
  </property>
  <property fmtid="{D5CDD505-2E9C-101B-9397-08002B2CF9AE}" pid="3" name="_AuthorEmail">
    <vt:lpwstr>samuel.varas@uai.cl</vt:lpwstr>
  </property>
  <property fmtid="{D5CDD505-2E9C-101B-9397-08002B2CF9AE}" pid="4" name="_AuthorEmailDisplayName">
    <vt:lpwstr>Samuel Varas</vt:lpwstr>
  </property>
  <property fmtid="{D5CDD505-2E9C-101B-9397-08002B2CF9AE}" pid="5" name="_EmailSubject">
    <vt:lpwstr>Clase 3</vt:lpwstr>
  </property>
  <property fmtid="{D5CDD505-2E9C-101B-9397-08002B2CF9AE}" pid="6" name="_ReviewingToolsShownOnce">
    <vt:lpwstr/>
  </property>
</Properties>
</file>