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B7D6A-1C36-4AF4-AFA2-E366964B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F5DAF-AD1A-4657-8F15-29B0EB55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52F2E-4546-48EA-9B31-93D39970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4B79-E088-4A46-A0CD-DA94F3B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B4C7-1B6B-4831-A531-6937B9F7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0C21D-B7E7-4750-A84F-69B7058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BD8BB-B95A-4B02-B593-74DFEAE0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6FBB4-5FEB-47FC-A08B-B3A737D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DF524-0BDB-4C66-A146-C3D6A37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1D571-024D-47CD-B652-647CF33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A7A95-DA7D-4718-8FC7-BE2F8B26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A0BF3-30F6-434B-9C8A-EA584956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7J, Orientación a Objetos para un e-Business             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0CC3-396B-4EE9-8018-2B1C0153DAE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jimenez@dii.uchile.c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esarrollo de Proyectos de Software Orientado a Obje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lle de las componentes (se expresan en términos de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gas de trabajo que deben ejecuta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efactos que deben construi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bajadores responsables de su re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tienen las actividades que contribuyen directamente con la construcción del sistem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amiento del negocio: modelo de negocio, procesos de nego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ptura de requisi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nális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mplemen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ueb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uesta en servi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ene como fin la comprensión cabal por parte del equipo de desarrollo de la estructura de funcionamiento de la organización a la cual brindará soporte la aplicación a construi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 aporte es la identificación del problema que debe ser resuelto por la aplic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el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la descripción de las funcionalidades y características que debe (y no debe) ofrecer el sistema a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ce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e una estructura y funcionalidad de los componentes del sistema, de modo que satisfagan las necesidades de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resenta estática y dinámicamente un modelo de los requisi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Cómo funciona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a componente se “aterriza” el desarrollo del sistema, al incorporar en su concepción la consideración de la arquitectura lógica y física sobre la que va a funciona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ños lóg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tas estáticas y dinám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stemas ope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oco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nguajes de progra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ómo se construye el sist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angibiliza el sistema al verter en archivos de código fuente, comandos, librerías, ejecutables, etc., la conceptualización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asta el momento el sistema estaba expresado sólo en modelos, generalmente gráf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alúa los componentes construidos y el sistema completo a fin de garantizar que satisfacen un cierto conjunto de requisitos y contienen un número mínimo de defec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esta en Servi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ende la instalación del sistema en la planta física y los equipos del cliente y, su entrega en operación a satisfacción del cliente y los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fuerzo Relativo de las Disciplin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mbre: Ángel Jiménez Moli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ducación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icenciado en Ciencias de la Ingeniería, Mención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geniero Civil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Magíster en Ingeniería de Negocios con TI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s-ES" sz="1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jimenez@dii.uchile.c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ereses Académico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Intellig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Knowledge Manag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Proces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formation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ject Oriented Desig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 Sopor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n las actividades de carácter administrativ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 configuración y camb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l proyec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o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stión de Configuración y Camb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iza el seguimiento y mantiene la integridad de los artefactos a medida que evolucion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hace el control de versiones, la administración y el análisis de impacto de los cambios y, la extracción de información sobre el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ión d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elabora la planeación del proyecto y su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as estrategias para la gestión de los riesgos y se realiza el monitoreo de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ta soporte al equipo de desarrollo mediante la provisión, configuración y mantenimiento de las herramientas computacionales y metodológicas requeridas por 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inámico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representada por la organización en el ti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cómo avanza el ciclo de vid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iclo de desarroll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nduce a la construcción y entrega de una nueva vers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divide en fases, cada una de las cuales culmina con u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 puede ser desarrollada en una o varias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ses Dinámic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erencia de las fases del modelo en cascada, no están delimitadas por la finalización secuencial de las activida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n delimitadas por hitos en los que se evalúan los resultados obten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s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a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i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allegar la suficiente información sobre el problema plante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os objetivos, alcance, facti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ina con un hito consistente en la decisión de lanzamiento o no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orientada fundamentalmente a la definición de la arquitectur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ca continuar con el refinamiento del modelo de negocio y los requisitos iniciados en la fase de ges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vanza en el análisis y el diseño hasta obtener la arquitectura del sistema, implementar y probar uno o más prototipos a fin de validar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ún se puede abortar por razones de viabilidad técnica o económica (Hit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r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corren todos los componentes del proceso de desarrollo a través de varia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mayor esfuerzo está centrado en la culminación del diseño y la implement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aplicación en condiciones de ser operada por usuarios fin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la transferencia de la aplicación al cliente, incluyendo su puesta en operación en las instalaciones de éste, el entrenamiento de los usuarios, la depuración de los err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entrega final de la aplicación a satisfacción del cli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Desar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o en el trabajo de “Los Tres Amigos”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ames Rumbau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an generado una guía metodológica y un lenguaje unificado de modelamient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Process (U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Modeling Language (U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iende a hacer mas lento el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evitar aquello usar KIS (keep it simp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ar de forma adaptable (retroalimentars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lanificar la próxima fase/ite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buso de los modelos UM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enga conciencia del cambio, ya que si refina mucho mas le costará cambiar el 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o de UML y sus Exten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P hace hincapié en la elaboración de modelos gráficos del sistema: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ML: “Es un lenguaje para especificar, visualizar, construir y documentar los artefactos de los sistemas de software, así como para el modelamiento del negocio y otros sistemas (no software)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5111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ándar de fac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ndadore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im Rumbaugh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ocidos como “los 3 amig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ML estándar OMG (Object Management Group) de 199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ttp://www.omg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Gran cantidad de artefactos y detalles de artefac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5329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lación entre Componentes y Modelos UM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Modelo de casos de 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 de sistema (D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dominio o concep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cl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implem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el eje del desarrollo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función de él se construyen los demás mode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Fueron propuestos por Ivar Jacobs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escriben el comportamiento de un sistema en términos de secuencias de interacciones entre él y las entidades que hacen parte de su entorno, denominadas </a:t>
            </a:r>
            <a:r>
              <a:rPr b="0" lang="es-ES" sz="3000" spc="-1" strike="noStrike">
                <a:solidFill>
                  <a:srgbClr val="cc0000"/>
                </a:solidFill>
                <a:latin typeface="Verdana"/>
              </a:rPr>
              <a:t>act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e un Caso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408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lases de los modelos de análisis y diseño se identifican en función de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casos de uso son implementados finalmente por el código del modelo de implemen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pruebas se diseñan para establecer si el comportamiento de la aplicación corresponde al establecido en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ctores del negocio: Representan los clientes, proveedores, socios y demás entidades externas con las cuales interactúa la organiz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sos de uso del negocio: Representan los procesos y procedimientos que se llevan a cabo en la organziación, en respuesta a una demanda extern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tidades del negocio: Representan los elementos que la organización gestiona o produce (unidades de información y otros recurs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ftware Development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junto de acciones y elementos necesarios para transformar los requisitos de los usuarios en un sistema informát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fine en término 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ándo ha de hacer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ómo obtener un cierto obje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 Diagrama de Casos de Us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048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ecificación Caso de Uso: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olicitar Préstam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so de Uso: Solicitar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tores: Cliente (iniciador) y analis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o: Primar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cripció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aso de uso empieza cuando el cliente ingresa a la opción de solicitar un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verifica que el cliente tenga una cuenta acti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consulta el perfil del cliente para establecer si no está inhabilitado para gestionar su crédi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la información del crédito dese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la información solicitad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registra la información y notifica al analista que hay un nuevo crédito para su estud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incipios Fundamentales del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caracteriza por tres principios fundament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conducido por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centrado en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odelo en cascada: las actividades de captura de requisitos, análisis, diseño, implementación y pruebas se agotan de manera secuencial hasta llegar a la termina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P propende por una ruptura definitiva con el modelo en casc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UP las actividades son ejecutadas con mayor o menor intensidad a lo largo de todo el ciclo de desarrollo: </a:t>
            </a:r>
            <a:r>
              <a:rPr b="0" lang="es-ES" sz="2600" spc="-1" strike="noStrike">
                <a:solidFill>
                  <a:srgbClr val="cc0000"/>
                </a:solidFill>
                <a:latin typeface="Verdana"/>
              </a:rPr>
              <a:t>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iniproyectos que permiten un mejor control del avance de la construc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ciclo de desarrollo se divide e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que están definidas en términos de los productos (denominados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rtefac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que deben ser obtenidos en ciertos momentos claves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, mediante el concurso de todas o al menos varias de las actividades de desarrol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4981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ción del Proceso Unific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vertical las actividades se organizan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mponen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horizontal (tiempo) se aprecia la intensidad de ejecución, organizado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omponentes agrupan las actividades según su naturaleza, estableciendo la estructura del proceso de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09-23T02:50:59Z</dcterms:modified>
  <cp:revision>39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