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A8B91-5C12-4C47-B012-3AB340E4F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68B04-447B-4AC4-B159-EE250E452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22147-5DC3-4715-ADFA-59642D6F1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3F590-97D7-4E76-8486-A5E1C0F11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79E42-DD3A-445E-A42C-DD23F2DD6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E8C8D-6C90-4BAC-9FCB-49B2040B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C3793-8652-4234-9221-CE22517A5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7AB8-5BDD-48FD-96CC-F4B7560E5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BA246-1D46-475B-9CC3-942E4389A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42323-A8DE-4B00-85E0-BC692B566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84138-3E96-4D61-8E5C-EFCA975D9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6B389-2605-46BC-91A9-6DE737A86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6A69-863F-4074-BD7C-CBE6182E51D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33"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35"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37"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9" name=""/>
          <p:cNvGrpSpPr/>
          <p:nvPr/>
        </p:nvGrpSpPr>
        <p:grpSpPr>
          <a:xfrm>
            <a:off x="1066680" y="3808440"/>
            <a:ext cx="3426120" cy="2476800"/>
            <a:chOff x="1066680" y="3808440"/>
            <a:chExt cx="3426120" cy="2476800"/>
          </a:xfrm>
        </p:grpSpPr>
        <p:sp>
          <p:nvSpPr>
            <p:cNvPr id="140"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5"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49"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51"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52"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1219320"/>
            <a:ext cx="8915400" cy="5300640"/>
          </a:xfrm>
          <a:prstGeom prst="rect">
            <a:avLst/>
          </a:prstGeom>
          <a:ln w="0">
            <a:noFill/>
          </a:ln>
        </p:spPr>
      </p:pic>
      <p:sp>
        <p:nvSpPr>
          <p:cNvPr id="158"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60"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64"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66"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69"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1"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3"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5"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78"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79"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
          <p:cNvGrpSpPr/>
          <p:nvPr/>
        </p:nvGrpSpPr>
        <p:grpSpPr>
          <a:xfrm>
            <a:off x="814320" y="228600"/>
            <a:ext cx="7894800" cy="6629400"/>
            <a:chOff x="814320" y="228600"/>
            <a:chExt cx="7894800" cy="6629400"/>
          </a:xfrm>
        </p:grpSpPr>
        <p:sp>
          <p:nvSpPr>
            <p:cNvPr id="182"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3"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4"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5"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7"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8"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0"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1"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2"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3"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4"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14" name=""/>
            <p:cNvGrpSpPr/>
            <p:nvPr/>
          </p:nvGrpSpPr>
          <p:grpSpPr>
            <a:xfrm>
              <a:off x="5005440" y="816120"/>
              <a:ext cx="112680" cy="236520"/>
              <a:chOff x="5005440" y="816120"/>
              <a:chExt cx="112680" cy="236520"/>
            </a:xfrm>
          </p:grpSpPr>
          <p:sp>
            <p:nvSpPr>
              <p:cNvPr id="215"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20"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21"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3" name=""/>
            <p:cNvGrpSpPr/>
            <p:nvPr/>
          </p:nvGrpSpPr>
          <p:grpSpPr>
            <a:xfrm>
              <a:off x="2948040" y="816120"/>
              <a:ext cx="111240" cy="236520"/>
              <a:chOff x="2948040" y="816120"/>
              <a:chExt cx="111240" cy="236520"/>
            </a:xfrm>
          </p:grpSpPr>
          <p:sp>
            <p:nvSpPr>
              <p:cNvPr id="224"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28"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29"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31"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34"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36"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43"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44"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45"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46"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48"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9"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50"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1"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52"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53" name=""/>
            <p:cNvGrpSpPr/>
            <p:nvPr/>
          </p:nvGrpSpPr>
          <p:grpSpPr>
            <a:xfrm>
              <a:off x="3132000" y="2459160"/>
              <a:ext cx="255240" cy="352440"/>
              <a:chOff x="3132000" y="2459160"/>
              <a:chExt cx="255240" cy="352440"/>
            </a:xfrm>
          </p:grpSpPr>
          <p:sp>
            <p:nvSpPr>
              <p:cNvPr id="254"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58"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60"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1" name=""/>
            <p:cNvGrpSpPr/>
            <p:nvPr/>
          </p:nvGrpSpPr>
          <p:grpSpPr>
            <a:xfrm>
              <a:off x="3516480" y="2459160"/>
              <a:ext cx="388800" cy="352440"/>
              <a:chOff x="3516480" y="2459160"/>
              <a:chExt cx="388800" cy="352440"/>
            </a:xfrm>
          </p:grpSpPr>
          <p:sp>
            <p:nvSpPr>
              <p:cNvPr id="262"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66"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7"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68"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9" name=""/>
            <p:cNvGrpSpPr/>
            <p:nvPr/>
          </p:nvGrpSpPr>
          <p:grpSpPr>
            <a:xfrm>
              <a:off x="1660680" y="2459160"/>
              <a:ext cx="110880" cy="236520"/>
              <a:chOff x="1660680" y="2459160"/>
              <a:chExt cx="110880" cy="236520"/>
            </a:xfrm>
          </p:grpSpPr>
          <p:sp>
            <p:nvSpPr>
              <p:cNvPr id="270"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74"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76"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1660680" y="3164040"/>
              <a:ext cx="110880" cy="236520"/>
              <a:chOff x="1660680" y="3164040"/>
              <a:chExt cx="110880" cy="236520"/>
            </a:xfrm>
          </p:grpSpPr>
          <p:sp>
            <p:nvSpPr>
              <p:cNvPr id="278"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82"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84"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1660680" y="3868560"/>
              <a:ext cx="110880" cy="351000"/>
              <a:chOff x="1660680" y="3868560"/>
              <a:chExt cx="110880" cy="351000"/>
            </a:xfrm>
          </p:grpSpPr>
          <p:sp>
            <p:nvSpPr>
              <p:cNvPr id="286"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290"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292"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3130560" y="3281400"/>
              <a:ext cx="385920" cy="235080"/>
              <a:chOff x="3130560" y="3281400"/>
              <a:chExt cx="385920" cy="235080"/>
            </a:xfrm>
          </p:grpSpPr>
          <p:sp>
            <p:nvSpPr>
              <p:cNvPr id="294"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646440" y="3281400"/>
              <a:ext cx="257400" cy="235080"/>
              <a:chOff x="3646440" y="3281400"/>
              <a:chExt cx="257400" cy="235080"/>
            </a:xfrm>
          </p:grpSpPr>
          <p:sp>
            <p:nvSpPr>
              <p:cNvPr id="297"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1"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2"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03"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4" name=""/>
            <p:cNvGrpSpPr/>
            <p:nvPr/>
          </p:nvGrpSpPr>
          <p:grpSpPr>
            <a:xfrm>
              <a:off x="3591000" y="3986280"/>
              <a:ext cx="110880" cy="352440"/>
              <a:chOff x="3591000" y="3986280"/>
              <a:chExt cx="110880" cy="352440"/>
            </a:xfrm>
          </p:grpSpPr>
          <p:sp>
            <p:nvSpPr>
              <p:cNvPr id="305"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09"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0"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11"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2"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20"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1"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22"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25"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26"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27"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8"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30"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1"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32"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3"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34"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5"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37"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39"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40" name=""/>
            <p:cNvGrpSpPr/>
            <p:nvPr/>
          </p:nvGrpSpPr>
          <p:grpSpPr>
            <a:xfrm>
              <a:off x="4675320" y="2279520"/>
              <a:ext cx="772920" cy="822600"/>
              <a:chOff x="4675320" y="2279520"/>
              <a:chExt cx="772920" cy="822600"/>
            </a:xfrm>
          </p:grpSpPr>
          <p:sp>
            <p:nvSpPr>
              <p:cNvPr id="341"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65680" y="2279520"/>
              <a:ext cx="166320" cy="822600"/>
              <a:chOff x="5665680" y="2279520"/>
              <a:chExt cx="166320" cy="822600"/>
            </a:xfrm>
          </p:grpSpPr>
          <p:sp>
            <p:nvSpPr>
              <p:cNvPr id="344"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964120" y="2514600"/>
              <a:ext cx="770040" cy="587520"/>
              <a:chOff x="5964120" y="2514600"/>
              <a:chExt cx="770040" cy="587520"/>
            </a:xfrm>
          </p:grpSpPr>
          <p:sp>
            <p:nvSpPr>
              <p:cNvPr id="347"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51"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53"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4" name=""/>
            <p:cNvGrpSpPr/>
            <p:nvPr/>
          </p:nvGrpSpPr>
          <p:grpSpPr>
            <a:xfrm>
              <a:off x="5907240" y="3805200"/>
              <a:ext cx="110880" cy="236520"/>
              <a:chOff x="5907240" y="3805200"/>
              <a:chExt cx="110880" cy="236520"/>
            </a:xfrm>
          </p:grpSpPr>
          <p:sp>
            <p:nvSpPr>
              <p:cNvPr id="355"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59"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0"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61"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63"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5907240" y="4745160"/>
              <a:ext cx="110880" cy="236520"/>
              <a:chOff x="5907240" y="4745160"/>
              <a:chExt cx="110880" cy="236520"/>
            </a:xfrm>
          </p:grpSpPr>
          <p:sp>
            <p:nvSpPr>
              <p:cNvPr id="365"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221520" y="2279520"/>
              <a:ext cx="1928880" cy="825480"/>
              <a:chOff x="6221520" y="2279520"/>
              <a:chExt cx="1928880" cy="825480"/>
            </a:xfrm>
          </p:grpSpPr>
          <p:sp>
            <p:nvSpPr>
              <p:cNvPr id="368"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72"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74"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76"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7"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78"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81"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82"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3"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387"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88"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389"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90"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392"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93"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394"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95" name=""/>
            <p:cNvGrpSpPr/>
            <p:nvPr/>
          </p:nvGrpSpPr>
          <p:grpSpPr>
            <a:xfrm>
              <a:off x="4619520" y="2333520"/>
              <a:ext cx="112680" cy="1292400"/>
              <a:chOff x="4619520" y="2333520"/>
              <a:chExt cx="112680" cy="1292400"/>
            </a:xfrm>
          </p:grpSpPr>
          <p:sp>
            <p:nvSpPr>
              <p:cNvPr id="396"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00"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02"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03"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04" name=""/>
            <p:cNvGrpSpPr/>
            <p:nvPr/>
          </p:nvGrpSpPr>
          <p:grpSpPr>
            <a:xfrm>
              <a:off x="4619520" y="4097160"/>
              <a:ext cx="112680" cy="235080"/>
              <a:chOff x="4619520" y="4097160"/>
              <a:chExt cx="112680" cy="235080"/>
            </a:xfrm>
          </p:grpSpPr>
          <p:sp>
            <p:nvSpPr>
              <p:cNvPr id="405"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09"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10"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11"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2"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3"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14"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5"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6"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17"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8"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 Función de Daño</a:t>
            </a:r>
            <a:endParaRPr b="0" lang="en-US" sz="2400" spc="-1" strike="noStrike">
              <a:solidFill>
                <a:srgbClr val="000000"/>
              </a:solidFill>
              <a:latin typeface="Times New Roman"/>
            </a:endParaRPr>
          </a:p>
        </p:txBody>
      </p:sp>
      <p:sp>
        <p:nvSpPr>
          <p:cNvPr id="420" name=""/>
          <p:cNvSpPr/>
          <p:nvPr/>
        </p:nvSpPr>
        <p:spPr>
          <a:xfrm>
            <a:off x="838080" y="190512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62120" y="1828800"/>
            <a:ext cx="75438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también se conoce como exposición respuesta, concentración respuesta, dosis respue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distintos países llevan a cabo estudios de impact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ontinuación se presentan dos metodologías de evaluación de impacto ambiental correspondientes a E.E.U.U. y la Unión Europ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as metodologías se basan en la función de d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47920" y="685800"/>
            <a:ext cx="6629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3" name=""/>
          <p:cNvSpPr/>
          <p:nvPr/>
        </p:nvSpPr>
        <p:spPr>
          <a:xfrm>
            <a:off x="457200" y="1676520"/>
            <a:ext cx="84582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EUU: CAP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MS (Criteria Air Pollutant Modeling System) es un modelo que estima los riesgos en la salud y los beneficios económicos asociados con distintos niveles de concentración de contaminantes crite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calcular los beneficios  CAPMS utiliza el método de la función de daño, el cual requiere una serie de datos locales como inputs (población, cambio en concentración de contaminantes, forma funcional relación exposición respuesta, entre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762120" y="380880"/>
            <a:ext cx="754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5" name=""/>
          <p:cNvSpPr/>
          <p:nvPr/>
        </p:nvSpPr>
        <p:spPr>
          <a:xfrm>
            <a:off x="304920" y="1752480"/>
            <a:ext cx="84582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uropa: Exter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todología adoptada por el proyecto se basa en el enfoque “impact pathway” o secuencia de impactos. La secuencia de impactos se refiere a eventos que relacionan una cierta “carga” (emisiones) con un “impacto” y su posterior valoración. (Método de la Función de Dañ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ntro de estos impactos destacan los concernientes a salud y mortalidad humana, materiales, agricultura, ecosistemas, visibilidad y calentamiento global. Este enfoque resulta especialmente útil para orientar diversas decisiones de polít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19320" y="76212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7" name=""/>
          <p:cNvSpPr/>
          <p:nvPr/>
        </p:nvSpPr>
        <p:spPr>
          <a:xfrm>
            <a:off x="457200" y="220968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igura siguiente ilustra los pasos principales de esta metodología aplicada a las  consecuencias de emisiones contaminantes. Cada etapa incluye modelos detallados de diversos procesos.</a:t>
            </a:r>
            <a:endParaRPr b="0" lang="en-US" sz="2400" spc="-1" strike="noStrike">
              <a:solidFill>
                <a:srgbClr val="000000"/>
              </a:solidFill>
              <a:latin typeface="Times New Roman"/>
            </a:endParaRPr>
          </a:p>
        </p:txBody>
      </p:sp>
      <p:grpSp>
        <p:nvGrpSpPr>
          <p:cNvPr id="428" name=""/>
          <p:cNvGrpSpPr/>
          <p:nvPr/>
        </p:nvGrpSpPr>
        <p:grpSpPr>
          <a:xfrm>
            <a:off x="533520" y="4267080"/>
            <a:ext cx="7848360" cy="838440"/>
            <a:chOff x="533520" y="4267080"/>
            <a:chExt cx="7848360" cy="838440"/>
          </a:xfrm>
        </p:grpSpPr>
        <p:sp>
          <p:nvSpPr>
            <p:cNvPr id="429" name=""/>
            <p:cNvSpPr/>
            <p:nvPr/>
          </p:nvSpPr>
          <p:spPr>
            <a:xfrm>
              <a:off x="533520" y="4267080"/>
              <a:ext cx="144756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ones</a:t>
              </a:r>
              <a:endParaRPr b="0" lang="en-US" sz="2400" spc="-1" strike="noStrike">
                <a:solidFill>
                  <a:srgbClr val="000000"/>
                </a:solidFill>
                <a:latin typeface="Times New Roman"/>
              </a:endParaRPr>
            </a:p>
          </p:txBody>
        </p:sp>
        <p:sp>
          <p:nvSpPr>
            <p:cNvPr id="430" name=""/>
            <p:cNvSpPr/>
            <p:nvPr/>
          </p:nvSpPr>
          <p:spPr>
            <a:xfrm>
              <a:off x="198108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666880" y="4267080"/>
              <a:ext cx="144792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persión</a:t>
              </a:r>
              <a:endParaRPr b="0" lang="en-US" sz="2400" spc="-1" strike="noStrike">
                <a:solidFill>
                  <a:srgbClr val="000000"/>
                </a:solidFill>
                <a:latin typeface="Times New Roman"/>
              </a:endParaRPr>
            </a:p>
          </p:txBody>
        </p:sp>
        <p:sp>
          <p:nvSpPr>
            <p:cNvPr id="432" name=""/>
            <p:cNvSpPr/>
            <p:nvPr/>
          </p:nvSpPr>
          <p:spPr>
            <a:xfrm>
              <a:off x="411480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800600" y="4267080"/>
              <a:ext cx="144792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acto</a:t>
              </a:r>
              <a:endParaRPr b="0" lang="en-US" sz="2400" spc="-1" strike="noStrike">
                <a:solidFill>
                  <a:srgbClr val="000000"/>
                </a:solidFill>
                <a:latin typeface="Times New Roman"/>
              </a:endParaRPr>
            </a:p>
          </p:txBody>
        </p:sp>
        <p:sp>
          <p:nvSpPr>
            <p:cNvPr id="434" name=""/>
            <p:cNvSpPr/>
            <p:nvPr/>
          </p:nvSpPr>
          <p:spPr>
            <a:xfrm>
              <a:off x="6934320" y="4267080"/>
              <a:ext cx="144756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a:t>
              </a:r>
              <a:endParaRPr b="0" lang="en-US" sz="2400" spc="-1" strike="noStrike">
                <a:solidFill>
                  <a:srgbClr val="000000"/>
                </a:solidFill>
                <a:latin typeface="Times New Roman"/>
              </a:endParaRPr>
            </a:p>
          </p:txBody>
        </p:sp>
        <p:sp>
          <p:nvSpPr>
            <p:cNvPr id="435" name=""/>
            <p:cNvSpPr/>
            <p:nvPr/>
          </p:nvSpPr>
          <p:spPr>
            <a:xfrm>
              <a:off x="624852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457200" y="16765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uropa: Exter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76212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457200" y="1106640"/>
            <a:ext cx="792468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vez que se determina el cambio en la calidad ambiental, asociado a una cierta política o proyecto se procede a cuantificar el impac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impacto da cuenta de los cambios físicos que ocurren por causa de una variación en la variable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los impactos destacan aquellos provenientes de salud (morbilidad y mortalidad), materiales, agricultura, visibilidad, y amen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impactos principales suelen ser aquellos en salud (mortalidad y morbilidad), ya sean de corto plazo (efectos agudos) o de largo plazo (efectos crón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762120" y="53352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380880" y="533520"/>
            <a:ext cx="815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unciones Exposición Respuesta y Valores</a:t>
            </a:r>
            <a:endParaRPr b="0" lang="en-US" sz="2400" spc="-1" strike="noStrike">
              <a:solidFill>
                <a:srgbClr val="000000"/>
              </a:solidFill>
              <a:latin typeface="Times New Roman"/>
            </a:endParaRPr>
          </a:p>
        </p:txBody>
      </p:sp>
      <p:sp>
        <p:nvSpPr>
          <p:cNvPr id="441" name=""/>
          <p:cNvSpPr/>
          <p:nvPr/>
        </p:nvSpPr>
        <p:spPr>
          <a:xfrm>
            <a:off x="609480" y="1066680"/>
            <a:ext cx="7848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continuación se presentan algunas de las funciones dosis respuesta que se utilizan por ExternE para cuantificar efectos en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unidades de </a:t>
            </a:r>
            <a:r>
              <a:rPr b="1" lang="es-CL" sz="2400" spc="-1" strike="noStrike">
                <a:solidFill>
                  <a:srgbClr val="000000"/>
                </a:solidFill>
                <a:latin typeface="Arial"/>
              </a:rPr>
              <a:t>las pendientes de las relaciones exposición respuesta son casos al año por </a:t>
            </a:r>
            <a:r>
              <a:rPr b="1" lang="es-CL" sz="2400" spc="-1" strike="noStrike">
                <a:solidFill>
                  <a:srgbClr val="000000"/>
                </a:solidFill>
                <a:latin typeface="Symbol"/>
                <a:ea typeface="Symbol"/>
              </a:rPr>
              <a:t></a:t>
            </a:r>
            <a:r>
              <a:rPr b="1" lang="es-CL" sz="2400" spc="-1" strike="noStrike">
                <a:solidFill>
                  <a:srgbClr val="000000"/>
                </a:solidFill>
                <a:latin typeface="Arial"/>
              </a:rPr>
              <a:t>g/m3, excepto para mortalidad en que la pendiente se expresa como porcentaje de aumento por </a:t>
            </a:r>
            <a:r>
              <a:rPr b="1" lang="es-CL" sz="2400" spc="-1" strike="noStrike">
                <a:solidFill>
                  <a:srgbClr val="000000"/>
                </a:solidFill>
                <a:latin typeface="Symbol"/>
                <a:ea typeface="Symbol"/>
              </a:rPr>
              <a:t></a:t>
            </a:r>
            <a:r>
              <a:rPr b="1" lang="es-CL" sz="2400" spc="-1" strike="noStrike">
                <a:solidFill>
                  <a:srgbClr val="000000"/>
                </a:solidFill>
                <a:latin typeface="Arial"/>
              </a:rPr>
              <a:t>g/m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bién se presentan los valores utilizados para cada efe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atos fueron obtenidos de </a:t>
            </a:r>
            <a:r>
              <a:rPr b="0" i="1" lang="es-CL" sz="2400" spc="-1" strike="noStrike">
                <a:solidFill>
                  <a:srgbClr val="000000"/>
                </a:solidFill>
                <a:latin typeface="Arial"/>
              </a:rPr>
              <a:t>Environmental Costs of Transport </a:t>
            </a:r>
            <a:r>
              <a:rPr b="0" lang="es-CL" sz="2400" spc="-1" strike="noStrike">
                <a:solidFill>
                  <a:srgbClr val="000000"/>
                </a:solidFill>
                <a:latin typeface="Arial"/>
              </a:rPr>
              <a:t>(Bickel, Friedrich)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2" name=""/>
          <p:cNvGraphicFramePr/>
          <p:nvPr/>
        </p:nvGraphicFramePr>
        <p:xfrm>
          <a:off x="609480" y="1447920"/>
          <a:ext cx="7925040" cy="4078080"/>
        </p:xfrm>
        <a:graphic>
          <a:graphicData uri="http://schemas.openxmlformats.org/presentationml/2006/ole">
            <p:oleObj progId="Excel.Sheet.12" r:id="rId1" spid="">
              <p:embed/>
              <p:pic>
                <p:nvPicPr>
                  <p:cNvPr id="443" name="" descr=""/>
                  <p:cNvPicPr/>
                  <p:nvPr/>
                </p:nvPicPr>
                <p:blipFill>
                  <a:blip r:embed="rId2"/>
                  <a:stretch/>
                </p:blipFill>
                <p:spPr>
                  <a:xfrm>
                    <a:off x="609480" y="1447920"/>
                    <a:ext cx="7925040" cy="4078080"/>
                  </a:xfrm>
                  <a:prstGeom prst="rect">
                    <a:avLst/>
                  </a:prstGeom>
                  <a:ln w="0">
                    <a:noFill/>
                  </a:ln>
                </p:spPr>
              </p:pic>
            </p:oleObj>
          </a:graphicData>
        </a:graphic>
      </p:graphicFrame>
      <p:sp>
        <p:nvSpPr>
          <p:cNvPr id="444" name=""/>
          <p:cNvSpPr/>
          <p:nvPr/>
        </p:nvSpPr>
        <p:spPr>
          <a:xfrm>
            <a:off x="1295280" y="6094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laciones Exposición Resp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5" name=""/>
          <p:cNvGraphicFramePr/>
          <p:nvPr/>
        </p:nvGraphicFramePr>
        <p:xfrm>
          <a:off x="609480" y="1752480"/>
          <a:ext cx="7898040" cy="3826080"/>
        </p:xfrm>
        <a:graphic>
          <a:graphicData uri="http://schemas.openxmlformats.org/presentationml/2006/ole">
            <p:oleObj progId="Excel.Sheet.12" r:id="rId1" spid="">
              <p:embed/>
              <p:pic>
                <p:nvPicPr>
                  <p:cNvPr id="446" name="" descr=""/>
                  <p:cNvPicPr/>
                  <p:nvPr/>
                </p:nvPicPr>
                <p:blipFill>
                  <a:blip r:embed="rId2"/>
                  <a:stretch/>
                </p:blipFill>
                <p:spPr>
                  <a:xfrm>
                    <a:off x="609480" y="1752480"/>
                    <a:ext cx="7898040" cy="3826080"/>
                  </a:xfrm>
                  <a:prstGeom prst="rect">
                    <a:avLst/>
                  </a:prstGeom>
                  <a:ln w="0">
                    <a:noFill/>
                  </a:ln>
                </p:spPr>
              </p:pic>
            </p:oleObj>
          </a:graphicData>
        </a:graphic>
      </p:graphicFrame>
      <p:sp>
        <p:nvSpPr>
          <p:cNvPr id="447" name=""/>
          <p:cNvSpPr/>
          <p:nvPr/>
        </p:nvSpPr>
        <p:spPr>
          <a:xfrm>
            <a:off x="990720" y="53352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laciones Exposición Resp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1295280" y="838080"/>
            <a:ext cx="6781680" cy="5562720"/>
            <a:chOff x="1295280" y="838080"/>
            <a:chExt cx="6781680" cy="5562720"/>
          </a:xfrm>
        </p:grpSpPr>
        <p:grpSp>
          <p:nvGrpSpPr>
            <p:cNvPr id="449" name=""/>
            <p:cNvGrpSpPr/>
            <p:nvPr/>
          </p:nvGrpSpPr>
          <p:grpSpPr>
            <a:xfrm>
              <a:off x="1300320" y="841320"/>
              <a:ext cx="6770520" cy="5555160"/>
              <a:chOff x="1300320" y="841320"/>
              <a:chExt cx="6770520" cy="5555160"/>
            </a:xfrm>
          </p:grpSpPr>
          <p:grpSp>
            <p:nvGrpSpPr>
              <p:cNvPr id="450" name=""/>
              <p:cNvGrpSpPr/>
              <p:nvPr/>
            </p:nvGrpSpPr>
            <p:grpSpPr>
              <a:xfrm>
                <a:off x="1300320" y="841320"/>
                <a:ext cx="3385440" cy="462600"/>
                <a:chOff x="1300320" y="841320"/>
                <a:chExt cx="3385440" cy="462600"/>
              </a:xfrm>
            </p:grpSpPr>
            <p:sp>
              <p:nvSpPr>
                <p:cNvPr id="451" name=""/>
                <p:cNvSpPr/>
                <p:nvPr/>
              </p:nvSpPr>
              <p:spPr>
                <a:xfrm>
                  <a:off x="1350720" y="8413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MPACTO EN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1300320" y="8413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4686120" y="841320"/>
                <a:ext cx="3384720" cy="462600"/>
                <a:chOff x="4686120" y="841320"/>
                <a:chExt cx="3384720" cy="462600"/>
              </a:xfrm>
            </p:grpSpPr>
            <p:sp>
              <p:nvSpPr>
                <p:cNvPr id="454" name=""/>
                <p:cNvSpPr/>
                <p:nvPr/>
              </p:nvSpPr>
              <p:spPr>
                <a:xfrm>
                  <a:off x="4736520" y="841320"/>
                  <a:ext cx="328392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ALOR MONETARIO (EURO 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4686120" y="8413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1300320" y="1303920"/>
                <a:ext cx="3385440" cy="462600"/>
                <a:chOff x="1300320" y="1303920"/>
                <a:chExt cx="3385440" cy="462600"/>
              </a:xfrm>
            </p:grpSpPr>
            <p:sp>
              <p:nvSpPr>
                <p:cNvPr id="457" name=""/>
                <p:cNvSpPr/>
                <p:nvPr/>
              </p:nvSpPr>
              <p:spPr>
                <a:xfrm>
                  <a:off x="1350720" y="13039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ño de Vida Perdido (Efecto Agu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1300320" y="13039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686120" y="1303920"/>
                <a:ext cx="3384720" cy="462600"/>
                <a:chOff x="4686120" y="1303920"/>
                <a:chExt cx="3384720" cy="462600"/>
              </a:xfrm>
            </p:grpSpPr>
            <p:sp>
              <p:nvSpPr>
                <p:cNvPr id="460" name=""/>
                <p:cNvSpPr/>
                <p:nvPr/>
              </p:nvSpPr>
              <p:spPr>
                <a:xfrm>
                  <a:off x="4736520" y="13039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5.7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4686120" y="13039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300320" y="1766880"/>
                <a:ext cx="3385440" cy="462600"/>
                <a:chOff x="1300320" y="1766880"/>
                <a:chExt cx="3385440" cy="462600"/>
              </a:xfrm>
            </p:grpSpPr>
            <p:sp>
              <p:nvSpPr>
                <p:cNvPr id="463" name=""/>
                <p:cNvSpPr/>
                <p:nvPr/>
              </p:nvSpPr>
              <p:spPr>
                <a:xfrm>
                  <a:off x="1350720" y="17668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ño de Vida Perdido (Efecto Crón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1300320" y="17668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686120" y="1766880"/>
                <a:ext cx="3384720" cy="462600"/>
                <a:chOff x="4686120" y="1766880"/>
                <a:chExt cx="3384720" cy="462600"/>
              </a:xfrm>
            </p:grpSpPr>
            <p:sp>
              <p:nvSpPr>
                <p:cNvPr id="466" name=""/>
                <p:cNvSpPr/>
                <p:nvPr/>
              </p:nvSpPr>
              <p:spPr>
                <a:xfrm>
                  <a:off x="4736520" y="17668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6.5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4686120" y="17668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1300320" y="2229840"/>
                <a:ext cx="3385440" cy="462600"/>
                <a:chOff x="1300320" y="2229840"/>
                <a:chExt cx="3385440" cy="462600"/>
              </a:xfrm>
            </p:grpSpPr>
            <p:sp>
              <p:nvSpPr>
                <p:cNvPr id="469" name=""/>
                <p:cNvSpPr/>
                <p:nvPr/>
              </p:nvSpPr>
              <p:spPr>
                <a:xfrm>
                  <a:off x="1350720" y="222984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Bronquitis Cróni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1300320" y="222984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4686120" y="2229840"/>
                <a:ext cx="3384720" cy="462600"/>
                <a:chOff x="4686120" y="2229840"/>
                <a:chExt cx="3384720" cy="462600"/>
              </a:xfrm>
            </p:grpSpPr>
            <p:sp>
              <p:nvSpPr>
                <p:cNvPr id="472" name=""/>
                <p:cNvSpPr/>
                <p:nvPr/>
              </p:nvSpPr>
              <p:spPr>
                <a:xfrm>
                  <a:off x="4736520" y="222984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9.3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4686120" y="222984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1300320" y="2692800"/>
                <a:ext cx="3385440" cy="462960"/>
                <a:chOff x="1300320" y="2692800"/>
                <a:chExt cx="3385440" cy="462960"/>
              </a:xfrm>
            </p:grpSpPr>
            <p:sp>
              <p:nvSpPr>
                <p:cNvPr id="475" name=""/>
                <p:cNvSpPr/>
                <p:nvPr/>
              </p:nvSpPr>
              <p:spPr>
                <a:xfrm>
                  <a:off x="1350720" y="2692800"/>
                  <a:ext cx="3284280" cy="46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dmisión Hospitalaria Cerebrovascul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1300320" y="2692800"/>
                  <a:ext cx="338544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4686120" y="2692800"/>
                <a:ext cx="3384720" cy="462960"/>
                <a:chOff x="4686120" y="2692800"/>
                <a:chExt cx="3384720" cy="462960"/>
              </a:xfrm>
            </p:grpSpPr>
            <p:sp>
              <p:nvSpPr>
                <p:cNvPr id="478" name=""/>
                <p:cNvSpPr/>
                <p:nvPr/>
              </p:nvSpPr>
              <p:spPr>
                <a:xfrm>
                  <a:off x="4736520" y="2692800"/>
                  <a:ext cx="3283920" cy="462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7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4686120" y="2692800"/>
                  <a:ext cx="338472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1300320" y="3156120"/>
                <a:ext cx="3385440" cy="462600"/>
                <a:chOff x="1300320" y="3156120"/>
                <a:chExt cx="3385440" cy="462600"/>
              </a:xfrm>
            </p:grpSpPr>
            <p:sp>
              <p:nvSpPr>
                <p:cNvPr id="481" name=""/>
                <p:cNvSpPr/>
                <p:nvPr/>
              </p:nvSpPr>
              <p:spPr>
                <a:xfrm>
                  <a:off x="1350720" y="31561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dmisión Hospitalaria Respirato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1300320" y="31561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686120" y="3156120"/>
                <a:ext cx="3384720" cy="462600"/>
                <a:chOff x="4686120" y="3156120"/>
                <a:chExt cx="3384720" cy="462600"/>
              </a:xfrm>
            </p:grpSpPr>
            <p:sp>
              <p:nvSpPr>
                <p:cNvPr id="484" name=""/>
                <p:cNvSpPr/>
                <p:nvPr/>
              </p:nvSpPr>
              <p:spPr>
                <a:xfrm>
                  <a:off x="4736520" y="31561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3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4686120" y="31561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1300320" y="3619080"/>
                <a:ext cx="3385440" cy="462600"/>
                <a:chOff x="1300320" y="3619080"/>
                <a:chExt cx="3385440" cy="462600"/>
              </a:xfrm>
            </p:grpSpPr>
            <p:sp>
              <p:nvSpPr>
                <p:cNvPr id="487" name=""/>
                <p:cNvSpPr/>
                <p:nvPr/>
              </p:nvSpPr>
              <p:spPr>
                <a:xfrm>
                  <a:off x="1350720" y="36190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Falla Cardiaca Congestiv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1300320" y="36190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686120" y="3619080"/>
                <a:ext cx="3384720" cy="462600"/>
                <a:chOff x="4686120" y="3619080"/>
                <a:chExt cx="3384720" cy="462600"/>
              </a:xfrm>
            </p:grpSpPr>
            <p:sp>
              <p:nvSpPr>
                <p:cNvPr id="490" name=""/>
                <p:cNvSpPr/>
                <p:nvPr/>
              </p:nvSpPr>
              <p:spPr>
                <a:xfrm>
                  <a:off x="4736520" y="36190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26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4686120" y="36190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1300320" y="4082040"/>
                <a:ext cx="3385440" cy="462600"/>
                <a:chOff x="1300320" y="4082040"/>
                <a:chExt cx="3385440" cy="462600"/>
              </a:xfrm>
            </p:grpSpPr>
            <p:sp>
              <p:nvSpPr>
                <p:cNvPr id="493" name=""/>
                <p:cNvSpPr/>
                <p:nvPr/>
              </p:nvSpPr>
              <p:spPr>
                <a:xfrm>
                  <a:off x="1350720" y="408204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os Crónica Infant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1300320" y="408204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4686120" y="4082040"/>
                <a:ext cx="3384720" cy="462600"/>
                <a:chOff x="4686120" y="4082040"/>
                <a:chExt cx="3384720" cy="462600"/>
              </a:xfrm>
            </p:grpSpPr>
            <p:sp>
              <p:nvSpPr>
                <p:cNvPr id="496" name=""/>
                <p:cNvSpPr/>
                <p:nvPr/>
              </p:nvSpPr>
              <p:spPr>
                <a:xfrm>
                  <a:off x="4736520" y="408204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4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4686120" y="408204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1300320" y="4545000"/>
                <a:ext cx="3385440" cy="462600"/>
                <a:chOff x="1300320" y="4545000"/>
                <a:chExt cx="3385440" cy="462600"/>
              </a:xfrm>
            </p:grpSpPr>
            <p:sp>
              <p:nvSpPr>
                <p:cNvPr id="499" name=""/>
                <p:cNvSpPr/>
                <p:nvPr/>
              </p:nvSpPr>
              <p:spPr>
                <a:xfrm>
                  <a:off x="1350720" y="454500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Día de Actividad Restring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1300320" y="454500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4686120" y="4545000"/>
                <a:ext cx="3384720" cy="462600"/>
                <a:chOff x="4686120" y="4545000"/>
                <a:chExt cx="3384720" cy="462600"/>
              </a:xfrm>
            </p:grpSpPr>
            <p:sp>
              <p:nvSpPr>
                <p:cNvPr id="502" name=""/>
                <p:cNvSpPr/>
                <p:nvPr/>
              </p:nvSpPr>
              <p:spPr>
                <a:xfrm>
                  <a:off x="4736520" y="454500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4686120" y="454500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300320" y="5007960"/>
                <a:ext cx="3385440" cy="462600"/>
                <a:chOff x="1300320" y="5007960"/>
                <a:chExt cx="3385440" cy="462600"/>
              </a:xfrm>
            </p:grpSpPr>
            <p:sp>
              <p:nvSpPr>
                <p:cNvPr id="505" name=""/>
                <p:cNvSpPr/>
                <p:nvPr/>
              </p:nvSpPr>
              <p:spPr>
                <a:xfrm>
                  <a:off x="1350720" y="500796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taque de As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1300320" y="500796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4686120" y="5007960"/>
                <a:ext cx="3384720" cy="462600"/>
                <a:chOff x="4686120" y="5007960"/>
                <a:chExt cx="3384720" cy="462600"/>
              </a:xfrm>
            </p:grpSpPr>
            <p:sp>
              <p:nvSpPr>
                <p:cNvPr id="508" name=""/>
                <p:cNvSpPr/>
                <p:nvPr/>
              </p:nvSpPr>
              <p:spPr>
                <a:xfrm>
                  <a:off x="4736520" y="500796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
                <p:cNvSpPr/>
                <p:nvPr/>
              </p:nvSpPr>
              <p:spPr>
                <a:xfrm>
                  <a:off x="4686120" y="500796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1300320" y="5470920"/>
                <a:ext cx="3385440" cy="462600"/>
                <a:chOff x="1300320" y="5470920"/>
                <a:chExt cx="3385440" cy="462600"/>
              </a:xfrm>
            </p:grpSpPr>
            <p:sp>
              <p:nvSpPr>
                <p:cNvPr id="511" name=""/>
                <p:cNvSpPr/>
                <p:nvPr/>
              </p:nvSpPr>
              <p:spPr>
                <a:xfrm>
                  <a:off x="1350720" y="54709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
                <p:cNvSpPr/>
                <p:nvPr/>
              </p:nvSpPr>
              <p:spPr>
                <a:xfrm>
                  <a:off x="1300320" y="54709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4686120" y="5470920"/>
                <a:ext cx="3384720" cy="462600"/>
                <a:chOff x="4686120" y="5470920"/>
                <a:chExt cx="3384720" cy="462600"/>
              </a:xfrm>
            </p:grpSpPr>
            <p:sp>
              <p:nvSpPr>
                <p:cNvPr id="514" name=""/>
                <p:cNvSpPr/>
                <p:nvPr/>
              </p:nvSpPr>
              <p:spPr>
                <a:xfrm>
                  <a:off x="4736520" y="54709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
                <p:cNvSpPr/>
                <p:nvPr/>
              </p:nvSpPr>
              <p:spPr>
                <a:xfrm>
                  <a:off x="4686120" y="54709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1300320" y="5933880"/>
                <a:ext cx="3385440" cy="462600"/>
                <a:chOff x="1300320" y="5933880"/>
                <a:chExt cx="3385440" cy="462600"/>
              </a:xfrm>
            </p:grpSpPr>
            <p:sp>
              <p:nvSpPr>
                <p:cNvPr id="517" name=""/>
                <p:cNvSpPr/>
                <p:nvPr/>
              </p:nvSpPr>
              <p:spPr>
                <a:xfrm>
                  <a:off x="1350720" y="59338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Síntomas Respiratorios Meno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
                <p:cNvSpPr/>
                <p:nvPr/>
              </p:nvSpPr>
              <p:spPr>
                <a:xfrm>
                  <a:off x="1300320" y="59338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4686120" y="5933880"/>
                <a:ext cx="3384720" cy="462600"/>
                <a:chOff x="4686120" y="5933880"/>
                <a:chExt cx="3384720" cy="462600"/>
              </a:xfrm>
            </p:grpSpPr>
            <p:sp>
              <p:nvSpPr>
                <p:cNvPr id="520" name=""/>
                <p:cNvSpPr/>
                <p:nvPr/>
              </p:nvSpPr>
              <p:spPr>
                <a:xfrm>
                  <a:off x="4736520" y="59338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
                <p:cNvSpPr/>
                <p:nvPr/>
              </p:nvSpPr>
              <p:spPr>
                <a:xfrm>
                  <a:off x="4686120" y="59338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2" name=""/>
            <p:cNvSpPr/>
            <p:nvPr/>
          </p:nvSpPr>
          <p:spPr>
            <a:xfrm>
              <a:off x="1295280" y="838080"/>
              <a:ext cx="678168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3" name=""/>
          <p:cNvSpPr/>
          <p:nvPr/>
        </p:nvSpPr>
        <p:spPr>
          <a:xfrm>
            <a:off x="2362320" y="2286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de Valores Monet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533520" y="6094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ia de Efectos en Salud</a:t>
            </a:r>
            <a:endParaRPr b="0" lang="en-US" sz="2400" spc="-1" strike="noStrike">
              <a:solidFill>
                <a:srgbClr val="000000"/>
              </a:solidFill>
              <a:latin typeface="Times New Roman"/>
            </a:endParaRPr>
          </a:p>
        </p:txBody>
      </p:sp>
      <p:sp>
        <p:nvSpPr>
          <p:cNvPr id="525" name=""/>
          <p:cNvSpPr/>
          <p:nvPr/>
        </p:nvSpPr>
        <p:spPr>
          <a:xfrm>
            <a:off x="533520" y="1600200"/>
            <a:ext cx="82296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los estudios realizados dominan los costos por impacto en salud. Estos costos se deben principalmente a PM2,5 y a partículas secundarias (nitratos y sulfa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udio realizado en Grecia (2000) se calcularon los costos de transporte debido a vehículos Diesel en la ciudad de Atenas. Se concluye que de los costos en salud dominan holgadamente al resto representando el 98% del to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mismo estudio pero con vehículos a gasolina, se llega a que los costos en salud representan el 90% del to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5-11-07T18:31:30Z</dcterms:modified>
  <cp:revision>101</cp:revision>
  <dc:subject/>
  <dc:title>Presentación de PowerPoint</dc:title>
</cp:coreProperties>
</file>