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B61-A007-4CEC-82AE-FE84AA7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21A-0ACF-421D-8307-A12A367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AFB-B198-4020-9044-58CCC092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934-7ABE-442E-BCEC-115A67EA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7C9-BF17-4152-A978-E5BD1048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3A6-FCD4-4225-A138-507BEC2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F76-FFD6-44FE-909D-1932FBB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C1D-96C4-40EA-9FBD-426600A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B80-F647-4BC4-BE50-B556678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43B-F843-4FD2-987C-033B787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3F8-EAF6-41ED-8420-72435E9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861-7D2B-4CF8-9042-16FD9BE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15C-AB1C-4BCC-B975-7CB32CCC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 cambia Tasa fija por el I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8:32Z</dcterms:modified>
  <cp:revision>8</cp:revision>
  <dc:subject/>
  <dc:title>Slide 1</dc:title>
</cp:coreProperties>
</file>