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5FC7-CD98-4F55-BC17-5ECACF819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B415-A122-4186-88FD-F73014423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A9FF-6579-4146-A702-163D39A59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28D9-D0DF-41AA-A629-6C0048ADD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C06B-C08E-4AC2-ACE8-A3F4B6E2E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5887-6B71-49EF-8EA0-384861F37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79EB-A182-4826-8940-5B20FE9C8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0A16-72FE-475C-9181-DA8C9DA44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52DD-66BC-4D18-AF50-882ECFD5C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AFB4-8260-44F2-93F7-1A35067FE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71F9-E300-4286-8543-20722A7AD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9752-F8AD-4678-93F0-346CA27C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AEDFE-962A-4BC0-A12B-200F38A846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0000"/>
                </a:solidFill>
                <a:latin typeface="Arial"/>
              </a:rPr>
              <a:t>Presentación IN77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 u="sng">
                <a:solidFill>
                  <a:srgbClr val="000066"/>
                </a:solidFill>
                <a:uFillTx/>
                <a:latin typeface="Arial"/>
              </a:rPr>
              <a:t>Swap de Cáma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Integrantes: Gonzalo Matur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Sebastián Me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                                 </a:t>
            </a: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Javier P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1052640"/>
            <a:ext cx="691344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66"/>
                </a:solidFill>
                <a:latin typeface="Arial"/>
              </a:rPr>
              <a:t>Us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Bancos que corren riesgo de “overnight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Arbitraje (JP Morga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Negocios (ganar sprea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11280" y="1052640"/>
            <a:ext cx="691344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66"/>
                </a:solidFill>
                <a:latin typeface="Arial"/>
              </a:rPr>
              <a:t>Valoriz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Arial"/>
              </a:rPr>
              <a:t>VP=0 en el momento de la estructu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Arial"/>
              </a:rPr>
              <a:t>Después de la estructur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Arial"/>
              </a:rPr>
              <a:t>Dependerá de la variación del I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Arial"/>
              </a:rPr>
              <a:t>La variable aleatoria es el ICP en el día de la compensación. Del mercado de Swaps, se pueden inferir la estructura del IC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11280" y="1052640"/>
            <a:ext cx="691344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66"/>
                </a:solidFill>
                <a:latin typeface="Arial"/>
              </a:rPr>
              <a:t>Riesg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Riesgo de 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Ejemplo: Si se tomó la posición de tasa fija, si la TCIP baja, se tendría una pérdi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Riesgo de no pa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1280" y="1052640"/>
            <a:ext cx="691344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9640" y="1197000"/>
            <a:ext cx="8209080" cy="28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Swaps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son operaciones de cambio de flujos de caja con una contrapar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Gastineau(*) define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swap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como “contrato de cambio de pagamientos periódicos con una contraparte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66"/>
                </a:solidFill>
                <a:latin typeface="Arial"/>
              </a:rPr>
              <a:t>Que es un Swap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1052640"/>
            <a:ext cx="691344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66"/>
                </a:solidFill>
                <a:latin typeface="Arial"/>
              </a:rPr>
              <a:t>Mecanica del Swap de Cáma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Se cambia Tasa fija por el Índice Promedio de Cámara (ICP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Ejemplo: Si el Swap tiene un Nocional de $100MM y la tasa fijada en la estructuración es x%, los que pagarían los agentes, suponiendo un siguiente pago en 30 días serí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Quien toma la tasa fija:</a:t>
            </a: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100*x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Quien toma el ICP:</a:t>
            </a: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100*((ICP</a:t>
            </a:r>
            <a:r>
              <a:rPr b="0" lang="es-CL" sz="1000" spc="-1" strike="noStrike">
                <a:solidFill>
                  <a:srgbClr val="000066"/>
                </a:solidFill>
                <a:latin typeface="Arial"/>
              </a:rPr>
              <a:t>30</a:t>
            </a: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/ICP</a:t>
            </a:r>
            <a:r>
              <a:rPr b="0" lang="es-CL" sz="10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)-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1280" y="1052640"/>
            <a:ext cx="691344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66"/>
                </a:solidFill>
                <a:latin typeface="Arial"/>
              </a:rPr>
              <a:t>Indice promedio de Camara (IC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bjetivo del Índice de Cámara Prome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66"/>
                </a:solidFill>
                <a:latin typeface="Arial"/>
              </a:rPr>
              <a:t>Busca representar el costo de fondos equivalente de financiar una posición a la tasa overnight, utilizando para esto la Tasa Cámara Interbancaria Promedio informada por el Banco Central de Ch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eterminación y Publicación del Índice de Cámara Prome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66"/>
                </a:solidFill>
                <a:latin typeface="Arial"/>
              </a:rPr>
              <a:t>El Índice de Cámara Promedio será determinado cada día hábil bancario por la Asociación de Bancos e Instituciones Financieras de Chile A.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66"/>
                </a:solidFill>
                <a:latin typeface="Arial"/>
              </a:rPr>
              <a:t>Informado diariamente, antes de las 10:00 horas, a todas las instituciones financieras, a través de SINACOF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1052640"/>
            <a:ext cx="691344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66"/>
                </a:solidFill>
                <a:latin typeface="Arial"/>
              </a:rPr>
              <a:t>Indice promedio de Camara (IC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etodología de cálcu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66"/>
                </a:solidFill>
                <a:latin typeface="Arial"/>
              </a:rPr>
              <a:t>Se expresa y publica la TCIP la que es anual compuesta en base 360 días. Para expresar esta tasa en base lineal mensual A/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l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Índice de Cámara Promedio (ICP)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 construirá a partir de la TCIPbase mensual(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66"/>
                </a:solidFill>
                <a:latin typeface="Arial"/>
              </a:rPr>
              <a:t>Matemáticamente, el cálculo se realiza de la siguiente form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1052640"/>
            <a:ext cx="691344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66"/>
                </a:solidFill>
                <a:latin typeface="Arial"/>
              </a:rPr>
              <a:t>Indice promedio de Camara (IC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CIPbase mensual(i)= ((( 1 + TCIP(i) /100 ) (30 /360) ) - 1) x 100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Arial"/>
              </a:rPr>
              <a:t>Dond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TCIP(i)</a:t>
            </a:r>
            <a:r>
              <a:rPr b="0" lang="es-ES_tradnl" sz="1800" spc="-1" strike="noStrike">
                <a:solidFill>
                  <a:srgbClr val="000066"/>
                </a:solidFill>
                <a:latin typeface="Arial"/>
              </a:rPr>
              <a:t> :Tasa Cámara Interbancaria Promedio del día i publicada por el Banco Central de Chile, base anu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TCIPbase mensual(i)</a:t>
            </a:r>
            <a:r>
              <a:rPr b="0" lang="es-ES_tradnl" sz="1800" spc="-1" strike="noStrike">
                <a:solidFill>
                  <a:srgbClr val="000066"/>
                </a:solidFill>
                <a:latin typeface="Arial"/>
              </a:rPr>
              <a:t> :Tasa Cámara Interbancaria Promedio en base mensual para el día i, la que debe ser redondeada a dos decimales según convención de mercad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1052640"/>
            <a:ext cx="691344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66"/>
                </a:solidFill>
                <a:latin typeface="Arial"/>
              </a:rPr>
              <a:t>Indice promedio de Camara (IC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Arial"/>
              </a:rPr>
              <a:t>Lueg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CP(i) = ICP(i-1) x ( 1 + TCIPbase mensual(i-1) x Ndías / 30 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Arial"/>
              </a:rPr>
              <a:t>Dond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ICP(i)</a:t>
            </a:r>
            <a:r>
              <a:rPr b="0" lang="es-ES_tradnl" sz="1800" spc="-1" strike="noStrike">
                <a:solidFill>
                  <a:srgbClr val="000066"/>
                </a:solidFill>
                <a:latin typeface="Arial"/>
              </a:rPr>
              <a:t> :Indice Cámara Promedio de día 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ICP(i-1)</a:t>
            </a:r>
            <a:r>
              <a:rPr b="0" lang="es-ES_tradnl" sz="1800" spc="-1" strike="noStrike">
                <a:solidFill>
                  <a:srgbClr val="000066"/>
                </a:solidFill>
                <a:latin typeface="Arial"/>
              </a:rPr>
              <a:t> :Indice Cámara Promedio del hábil bancario anterior al día 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TCIPbase mensual(i-1)</a:t>
            </a:r>
            <a:r>
              <a:rPr b="0" lang="es-ES_tradnl" sz="1800" spc="-1" strike="noStrike">
                <a:solidFill>
                  <a:srgbClr val="000066"/>
                </a:solidFill>
                <a:latin typeface="Arial"/>
              </a:rPr>
              <a:t> :Tasa Cámara Interbancaria Promedio del día hábil bancario anterior al día 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Ndías</a:t>
            </a:r>
            <a:r>
              <a:rPr b="0" lang="es-ES_tradnl" sz="1800" spc="-1" strike="noStrike">
                <a:solidFill>
                  <a:srgbClr val="000066"/>
                </a:solidFill>
                <a:latin typeface="Arial"/>
              </a:rPr>
              <a:t> :Número de días por el cual corresponde aplicar la Tasa Cámara Promedio Mensual publicada el día hábil bancario anterior al día i. En general Ndías será igual a 1 salvo los días posteriores a fines de semana o festivos, fecha en la cual corresponderá al número de días no hábiles bancario previos al día i más 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1052640"/>
            <a:ext cx="691344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66"/>
                </a:solidFill>
                <a:latin typeface="Arial"/>
              </a:rPr>
              <a:t>Indice promedio de Camara (IC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1052640"/>
            <a:ext cx="691344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92200" y="2152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55640" y="1916280"/>
            <a:ext cx="7704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alor inic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l valor inicial del Índice de Cámara Promedio comenzó con un valor inicial de 10.000,00, el día 2 de septiembre de 2002, y se ha incrementado en forma diaria desde entonces (según fórmul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66"/>
                </a:solidFill>
                <a:latin typeface="Arial"/>
              </a:rPr>
              <a:t>Estructur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No arbitr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Proyección del I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1280" y="1052640"/>
            <a:ext cx="691344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2T02:51:59Z</dcterms:created>
  <dc:creator>sebastian</dc:creator>
  <dc:description/>
  <dc:language>en-US</dc:language>
  <cp:lastModifiedBy>Gonmat</cp:lastModifiedBy>
  <dcterms:modified xsi:type="dcterms:W3CDTF">2005-09-22T15:16:40Z</dcterms:modified>
  <cp:revision>15</cp:revision>
  <dc:subject/>
  <dc:title>Slide 1</dc:title>
</cp:coreProperties>
</file>