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D026-15E4-4419-AE67-D99796114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4AF7-03E2-41C3-BF93-96C03764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7F35-E87F-4509-8F0D-88CCDE9D2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97A5-005B-4FC5-BD36-1131BCAEA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4FF6-AC3E-4F3C-AEE2-BEF07F09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35C5-182B-4730-B612-C08127DD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2513-83A6-463B-82F5-CDAFB8A0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0FD4-79DA-4A40-BB1B-CF89E4AD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DC51-5523-4F4E-B6B2-255ECB42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88A3-E8F8-44FF-8CEE-5C01C4F3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E0FA-BA5C-498F-906C-C4F4C9A4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4F18-591B-4BD0-A130-E0674308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33D4-8856-4808-B505-D067D7EE8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0000"/>
                </a:solidFill>
                <a:latin typeface="Arial"/>
              </a:rPr>
              <a:t>Presentación IN77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 u="sng">
                <a:solidFill>
                  <a:srgbClr val="000066"/>
                </a:solidFill>
                <a:uFillTx/>
                <a:latin typeface="Arial"/>
              </a:rPr>
              <a:t>Swap de Cáma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Integrantes: Gonzalo Matur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Sebastián M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                                 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Javier P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9640" y="1197000"/>
            <a:ext cx="820908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Swap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son operaciones de cambio con una contrapar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astineau(*) define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swap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como “contrato de cambio de pagamientos periódicos con una contrapart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Que es un Swap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Mecanica del Swap de Cáma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Se cambia Tasa fija por el Indice Promedio de Cámara (IC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Indice promedio de Camara (IC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bjetivo del Índice de Cámara Pro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Busca representar el costo de fondos equivalente de financiar una posición a la tasa overnight, utilizando para esto la Tasa Cámara Interbancaria Promedio informada por el Banco Central de Ch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terminación y Publicación del Índice de Cámara Pro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El Índice de Cámara Promedio será determinado cada día hábil bancario por la Asociación de Bancos e Instituciones Financieras de Chile A.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Informado diariamente, antes de las 10:00 horas, a todas las instituciones financieras, a través de SINACOF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Indice promedio de Camara (IC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todología de cálc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Se expresa y publica la TCIP la que es anual compuesta en base 360 días. Para expresar esta tasa en base lineal mensual A/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l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Índice de Cámara Promedio (ICP)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 construirá a partir de la TCIPbase mensual(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lor inicial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l valor inicial del Índice de Cámara Promedio comenzó con un valor inicial de 10.000,00, el día 2 de septiembre de 2002, y se ha incrementado en forma diaria desde entonces (según fórmu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Estructur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No arbitr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Proyección del I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Us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Bancos que corren riesgo de “overnight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Arbitraje (JP Morga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Negocios (ganar sprea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Valoriz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Arial"/>
              </a:rPr>
              <a:t>VP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Arial"/>
              </a:rPr>
              <a:t>Dependerá de la variación del I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Riesg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Riesgo de 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Riesgo de no p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1052640"/>
            <a:ext cx="69134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02:51:59Z</dcterms:created>
  <dc:creator>sebastian</dc:creator>
  <dc:description/>
  <dc:language>en-US</dc:language>
  <cp:lastModifiedBy>Gonmat</cp:lastModifiedBy>
  <dcterms:modified xsi:type="dcterms:W3CDTF">2005-09-22T15:18:32Z</dcterms:modified>
  <cp:revision>8</cp:revision>
  <dc:subject/>
  <dc:title>Slide 1</dc:title>
</cp:coreProperties>
</file>