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539-052B-4A90-B4CF-C1F03E7A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00-EA75-4DEA-A11D-29A0F38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C67-345C-40EC-BE06-F8CBCF75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8E0-F73C-4B08-82D6-10F8E5A9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36D-5083-462A-B929-A25BBEE4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444-4C02-4FC1-92D1-C52F8C63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ECD-EBFE-4440-98FD-E2CD53D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8D7-75C0-4152-B2F0-78C6739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77F-30F3-48DF-8CCA-74ED2F8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83C-B635-47C0-B369-FD446E1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FF0-82CC-46A3-A834-3F91AE0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14F-DA6D-4E95-827E-2A49218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48A-B9D9-4B27-BDD9-2C0845F8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 en el momento de la estruc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spués de la estructu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La variable aleatoria es el ICP en el día de la compensación. Del mercado de Swaps, se pueden inferir la estructura del I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se tomó la posición de tasa fija, si la TCIP baja, se tendría una pé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de flujos de caja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e cambia Tasa fija por el Í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jemplo: Si el Swap tiene un Nocional de $100MM y la tasa fijada en la estructuración es x%, los que pagarían los agentes, suponiendo un siguiente pago en 30 días ser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la tasa fija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x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Quien toma el ICP: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00*((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/ICP</a:t>
            </a:r>
            <a:r>
              <a:rPr b="0" lang="es-CL" sz="1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)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Matemáticamente, el cálculo se realiza de la siguient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CIPbase mensual(i)= ((( 1 + TCIP(i) /100 ) (30 /360) ) - 1) x 10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i publicada por el Banco Central de Chile, base an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en base mensual para el día i, la que debe ser redondeada a dos decimales según convención de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P(i) = ICP(i-1) x ( 1 + TCIPbase mensual(i-1) x Ndías / 30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on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CP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Indice Cámara Promedio del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CIPbase mensual(i-1)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Tasa Cámara Interbancaria Promedio del día hábil bancario anterior al dí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Ndías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:Número de días por el cual corresponde aplicar la Tasa Cámara Promedio Mensual publicada el día hábil bancario anterior al día i. En general Ndías será igual a 1 salvo los días posteriores a fines de semana o festivos, fecha en la cual corresponderá al número de días no hábiles bancario previos al día i más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916280"/>
            <a:ext cx="770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6:40Z</dcterms:modified>
  <cp:revision>15</cp:revision>
  <dc:subject/>
  <dc:title>Slide 1</dc:title>
</cp:coreProperties>
</file>