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4C8-BD41-4032-9BE0-52F451C3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28F-6BCE-4972-AE82-54A7C4BB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FCF-4248-474E-98FE-E8A886D3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56F-50D3-479F-975E-6BE78EF4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1D78-BAB9-4C08-8F44-69C74467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BF0-D61A-48F4-B4A0-6C6A3DBA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7FAF-97E7-4535-992A-98161A46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8317-3ADB-48EE-A779-ED840785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7C72-038D-47C6-BAA9-6D5D07DA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6825-9AC3-482C-BD4F-B930E2F5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E608-8990-4E16-BCC3-49913069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79A-C75D-4C9C-9F0B-7AAAC623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004B-E011-466D-A1DE-B9D9F583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3545-04BD-48D9-9F81-E0FEFA65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6907-99D4-40B2-A760-1FC423B5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C16A-13C7-4F1C-9FA8-B090CB2B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3A80-C589-4CC0-A89D-1210B5FB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467-0452-4D1A-B499-FB95715F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66E-90F9-420F-8551-EE8D3C89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E28-55D6-459F-A7AF-9C9D5EBB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77D-E017-4FF8-BB25-8E07AE98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E5B-6BC7-4CCC-BDE0-9FB3F7A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2C4-CECA-4C69-938C-305F05E5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140-EABD-493D-A6B7-A160D732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99A-E3F3-4B6A-A6EF-16BAF67CA2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AC2A-3B18-463E-AA41-35AFF98AD4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ux6.xls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ux6.xl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ola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cur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di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lor en Riesgo (V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Volatilidad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76520"/>
            <a:ext cx="75438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curs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skmetr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ndera de mejor forma el pasado 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di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Ejemp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76720" y="3733920"/>
                <a:ext cx="1879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95680" y="3352680"/>
                <a:ext cx="11937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00400" y="1828800"/>
                <a:ext cx="2362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38280" y="2514600"/>
                <a:ext cx="762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VaR no es un metodo de estimacón del riesgo, es una estimación cuantitativa del Riesg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el caso accionario el VaR es: “La Peor Pérdida esperada en el valor de una acción , en un intervalo de tiempo determinado, bajo condiciones normales de mercado, ante un nivel de confianza dad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Proceso consiste básicamente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Identificar variables que generan Rie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Estimación de la distribución de probabilidad de estas varia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Se estiman las relaciones estadisticas entre las Variables de Rie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Calculo del V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Mar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Incre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09880" y="1905120"/>
                <a:ext cx="3386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σ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809880" y="2819520"/>
                <a:ext cx="48974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4038480"/>
                <a:ext cx="4012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86120" y="5861160"/>
                <a:ext cx="3756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sted compró 250 Acciones de Endesa, Enersis,DyS y SQM B, se le pide determinar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Indivi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S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 Igor Riquelme Vásquez</cp:lastModifiedBy>
  <dcterms:modified xsi:type="dcterms:W3CDTF">2005-10-25T05:33:57Z</dcterms:modified>
  <cp:revision>30</cp:revision>
  <dc:subject/>
  <dc:title>AUXILIAR 1</dc:title>
</cp:coreProperties>
</file>