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F97-D42C-4D8B-AF45-9B78D32F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5FA-A39A-40CF-A0FD-7DB1DC00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887-5C82-462A-8556-74898A18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6DE-6193-4A59-9481-894D0FFE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2913-ADFE-4D13-B88D-D9197110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2BDD-3606-43B4-9172-735155F3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295-8C50-49EB-8321-8B458C7B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65CB-B3CE-4A1C-9621-39D23082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7750-BA38-4CCA-BF88-134896A8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34BC-70FA-4051-AFE3-F9C94D54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40FF-29F4-41F2-8FE6-031052CE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6E2-2B01-4675-9F24-ED27541E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8EC2-4476-41D7-95B0-803F19C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8E8E-5674-414E-9B4C-C5E6F64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2028-0432-47A5-AA09-F39295C4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E70F-0C06-4E0C-9D60-8C360DF1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CAA9-7079-4C1D-A771-37173038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477-4B9E-47A3-ABF5-6B5091A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0EF-DC27-4AB0-A2D7-50A448B8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8C0-3ABE-4145-B0F0-3D89F410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B71-9179-47EE-ACE2-24893516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0C4-9A26-4FD0-BCDE-5776E90A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676-50E1-4514-B4F6-32D0FDE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A1D-C313-45B9-9921-B26B57A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B346-2B26-4097-9F55-9B554CF815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A16-C9D0-4E81-B130-EDE4A3F0A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ola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lor en Riesgo (V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Volatilidad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76520"/>
            <a:ext cx="7543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skmetr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ndera de mejor forma el pasado 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Ejemp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76720" y="3733920"/>
                <a:ext cx="1879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95680" y="3352680"/>
                <a:ext cx="11937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00400" y="1828800"/>
                <a:ext cx="2362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38280" y="2514600"/>
                <a:ext cx="762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VaR no es un metodo de estimacón del riesgo, es una estimación cuantitativa del Riesg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el caso accionario el VaR es: “La Peor Pérdida esperada en el valor de una acción , en un intervalo de tiempo determinado, bajo condiciones normales de mercado, ante un nivel de confianza dad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Proceso consiste básicamente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Identificar variables que generan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Estimación de la distribución de probabilidad de estas vari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Se estiman las relaciones estadisticas entre las Variables de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Calculo del V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9880" y="1905120"/>
                <a:ext cx="3386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σ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809880" y="2819520"/>
                <a:ext cx="4897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4038480"/>
                <a:ext cx="4012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6120" y="5861160"/>
                <a:ext cx="3756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sted compró 250 Acciones de Endesa, Enersis,DyS y SQM B, se le pide determinar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S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 Igor Riquelme Vásquez</cp:lastModifiedBy>
  <dcterms:modified xsi:type="dcterms:W3CDTF">2005-10-25T05:33:57Z</dcterms:modified>
  <cp:revision>30</cp:revision>
  <dc:subject/>
  <dc:title>AUXILIAR 1</dc:title>
</cp:coreProperties>
</file>