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369-E53F-4516-A265-F6E1510E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8EC-6F1C-4DD9-B0D3-B0EC0A26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385-2BF0-440D-A00A-0DF24F0E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85F-8FC9-4909-821F-B58C3B4F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8D36-A36A-4AD0-8B4A-08AD6FDD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834E-610F-4271-958D-6AEA7D37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E7DB-B701-46D0-ADBD-38725A65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CCD7-B5D3-4C70-A615-18F0EC41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D768-D34B-463C-A7CC-0F77240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FC8E-ECFC-458F-A56C-E38C70A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045E-593B-4DB4-9284-27D9026F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A0A-E096-442F-983F-877187AB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079A-C893-4B63-986E-67CC437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0220-91D9-43A5-AC2E-A10BF4E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B97F-CC69-4C7A-8DBA-BFA707A4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2E4B-8C2D-4906-BAAB-66B223CD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9691-CB61-4DCC-B688-AA9F0D14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2D1-22AD-4777-96C9-84AAF5B1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8C2-6E16-47C9-95C5-04DA29B5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D01-A0B6-49EF-9529-3BCE166B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A33-2D1B-4FF2-A244-8B7C66C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830-2E83-4E21-BF51-1E3ED55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987-226C-4311-B8B2-058F61F6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EBB-9FC2-4DE1-97AC-57A410F5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2D2F-8817-4639-85E8-4D4814434E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F0D7-C402-4409-8018-709F1C28E8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ola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lor en Riesgo (V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Volatilidad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76520"/>
            <a:ext cx="7543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skmetr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ndera de mejor forma el pasado 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Ejemp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76720" y="3733920"/>
                <a:ext cx="1879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95680" y="3352680"/>
                <a:ext cx="11937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00400" y="1828800"/>
                <a:ext cx="2362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38280" y="2514600"/>
                <a:ext cx="762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VaR no es un metodo de estimacón del riesgo, es una estimación cuantitativa del Riesg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el caso accionario el VaR es: “La Peor Pérdida esperada en el valor de una acción , en un intervalo de tiempo determinado, bajo condiciones normales de mercado, ante un nivel de confianza dad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Proceso consiste básicamente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Identificar variables que generan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Estimación de la distribución de probabilidad de estas vari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Se estiman las relaciones estadisticas entre las Variables de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Calculo del V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9880" y="1905120"/>
                <a:ext cx="3386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σ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809880" y="2819520"/>
                <a:ext cx="4897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4038480"/>
                <a:ext cx="4012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6120" y="5861160"/>
                <a:ext cx="3756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sted compró 250 Acciones de Endesa, Enersis,DyS y SQM B, se le pide determinar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S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 Igor Riquelme Vásquez</cp:lastModifiedBy>
  <dcterms:modified xsi:type="dcterms:W3CDTF">2005-10-25T05:33:57Z</dcterms:modified>
  <cp:revision>30</cp:revision>
  <dc:subject/>
  <dc:title>AUXILIAR 1</dc:title>
</cp:coreProperties>
</file>