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38C-2E8F-4C81-9E3F-9C1DE746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F050-B8FA-4088-95B2-9F870EDC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2435-F140-4D5E-A7A8-A4A58B1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15E7-A228-471E-B01B-6B9FCA03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0011-80C3-40C3-9C9A-A57E95C5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84B6-1D72-445C-85F1-BBFBBB47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09FC-42BA-48A7-85E0-8E24E61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44D0-DD6C-4B38-B352-C7BFAD74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0EB2-36D0-4F08-A2CE-DF20FEB8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50E-30DE-46EC-9D1A-888335D0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D285-9F90-41F2-B034-C6AD23C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C4B-013F-4E1E-94DE-43FB24C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A49-C68B-4142-B2E9-764CD1FD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4A01-11EB-4E50-AFCA-C6E6C078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E8BC-F499-4D8D-BA7C-5CB4666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3952-B994-4D7A-8889-254254C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62E4-69B7-42DD-A9B8-8D02F539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CA7-D13C-49CE-B3E9-E03CF958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A17-2481-4971-8814-EC21F05E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8FC-9CF6-4659-933B-C36A8B7C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8E1-D20D-40C0-B451-CB5FE28F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F9D-0833-4A75-8426-A9C983B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7C9-4FC0-4D7F-8133-90E81A51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E45-D6F2-44A1-9CD4-B2A0454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0913-DEB1-4E3B-B260-77FFDC2A4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5F91-0035-4FEB-9ED2-C300FAE85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n Riesgo (V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Volatilidad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54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sk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ndera de mejor forma el pasado 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76720" y="3733920"/>
                <a:ext cx="1879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95680" y="3352680"/>
                <a:ext cx="1193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0040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38280" y="2514600"/>
                <a:ext cx="762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VaR no es un metodo de estimacón del riesgo, es una estimación cuantitativa del Riesg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el caso accionario el VaR es: “La Peor Pérdida esperada en el valor de una acción , en un intervalo de tiempo determinado, bajo condiciones normales de mercado, ante un nivel de confianza dad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ceso consiste básicamente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Identificar variables que generan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stimación de la distribución de probabilidad de estas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Se estiman las relaciones estadisticas entre las Variables de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Calculo del V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9880" y="1905120"/>
                <a:ext cx="338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9880" y="2819520"/>
                <a:ext cx="4897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038480"/>
                <a:ext cx="4012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6120" y="5861160"/>
                <a:ext cx="3756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ted compró 250 Acciones de Endesa, Enersis,DyS y SQM B, se le pide determina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 Igor Riquelme Vásquez</cp:lastModifiedBy>
  <dcterms:modified xsi:type="dcterms:W3CDTF">2005-10-25T05:33:57Z</dcterms:modified>
  <cp:revision>30</cp:revision>
  <dc:subject/>
  <dc:title>AUXILIAR 1</dc:title>
</cp:coreProperties>
</file>