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E6C-CFA6-4AC9-8537-69F2BFDB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9BD-07E5-4210-9380-068D274E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E91-657F-47E3-A4FD-7AE7B0C0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487-8100-4612-94F4-3B5A3DE8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67B7-E40E-4714-B817-27C7DFBD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4640-D039-41C7-AB10-8CB169CC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A5FB-FD6B-40A8-9BC1-AEE9DFFE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0D8A-C74F-4A64-A4F0-09CD815C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2241-EE92-4878-BFC6-BDE005C3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74D1-E747-4F31-BFB0-809B32A0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AE9B-896D-4996-B024-D2BF6C7B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4B1-C06C-4E3A-BFF3-3C6E4FF7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3DAC-E9E6-48DC-8C6D-42A3A735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449B-15F7-433C-A62F-022373C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936C-F3E3-4B7E-BEEB-935C74E1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6B58-6E55-40AC-8C52-FD91F2E6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DED5-193D-402A-9935-0AAD4981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EF7-BEB7-49EC-877F-89B1890C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DF9-0BE2-4496-8DDD-54DAC10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41A-B97D-4DCC-A0F1-47A5EF47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F97-8F8D-41E4-BE81-6AB2E634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93A-6695-46D8-A8BE-80B4168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6AA-7FD6-4046-AD0E-AD85B7D4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504-3A54-4D2D-859F-3774A1B1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BB3E-2CA5-4F4E-9BCC-6785BEAA5B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C021-0CEB-4A73-B79B-39E8731590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vs.cl/sitio/html/merc_valores/f_valores.html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ciona una entidad de SVS y revisa si el capital esta inmuniz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de Varianza – Covaria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bilidad Op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folio Opt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7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Inversionista les entrega 10.000.000 de Pesos para que lo inviertan en la Bolsa, que acciones tomaría usted para cada acción si quiere obtener la rentabilidad opti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Objetivo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Tasas de 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lson Sieg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str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 8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el mercado se encuentran los siguientes bono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ono A, que es un Bono Cupón Cero a un año, que se adquiere por 100 MUS y se amortiza por 110 MU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ono B, que es un Bono Cupón Explícito del 8% anual, que madura a los dos años por el nominal que es de 1.000 MUS. La periodicidad del cupón es anual y el próximo vence dentro de un año, adquiriéndose en estos momentos por un precio PB, que supone una TIR del 9%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r la TIR de un Bono C que es un Bono Cupón Cero Implícito y duración 2 año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23120"/>
            <a:ext cx="307980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 el mercado se encuentran los siguientes bonos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123120"/>
            <a:ext cx="593892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ono 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es un Bono Cupón Cero a un año, que se adquiere por 100 € y se amortiza por 110 €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212760"/>
            <a:ext cx="9144000" cy="425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ono B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es un Bono Cupón Explícito del 8% anual, que madura a los dos años por el nominal que es de 1.000 €. La periodicidad del cupón es anual y el próximo vence dentro de un año, adquiriéndose en estos momentos por un precio P</a:t>
            </a:r>
            <a:r>
              <a:rPr b="0" lang="en-US" sz="10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supone una TIR del 9%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-200160"/>
            <a:ext cx="50306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lcular la TIR de un Bono C que es un Bono Cupón Cero Implícito y duración 2 año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-2001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-2001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97720" y="453960"/>
            <a:ext cx="1504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92560" y="453960"/>
            <a:ext cx="1505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54280" y="45396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360" y="45396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52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68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84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06440"/>
            <a:ext cx="810252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44440"/>
            <a:ext cx="81025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97720" y="0"/>
            <a:ext cx="1504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92560" y="0"/>
            <a:ext cx="1505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54280" y="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360" y="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810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98400"/>
            <a:ext cx="810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0" cy="69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02520" y="0"/>
            <a:ext cx="0" cy="69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Cual es la diferencia entre la TIR, la tasa spot y la tasa forwar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Cuál Tasa necesitamo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ono 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ecio Actual 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aduración 1 año con valor 1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-100 = 110 / (1+TIR)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TIR = 1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566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3276720" y="3429000"/>
            <a:ext cx="358560" cy="1511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R = 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ono B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upón 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aduración 2 año con valor 10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TIR = 9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ecio Actual =  80 / (1+TIR)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1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+  1080 / (1+TIR)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= 982,41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566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3276720" y="3068640"/>
            <a:ext cx="358560" cy="1511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32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R = 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796000" y="443700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861080" y="3068640"/>
            <a:ext cx="358560" cy="1511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4076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32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R = 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ono C: (Bootstripp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imer Cupón 80 a 1 año con tasa Spot = TIR (bono 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gundo Cupón 1080 a 2 años con tasa Spot 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982,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3347640" y="350028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1636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1 =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796000" y="443700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104000" y="1879920"/>
            <a:ext cx="358920" cy="3024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4076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278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2 = X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Matemática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ono C: (Bootstripp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Precio del Bono C es igual a la suma de los bonos cero cup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-982,41 = 80 / (1+R1)^1 + 1080 / (1 + R2)^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2 = 8,96 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982,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3347640" y="350028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1 =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796000" y="443700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4104000" y="1879920"/>
            <a:ext cx="358920" cy="3024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4076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278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2 = X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 9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lcular el tipo forward implicito para el periodo de t=1 a t=2 años, del problema anterior. (Trabajar en compuesta)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-123120"/>
            <a:ext cx="307980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 el mercado se encuentran los siguientes bonos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-123120"/>
            <a:ext cx="593892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ono 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es un Bono Cupón Cero a un año, que se adquiere por 100 € y se amortiza por 110 €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-212760"/>
            <a:ext cx="9144000" cy="425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ono B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es un Bono Cupón Explícito del 8% anual, que madura a los dos años por el nominal que es de 1.000 €. La periodicidad del cupón es anual y el próximo vence dentro de un año, adquiriéndose en estos momentos por un precio P</a:t>
            </a:r>
            <a:r>
              <a:rPr b="0" lang="en-US" sz="10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supone una TIR del 9%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-200160"/>
            <a:ext cx="50306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lcular la TIR de un Bono C que es un Bono Cupón Cero Implícito y duración 2 año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-2001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-2001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97720" y="453960"/>
            <a:ext cx="1504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2560" y="453960"/>
            <a:ext cx="1505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54280" y="45396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60" y="45396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52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68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84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06440"/>
            <a:ext cx="810252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4440"/>
            <a:ext cx="81025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97720" y="0"/>
            <a:ext cx="1504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92560" y="0"/>
            <a:ext cx="1505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54280" y="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360" y="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6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810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8400"/>
            <a:ext cx="810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0" cy="69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02520" y="0"/>
            <a:ext cx="0" cy="69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1+R2)^2=(1+R1)(1+F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pejando = 7.92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3347640" y="350028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1 =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96000" y="486900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4104000" y="1879920"/>
            <a:ext cx="358920" cy="3024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2781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2 = 8,9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4860720" y="350028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3645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12 = X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Nelsón Sieg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nemos N Bo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ocemos el Vector (yj , cj , tj) para el bono j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T jk   periodo de vencimiento anualizado del período K del bono j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nj  el número de cup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Por lo tanto el precio observado es igual a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663560" y="5950080"/>
                <a:ext cx="1170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jk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jk</m:t>
                            </m:r>
                            <m:r>
                              <m:t xml:space="preserve">)</m:t>
                            </m:r>
                          </m:lim>
                        </m:limUpp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j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limUpp>
                              <m:e>
                                <m:r>
                                  <m:t xml:space="preserve">S</m:t>
                                </m:r>
                              </m:e>
                              <m:lim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jk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jk</m:t>
                                </m:r>
                              </m:lim>
                            </m:limUpp>
                          </m:sup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61" name=""/>
          <p:cNvGraphicFramePr/>
          <p:nvPr/>
        </p:nvGraphicFramePr>
        <p:xfrm>
          <a:off x="2771640" y="3429000"/>
          <a:ext cx="40388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429000"/>
                    <a:ext cx="40388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859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oblema que se plantea resolver 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-583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79640" y="1341360"/>
          <a:ext cx="5400720" cy="13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341360"/>
                    <a:ext cx="54007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050920" y="3933720"/>
          <a:ext cx="547380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933720"/>
                    <a:ext cx="547380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lson Sieg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tasa spot según NS se ajusta de la for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55640" y="2637000"/>
          <a:ext cx="80643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8064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lson Siegel al problema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ocemos el vector (P, y, c, t) para cada Bono ( N=2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lculamos la tasa spot NS dándonos un set de parámetros (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abemos qu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0 &gt; 0; Tasa Largo Plazo y qu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be estar entre 1 y 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ada la Tasa Spot calculamos el precio de cada bon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alculamos la función RM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 Solver de Excel minimizamos la Función RMSE sujeto a las restricciones estipul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a 1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e la estructura tasa de los bonos presentados en la planilla Excel. Utilizando los métodos aprendi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idio a la inver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sta pensando en subsidiar a los agricultores de la VI Región para que realicen una inversión de 5.000 M UF en nuevas tecnologí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estiman que los ingresos anuales crecerán a una tasa del 5% durante 15 años. El primer año esperan recaudar 400 M 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costos de operación son un 25% de los 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ntregará el subsidio en 10 cuotas iguales.  De tal forma que la utilidad sea c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l subsid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 la cuota anual que el Gobierno entregará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asa de descuento es del 10% según MIDEPL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1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5805360"/>
            <a:ext cx="1079280" cy="719280"/>
          </a:xfrm>
          <a:prstGeom prst="rightArrow">
            <a:avLst>
              <a:gd name="adj1" fmla="val 50000"/>
              <a:gd name="adj2" fmla="val 3751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ndial 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necesita ahorrar M$ 3.000 para ir en Julio de 2006 al Mundial de Alemania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recibe un sueldo de M$ 800 Mens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Mayo 2006 recibe M$ 960 por la devolución de Impuestos.  Los que destinará a su vi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tasa de ahorro es de 3,5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Fracción de su sueldo necesita ahorrar mensualm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2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ula quiere invertir en su Depto. las alternativas que le ofrecen distintos bancos son la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 Cual es la mejor alternativ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3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566100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58920" y="2852640"/>
          <a:ext cx="6622920" cy="2214720"/>
        </p:xfrm>
        <a:graphic>
          <a:graphicData uri="http://schemas.openxmlformats.org/drawingml/2006/table">
            <a:tbl>
              <a:tblPr/>
              <a:tblGrid>
                <a:gridCol w="2560680"/>
                <a:gridCol w="1355760"/>
                <a:gridCol w="1352520"/>
                <a:gridCol w="1353960"/>
              </a:tblGrid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z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F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Vari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s de O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3 años con cupones de MUF 100 al a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or cara de MUF 1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a de descuento 1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del B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4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5 años con cupón de 10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R es r = 12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y Duración Modific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o anterior si r baja a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5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mu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vs.cl/sitio/html/merc_valores/f_valore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6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Ministerio de Obras Publicas</cp:lastModifiedBy>
  <dcterms:modified xsi:type="dcterms:W3CDTF">2005-08-17T23:15:23Z</dcterms:modified>
  <cp:revision>26</cp:revision>
  <dc:subject/>
  <dc:title>AUXILIAR 1</dc:title>
</cp:coreProperties>
</file>