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7E9-E903-4181-92C7-FE233A79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ACD-7276-4A12-BFBE-A45E06A9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A62-6740-4EAE-A5B3-4C8E5668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D49-7397-4922-ACEF-20EF3682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9DC-4102-4E3D-AC17-D94D464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4E34-9EAE-4C29-A6E8-A01551E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4097-95E5-4296-AA4C-E443F294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7AF-023A-44B8-B809-2AAD6BB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FC87-7DAE-4A4C-BA84-4FC2F59B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51B1-1ADA-4AFE-BF31-5109026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092-2FE3-4AC5-9E58-8D5B2C5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253-3002-4782-9F3F-275F10B6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9CA3-DA10-4FB2-AAA3-EE7F532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293-FF78-4583-8EE5-D949A99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CEA3-F612-45AD-9F07-17CACE9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3FD3-CB42-47EF-80DF-C01115EA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9A6-9925-4481-9277-73EA67B8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C11-A88F-4391-A05B-B66E04C4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C19-6EEA-4EBD-84C8-C87D0B3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618-DEDF-4711-BCB8-DA173F6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7B8-09A5-4274-98B8-AC59DC9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B45-C464-41ED-8902-8B60A29B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893-A207-4E70-A9DD-813D5DC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83F-438C-404B-8072-CB0F63F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A278-0F47-42B5-B6EE-240DED0B2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2A73-01A3-4B9D-A869-5AF6B600BE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a una entidad de SVS y revisa si el capital esta inmuniz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de Varianza – Covari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z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bilidad Op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folio Opt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7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oblem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Inversionista les entrega 10.000.000 de Pesos para que lo inviertan en la Bolsa, que acciones tomaría usted para cada acción si quiere obtener la rentabilidad opti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Matemática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idio a la inver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sta pensando en subsidiar a los agricultores de la VI Región para que realicen una inversión de 5.000 M UF en nuevas tecnologí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estiman que los ingresos anuales crecerán a una tasa del 5% durante 15 años. El primer año esperan recaudar 400 M 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ostos de operación son un 25% de los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gobierno entregará el subsidio en 10 cuotas iguales.  De tal forma que la utilidad sea ce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l subsid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¿Calcular el valor de la cuota anual que el Gobierno entregará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asa de descuento es del 10% según MIDE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1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5805360"/>
            <a:ext cx="1079280" cy="719280"/>
          </a:xfrm>
          <a:prstGeom prst="rightArrow">
            <a:avLst>
              <a:gd name="adj1" fmla="val 50000"/>
              <a:gd name="adj2" fmla="val 3751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ndial 20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necesita ahorrar M$ 3.000 para ir en Julio de 2006 al Mundial de Aleman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José recibe un sueldo de M$ 800 Men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Mayo 2006 recibe M$ 960 por la devolución de Impuestos.  Los que destinará a su vi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asa de ahorro es de 3,5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Fracción de su sueldo necesita ahorrar mensual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2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par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ula quiere invertir en su Depto. las alternativas que le ofrecen distintos bancos son las sigu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 Cual es la mejor alternativ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3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566100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2852640"/>
          <a:ext cx="6622920" cy="2214720"/>
        </p:xfrm>
        <a:graphic>
          <a:graphicData uri="http://schemas.openxmlformats.org/drawingml/2006/table">
            <a:tbl>
              <a:tblPr/>
              <a:tblGrid>
                <a:gridCol w="2560680"/>
                <a:gridCol w="1355760"/>
                <a:gridCol w="1352520"/>
                <a:gridCol w="1353960"/>
              </a:tblGrid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F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Vari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vidend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s de O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.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3 años con cupones de MUF 100 al 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or cara de MUF 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a de descuento 1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del Bo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4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ación de B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no a 5 años con cupón de 10%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R es r = 12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el 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a Duración y Duración Modific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r lo anterior si r baja a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5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87272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mu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svs.cl/sitio/html/merc_valores/f_valore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BLEMA 6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5813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Ministerio de Obras Publicas</cp:lastModifiedBy>
  <dcterms:modified xsi:type="dcterms:W3CDTF">2005-08-08T23:44:18Z</dcterms:modified>
  <cp:revision>14</cp:revision>
  <dc:subject/>
  <dc:title>AUXILIAR 1</dc:title>
</cp:coreProperties>
</file>