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0230C-96D2-4006-B1EA-B74B23FD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1CD94-8E28-428C-A654-0ED3F85E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12EA4-935C-43B8-8B4F-4517020E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B9326-C6CF-4503-908F-4FFA2792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B4E3B-90B6-49DE-91FF-7E3EA9AA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8D2AB-069E-4773-AE42-0409ECD7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23F86-1F4E-47FF-BFC0-6DA75B6A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1E5BA-3337-414D-A43D-7BA3A65D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E57E4-E98C-49C1-8F36-C463C511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A55A4-6BDA-4A4B-88EB-D38A7065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E8812-43E2-4966-9A81-DBA5DD65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0A94A-17F8-4F74-A86B-2F7D8A7D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8229600" y="5943600"/>
          <a:ext cx="91440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9600" y="594360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6E33-6CE1-4CC8-ACDA-FFC3EAD87D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Antonio Holgad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anto, cómo, dónde, con quien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O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 críticos, problemas y supues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Tesorerí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31760" y="1905120"/>
            <a:ext cx="6120000" cy="3306600"/>
            <a:chOff x="1031760" y="1905120"/>
            <a:chExt cx="6120000" cy="3306600"/>
          </a:xfrm>
        </p:grpSpPr>
        <p:sp>
          <p:nvSpPr>
            <p:cNvPr id="141" name=""/>
            <p:cNvSpPr/>
            <p:nvPr/>
          </p:nvSpPr>
          <p:spPr>
            <a:xfrm>
              <a:off x="1031760" y="520704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31760" y="312408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31760" y="416556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26200" y="1917720"/>
              <a:ext cx="4179600" cy="3294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efefe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82840" y="1905120"/>
              <a:ext cx="2860560" cy="2255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dfe4e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39120" y="1905120"/>
              <a:ext cx="1547640" cy="1218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eecd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55680" y="251460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12920" y="3352680"/>
              <a:ext cx="155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49200" y="426708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12920" y="2311560"/>
              <a:ext cx="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INDUSTRIA Y LA EMPRESA, SUS PRODUCTOS Y EL ENTOR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 </dc:creator>
  <dc:description/>
  <dc:language>en-US</dc:language>
  <cp:lastModifiedBy> </cp:lastModifiedBy>
  <dcterms:modified xsi:type="dcterms:W3CDTF">2005-05-18T16:01:04Z</dcterms:modified>
  <cp:revision>12</cp:revision>
  <dc:subject/>
  <dc:title>Modelo de Negocios</dc:title>
</cp:coreProperties>
</file>