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4587A-C94D-487C-8B2A-148362BA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E8908-EAC1-44B1-A496-ABD251F4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6B780-6E35-43BE-88C4-59460029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3147A-3601-41DF-ADC1-426CE3B1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1AE2D-9C72-48CC-A867-FEF9517B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26664-59DE-416D-9DAB-9D3E9FB6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F2E01-2BBF-42C9-98A7-373F2D8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1B7C9-794D-4642-9902-3D12BA29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71DFF-CFB1-4885-B6CF-EB403BD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344C1-565E-4F0A-BAE7-D081FD78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1C3CE-1506-4E85-9B1F-4E44F91E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797CF-7C8F-4F3F-8615-8A10E1DF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7147-5DA2-4C10-AD99-920B2D0158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ntonio Holgad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to, cómo, dónde, con quien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O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 críticos, problemas y supues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41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 </cp:lastModifiedBy>
  <dcterms:modified xsi:type="dcterms:W3CDTF">2005-05-18T16:01:04Z</dcterms:modified>
  <cp:revision>12</cp:revision>
  <dc:subject/>
  <dc:title>Modelo de Negocios</dc:title>
</cp:coreProperties>
</file>