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C9E-F1D3-4808-AF13-9E4947DD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0F8-C62B-4203-87E1-D4325AC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2EB-E985-46FE-AE4C-6C30D426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CBA-2A3A-46EF-8533-AC6254B3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84BD-5ABB-4486-BA28-746AFF92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4A13-DCDD-47BC-8D8E-F40C7F53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A5B6-386E-4136-AA61-41BFFD1B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BA44-1369-42EC-8808-9676F243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AB53-E9C7-4745-ABEF-957920A3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F14D-26AB-4E11-A5B3-1532241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D0B-683A-4DD7-A7A8-4BD6C99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584-DE82-49EE-9E3F-21C853B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6BA7-7625-431E-AFB7-9C7A7D1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F5D6-0B1B-48C2-AA76-7302FB3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6FE7-9ACA-48C3-9725-94306C8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F150-C35B-4CCF-876F-1754B46B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53E9-A386-497A-ACE9-F5FCB065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118-DD0A-4B1C-B87F-79263BC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F09-8688-48AC-B533-7383949B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B70-BC0B-4EC6-B743-FE54C169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58B-B14D-4892-8822-60D741B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143-7350-428C-9593-4B87A4E4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FC8-53CD-40A3-B6D8-AA23AC1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2A2-4202-4FB6-8E87-FD080004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BF7E-F4FD-4C66-B8B4-1B92C2342EC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0F96-4F0D-42F9-AC28-993BD52AA0D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40:50Z</dcterms:modified>
  <cp:revision>12</cp:revision>
  <dc:subject/>
  <dc:title>La Regulación Ambiental</dc:title>
</cp:coreProperties>
</file>