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6.wmf" ContentType="image/x-wmf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AF7F-0ACF-43B9-A87D-44AF24AF7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8543-D10E-4BBC-A4FC-77149F34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2322-3C64-4724-990D-DF41089BD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E4E8-FC1B-4AF0-A64F-18B08C120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2B75-8593-4521-9F24-21E38CB24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340D-987C-454F-9B4F-E4E0B1C6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A4F7-5672-48E7-942B-B9AEC463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D51E-99C1-4A22-A998-22E81FDA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D900-E49B-4500-B2E4-B7E8A069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2CBE-E9CA-422B-8A7B-3580C8B6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7728-427E-407A-803F-2D6D2E11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5715-5587-4288-8744-ADA4E985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92BE-69C8-49B5-9151-F22FEBE0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EEE2-47BE-4B49-8DD1-E0570928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08C1-5A4E-4DCE-A1FE-179B9B5F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965B-3BF1-43DA-8B75-AB897F8AB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7440-4DA1-47CC-96A2-617A38EFF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C462-542A-4D0C-93A6-0D83EF5D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C7A7-3345-48AB-9CE3-5E66FB39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B6A8-0FA7-42F6-9245-25F78913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B923-EC28-492B-AEAD-6AAC5E4F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25AD-69F9-4E9A-8B63-6A936368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E353-907A-4135-96E2-984144C3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27FD-355D-4004-BDBB-8C6F4B3F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7F11-4E61-44DA-B4BA-69B90F69EE2D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750C-3518-47D6-BE29-1E6BD1F33B04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 Regulación Ambie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ra. Patricia Mat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0" y="2606760"/>
            <a:ext cx="9144000" cy="1644480"/>
            <a:chOff x="0" y="2606760"/>
            <a:chExt cx="9144000" cy="1644480"/>
          </a:xfrm>
        </p:grpSpPr>
        <p:sp>
          <p:nvSpPr>
            <p:cNvPr id="136" name=""/>
            <p:cNvSpPr/>
            <p:nvPr/>
          </p:nvSpPr>
          <p:spPr>
            <a:xfrm>
              <a:off x="0" y="2606760"/>
              <a:ext cx="91440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sejo Directivo de CONAMA aprobó el Décimo Programa Priorizado de Normas Ambient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3429000"/>
              <a:ext cx="91440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El pasado 21 de Abril de 2005, fue aprobado por el Consejo Directivo el CONAMA, el Décimo Programa Priorizado de Normas Ambientales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00000"/>
                </a:lnSpc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www.conama.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écimo Programa Priorizad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752480"/>
            <a:ext cx="914400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San Jos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Huas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Choap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Mataqui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Tolté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el Lago Villarric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Valdiv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Bak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de Emisión para la regulación de contaminantes asociados a las descargas de aguas residuales en predios agrícolas y/o foresta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isión de la Norma de Emisión para la Regulación de contaminantes asociados a las Descargas de Residuos Líquidos a Aguas Marinas y Continentales Superficiales, D.S. Nº 90 de 2000 de MINSEGPR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de Emisión de Material Particulado para Fuentes Estacionarias Puntuales y Grupa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de Ruido para Aeropuert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39640" y="1052640"/>
            <a:ext cx="7315200" cy="55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</a:rPr>
              <a:t>¿Cómo se promulgan las norma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Las normas de calidad ambiental y emisión se establecerán mediante Decreto Supremo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¿Qué firmas llevarán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ormas Primarias de Calidad : Ministro Secretario General de la Presidencia y del Ministro de Salu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ormas Secundarias de Calidad : Ministro Secretario General de la Presidencia y Ministro sectorial que correspon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ormas de emisión: Si se tratare de materias que no corresponden a un ministerio determinado, serán dictadas mediante decreto del Ministerio Secretario General de la Presidenc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¿Cada cuánto tiempo se revisa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oda norma de calidad ambiental y de emisión será revisada por la CONAMA a lo menos cada 5 añ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22860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705720" y="1219320"/>
            <a:ext cx="1003320" cy="13539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8001000" y="5486400"/>
            <a:ext cx="8888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7924680" y="1143000"/>
          <a:ext cx="100188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1143000"/>
                    <a:ext cx="10018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609480" y="1143000"/>
            <a:ext cx="7620120" cy="51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990033"/>
                </a:solidFill>
                <a:latin typeface="Comic Sans MS"/>
              </a:rPr>
              <a:t>¿Dónde se aplican las norma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f0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Comic Sans MS"/>
              </a:rPr>
              <a:t>Las normas primarias de calidad son de aplicación general en todo el territorio del paí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Comic Sans MS"/>
              </a:rPr>
              <a:t>Las normas secundarias de calidad se aplicarán en el ámbito territorial señalado en el Decreto, el que podrá ser todo el territorio de la República o parte de é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Comic Sans MS"/>
              </a:rPr>
              <a:t>Las normas de emisión se aplicarán en el territorio señalado en el Decre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228600" y="22860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09480" y="1143000"/>
            <a:ext cx="76201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990033"/>
                </a:solidFill>
                <a:latin typeface="Comic Sans MS"/>
              </a:rPr>
              <a:t>¿Cómo se verifica el cumplimiento de una norma ambiental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El cumplimiento de una norma de calidad primaria deberá verificarse mediante mediciones en donde existan asentamientos human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as normas de emisión se medirán en el efluente de la fuente emisora y en un periodo de tiempo determinado, cuando correspon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28600" y="22860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114800" y="3200400"/>
            <a:ext cx="115884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1828800"/>
            <a:ext cx="7848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Quién coordina el proceso de dictación de una norma ambien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a coordinación del proceso de dictación de normas corresponderá a la CONA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8294760" y="0"/>
            <a:ext cx="849240" cy="839880"/>
            <a:chOff x="8294760" y="0"/>
            <a:chExt cx="849240" cy="83988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829476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 txBox="1"/>
            <p:nvPr/>
          </p:nvSpPr>
          <p:spPr>
            <a:xfrm>
              <a:off x="829476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029200" y="3505320"/>
            <a:ext cx="160020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3148560" y="2955960"/>
            <a:ext cx="1824480" cy="363240"/>
            <a:chOff x="3148560" y="2955960"/>
            <a:chExt cx="1824480" cy="363240"/>
          </a:xfrm>
        </p:grpSpPr>
        <p:sp>
          <p:nvSpPr>
            <p:cNvPr id="167" name=""/>
            <p:cNvSpPr/>
            <p:nvPr/>
          </p:nvSpPr>
          <p:spPr>
            <a:xfrm>
              <a:off x="3180960" y="2973600"/>
              <a:ext cx="1674720" cy="21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48560" y="2955960"/>
              <a:ext cx="182448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RESOLUCION APROBACION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ANTEPROYECTO (Publicación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963880" y="3489480"/>
            <a:ext cx="2273400" cy="67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334840" y="3406680"/>
            <a:ext cx="1274040" cy="774720"/>
            <a:chOff x="5334840" y="3406680"/>
            <a:chExt cx="1274040" cy="774720"/>
          </a:xfrm>
        </p:grpSpPr>
        <p:sp>
          <p:nvSpPr>
            <p:cNvPr id="171" name=""/>
            <p:cNvSpPr/>
            <p:nvPr/>
          </p:nvSpPr>
          <p:spPr>
            <a:xfrm>
              <a:off x="5402160" y="3423960"/>
              <a:ext cx="933480" cy="20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34840" y="3406680"/>
              <a:ext cx="1274040" cy="774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ANALISIS GENER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DE  IMPACT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ECONOMIC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Y SOCIAL (2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900" spc="-1" strike="noStrike">
                  <a:solidFill>
                    <a:srgbClr val="0000cc"/>
                  </a:solidFill>
                  <a:latin typeface="Arial"/>
                </a:rPr>
                <a:t>50 dí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538800" y="523800"/>
            <a:ext cx="2310480" cy="236520"/>
            <a:chOff x="3538800" y="523800"/>
            <a:chExt cx="2310480" cy="236520"/>
          </a:xfrm>
        </p:grpSpPr>
        <p:sp>
          <p:nvSpPr>
            <p:cNvPr id="174" name=""/>
            <p:cNvSpPr/>
            <p:nvPr/>
          </p:nvSpPr>
          <p:spPr>
            <a:xfrm>
              <a:off x="3560400" y="537840"/>
              <a:ext cx="2173320" cy="222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38800" y="523800"/>
              <a:ext cx="231048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PROGRAMA PRIORIZADO DE NORM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948040" y="4419720"/>
            <a:ext cx="3645000" cy="151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403440" y="4491000"/>
            <a:ext cx="2720880" cy="236520"/>
            <a:chOff x="3403440" y="4491000"/>
            <a:chExt cx="2720880" cy="236520"/>
          </a:xfrm>
        </p:grpSpPr>
        <p:sp>
          <p:nvSpPr>
            <p:cNvPr id="178" name=""/>
            <p:cNvSpPr/>
            <p:nvPr/>
          </p:nvSpPr>
          <p:spPr>
            <a:xfrm>
              <a:off x="3403440" y="4508640"/>
              <a:ext cx="2473200" cy="21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09920" y="4491000"/>
              <a:ext cx="271440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ANALISIS OBSERVACIONES FORMULADAS (4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1187280" y="2320920"/>
            <a:ext cx="6357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cc"/>
                </a:solidFill>
                <a:latin typeface="Arial"/>
              </a:rPr>
              <a:t>150 dí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451160" y="109440"/>
            <a:ext cx="6228720" cy="881280"/>
            <a:chOff x="1451160" y="109440"/>
            <a:chExt cx="6228720" cy="881280"/>
          </a:xfrm>
        </p:grpSpPr>
        <p:sp>
          <p:nvSpPr>
            <p:cNvPr id="182" name=""/>
            <p:cNvSpPr/>
            <p:nvPr/>
          </p:nvSpPr>
          <p:spPr>
            <a:xfrm>
              <a:off x="1451160" y="109440"/>
              <a:ext cx="6228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cc"/>
                  </a:solidFill>
                  <a:latin typeface="Arial"/>
                </a:rPr>
                <a:t>PROCEDIMIENTO DE DICTACION DE NORMAS AMBIENT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58960" y="387360"/>
              <a:ext cx="181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57720" y="657360"/>
              <a:ext cx="18072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002600" y="1371600"/>
            <a:ext cx="1083600" cy="81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Elabo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Ante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de No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38960" y="4724280"/>
            <a:ext cx="989280" cy="100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Elabo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Defini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de No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61560" y="3049560"/>
            <a:ext cx="1083600" cy="81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Consul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Ante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de No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529440" y="5351400"/>
            <a:ext cx="2427840" cy="500400"/>
            <a:chOff x="3529440" y="5351400"/>
            <a:chExt cx="2427840" cy="500400"/>
          </a:xfrm>
        </p:grpSpPr>
        <p:sp>
          <p:nvSpPr>
            <p:cNvPr id="189" name=""/>
            <p:cNvSpPr/>
            <p:nvPr/>
          </p:nvSpPr>
          <p:spPr>
            <a:xfrm>
              <a:off x="3982680" y="5365440"/>
              <a:ext cx="1247760" cy="22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29440" y="5351400"/>
              <a:ext cx="2427840" cy="500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PRESENTACION PROYECTO DEFINITIV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AL CONSEJO DIRECTIVO DE CONAM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900" spc="-1" strike="noStrike">
                  <a:solidFill>
                    <a:srgbClr val="0000cc"/>
                  </a:solidFill>
                  <a:latin typeface="Arial"/>
                </a:rPr>
                <a:t>15 dí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97360" y="6553080"/>
            <a:ext cx="23745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cc"/>
                </a:solidFill>
                <a:latin typeface="Arial"/>
              </a:rPr>
              <a:t>(1), (2), (3) y (4) etapas Art. 32, Ley 19.3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95480" y="990720"/>
            <a:ext cx="364500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987640" y="1079640"/>
            <a:ext cx="3435120" cy="347760"/>
            <a:chOff x="2987640" y="1079640"/>
            <a:chExt cx="3435120" cy="347760"/>
          </a:xfrm>
        </p:grpSpPr>
        <p:sp>
          <p:nvSpPr>
            <p:cNvPr id="194" name=""/>
            <p:cNvSpPr/>
            <p:nvPr/>
          </p:nvSpPr>
          <p:spPr>
            <a:xfrm>
              <a:off x="3697200" y="1096920"/>
              <a:ext cx="855720" cy="22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987640" y="1079640"/>
              <a:ext cx="343512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RESOLUCION DE INICIO PROCESO (Publicación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800" spc="-1" strike="noStrike">
                  <a:solidFill>
                    <a:srgbClr val="0000cc"/>
                  </a:solidFill>
                  <a:latin typeface="Arial"/>
                </a:rPr>
                <a:t>Plazo recepción de antecedentes (&lt; 70 días) -- Crea expediente públi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046040" y="1600200"/>
            <a:ext cx="1353240" cy="237600"/>
            <a:chOff x="4046040" y="1600200"/>
            <a:chExt cx="1353240" cy="237600"/>
          </a:xfrm>
        </p:grpSpPr>
        <p:sp>
          <p:nvSpPr>
            <p:cNvPr id="197" name=""/>
            <p:cNvSpPr/>
            <p:nvPr/>
          </p:nvSpPr>
          <p:spPr>
            <a:xfrm>
              <a:off x="4068720" y="1617840"/>
              <a:ext cx="1273320" cy="219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046040" y="1600200"/>
              <a:ext cx="135324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FORMACION COM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585600" y="1973160"/>
            <a:ext cx="2423160" cy="234720"/>
            <a:chOff x="3585600" y="1973160"/>
            <a:chExt cx="2423160" cy="234720"/>
          </a:xfrm>
        </p:grpSpPr>
        <p:sp>
          <p:nvSpPr>
            <p:cNvPr id="200" name=""/>
            <p:cNvSpPr/>
            <p:nvPr/>
          </p:nvSpPr>
          <p:spPr>
            <a:xfrm>
              <a:off x="3610080" y="1987200"/>
              <a:ext cx="2082600" cy="220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85600" y="1973160"/>
              <a:ext cx="242316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ESTUDIOS CIENTIFICOS Y TECNICOS (1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663000" y="2362320"/>
            <a:ext cx="2237400" cy="237600"/>
            <a:chOff x="3663000" y="2362320"/>
            <a:chExt cx="2237400" cy="237600"/>
          </a:xfrm>
        </p:grpSpPr>
        <p:sp>
          <p:nvSpPr>
            <p:cNvPr id="203" name=""/>
            <p:cNvSpPr/>
            <p:nvPr/>
          </p:nvSpPr>
          <p:spPr>
            <a:xfrm>
              <a:off x="3686040" y="2376360"/>
              <a:ext cx="2082960" cy="223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63000" y="2362320"/>
              <a:ext cx="223740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ELABORACION DEL ANTEPROYEC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013560" y="3646440"/>
            <a:ext cx="842760" cy="363240"/>
            <a:chOff x="3013560" y="3646440"/>
            <a:chExt cx="842760" cy="363240"/>
          </a:xfrm>
        </p:grpSpPr>
        <p:sp>
          <p:nvSpPr>
            <p:cNvPr id="206" name=""/>
            <p:cNvSpPr/>
            <p:nvPr/>
          </p:nvSpPr>
          <p:spPr>
            <a:xfrm>
              <a:off x="3068280" y="3660840"/>
              <a:ext cx="720720" cy="22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13560" y="3646440"/>
              <a:ext cx="84276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CONSULT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PUBLICA (3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1222560" y="3965400"/>
            <a:ext cx="5716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cc"/>
                </a:solidFill>
                <a:latin typeface="Arial"/>
              </a:rPr>
              <a:t>60 dí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936240" y="3570120"/>
            <a:ext cx="1172160" cy="500400"/>
            <a:chOff x="3936240" y="3570120"/>
            <a:chExt cx="1172160" cy="500400"/>
          </a:xfrm>
        </p:grpSpPr>
        <p:sp>
          <p:nvSpPr>
            <p:cNvPr id="210" name=""/>
            <p:cNvSpPr/>
            <p:nvPr/>
          </p:nvSpPr>
          <p:spPr>
            <a:xfrm>
              <a:off x="3954240" y="3584160"/>
              <a:ext cx="933480" cy="22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36240" y="3570120"/>
              <a:ext cx="1172160" cy="500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CONSULTA  A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CONSEJ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CONSULTIVOS (3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461040" y="4870440"/>
            <a:ext cx="2638080" cy="363240"/>
            <a:chOff x="3461040" y="4870440"/>
            <a:chExt cx="2638080" cy="363240"/>
          </a:xfrm>
        </p:grpSpPr>
        <p:sp>
          <p:nvSpPr>
            <p:cNvPr id="213" name=""/>
            <p:cNvSpPr/>
            <p:nvPr/>
          </p:nvSpPr>
          <p:spPr>
            <a:xfrm>
              <a:off x="3510000" y="4884840"/>
              <a:ext cx="2082960" cy="22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61040" y="4870440"/>
              <a:ext cx="263808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ELABORACION DEL PROYECTO DEFINITIV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900" spc="-1" strike="noStrike">
                  <a:solidFill>
                    <a:srgbClr val="0000cc"/>
                  </a:solidFill>
                  <a:latin typeface="Arial"/>
                </a:rPr>
                <a:t>45 dí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881800" y="6165720"/>
            <a:ext cx="3951720" cy="237960"/>
            <a:chOff x="2881800" y="6165720"/>
            <a:chExt cx="3951720" cy="237960"/>
          </a:xfrm>
        </p:grpSpPr>
        <p:sp>
          <p:nvSpPr>
            <p:cNvPr id="216" name=""/>
            <p:cNvSpPr/>
            <p:nvPr/>
          </p:nvSpPr>
          <p:spPr>
            <a:xfrm>
              <a:off x="4097160" y="6180120"/>
              <a:ext cx="1247760" cy="223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81800" y="6165720"/>
              <a:ext cx="395172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SOMETIDO A CONSIDERACION DEL PRESIDENTE DE LA REPUBLIC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7848720" y="5789520"/>
            <a:ext cx="849240" cy="839880"/>
            <a:chOff x="7848720" y="5789520"/>
            <a:chExt cx="849240" cy="83988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7848720" y="578952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 txBox="1"/>
            <p:nvPr/>
          </p:nvSpPr>
          <p:spPr>
            <a:xfrm>
              <a:off x="7848720" y="578952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7924680" y="5562720"/>
            <a:ext cx="849600" cy="839520"/>
            <a:chOff x="7924680" y="5562720"/>
            <a:chExt cx="849600" cy="839520"/>
          </a:xfrm>
        </p:grpSpPr>
        <p:pic>
          <p:nvPicPr>
            <p:cNvPr id="222" name="" descr=""/>
            <p:cNvPicPr/>
            <p:nvPr/>
          </p:nvPicPr>
          <p:blipFill>
            <a:blip r:embed="rId1"/>
            <a:stretch/>
          </p:blipFill>
          <p:spPr>
            <a:xfrm>
              <a:off x="7924680" y="5562720"/>
              <a:ext cx="84960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 txBox="1"/>
            <p:nvPr/>
          </p:nvSpPr>
          <p:spPr>
            <a:xfrm>
              <a:off x="7924680" y="5562720"/>
              <a:ext cx="849600" cy="839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ff"/>
                </a:solidFill>
                <a:latin typeface="Comic Sans MS"/>
              </a:rPr>
              <a:t>COMITÉ OPE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1523880"/>
            <a:ext cx="7772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El Director Ejecutivo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revia aprobación del Conse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Directivo, podrá crea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Comités Operativos form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or representantes 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los ministerios, servicios 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demás organismos compet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De igual forma y con el mismo objetivo, podrá crear comités consultivos con participación de personas naturales y jurídicas ajenas a la Administración del Est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338800" y="2286000"/>
            <a:ext cx="353700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1828800"/>
            <a:ext cx="7620120" cy="45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Cuáles son los contenidos de una norma primaria de calidad ambien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f01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Valor de la nor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Situaciones de emergenci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Metodologías de medición y contro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Fiscalizad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lazo de entrada en vigenc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NORMAS DE CALIDAD PROM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5943600" y="3581280"/>
            <a:ext cx="25430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1828800"/>
            <a:ext cx="7620120" cy="49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990033"/>
                </a:solidFill>
                <a:latin typeface="Comic Sans MS"/>
              </a:rPr>
              <a:t>¿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Qué criterios debo considerar para elaborar una norma primaria de calidad ambien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Gravedad y la frecuencia del daño y efectos adversos observ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antidad de población expues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ocalización, abundancia, persistencia y origen del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Transformación ambiental o alteraciones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metabólicas secundarias del 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NORMAS DE CALIDAD PRIM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7772400" y="1219320"/>
            <a:ext cx="84132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MA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mentos conceptu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po de Regul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dimiento para la dictación de Normas Ambientales en Ch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aluación a 10 años de aplic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5800" y="1066680"/>
            <a:ext cx="762012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Qué antecedentes se deben recopilar  para establecer los niveles de riesgo para la salu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Identificar y caracterizar el 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Describir su distribución en el país, identificando el nivel actual exist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Recopilar antecedentes acerca de efectos advers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Identificar las vías, fuentes, rutas y medios de exposi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Describir efectos independientes, aditivos, sinérgicos, acumulativos del 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41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685800" y="304920"/>
            <a:ext cx="19810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86600" y="1371600"/>
            <a:ext cx="17715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762120"/>
            <a:ext cx="7620120" cy="59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Cuáles son los contenidos de 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una norma de emis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f01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Valor de la norma medida en el efl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Objetivos de protección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Ámbito territorial de su aplic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Tipos de fuentes regulada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Metodologías de medición y contro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Fiscalizad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lazo de entrada en vigenc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NORMAS DE EM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43600" y="3581280"/>
            <a:ext cx="25430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62120" y="457200"/>
            <a:ext cx="7619760" cy="62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Qué antecedentes se deben recopilar  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para determinar los valores de la 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nor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oncentración ambiental o distribución en el área de aplic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Relación entre emisiones del contaminante y calidad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apacidad de dilución y autodepuración del medio recep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Efectos del contaminante sobre la salud de las personas, la flora o la fauna u otros elemen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Tecnologías aplicables a cada caso y análisis de la factibilidad técnica y económica de su implement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228600" y="304920"/>
            <a:ext cx="19810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NORMAS DE EM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7315200" y="3200400"/>
            <a:ext cx="1487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58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685800" y="304920"/>
            <a:ext cx="19810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PARTICIPACION</a:t>
            </a:r>
            <a:br>
              <a:rPr sz="1600"/>
            </a:b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CIUDAD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419720" y="3581280"/>
            <a:ext cx="1447560" cy="8082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 rot="10800000">
            <a:off x="7467120" y="1371240"/>
            <a:ext cx="1111320" cy="16765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685800" y="121932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Cuáles son los mecanismos de particip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ublicación programa priorizado de nor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ublicación resolución de ini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Establecimiento de fecha recepción de anteced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Expediente públ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Tabla pública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ublicación resumen 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    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anteproyec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lazo 60 días para formular consultas y aportar observa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ublicación Diario Oficial norma definiti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Mecanismo de reclam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rcRect l="0" t="0" r="63343" b="0"/>
          <a:stretch/>
        </p:blipFill>
        <p:spPr>
          <a:xfrm>
            <a:off x="7848720" y="304920"/>
            <a:ext cx="990360" cy="95076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Comic Sans MS"/>
              </a:rPr>
              <a:t>Normas Ambientales Vigent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810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Comic Sans MS"/>
              </a:rPr>
              <a:t>Primari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 146/97: rui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 129/2002: ruido bu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 165/98: Arsénico (emisió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 167/99: Olores TRS (emisió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59/ 98: PM 10 dí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 115/02: 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45/01 PM10 añ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114/02: NO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112/02: O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113/02: SO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136/00: plo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Secundari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 609/98: emisión Alcantarill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 686/98 : Contaminación lumín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90: emisión aguas marinas y continentales superfici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visión DS 609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 46/02: Emisión a aguas subterrán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rmas de emis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S n° 130/02: Buses locomoción colecti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S n° 104/00: Motociclet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S n° 4/94: vehículos motoriza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S n° 103/00: Hidrocarburos no metánicos vehículos livianos y median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Logros alcanzados con la aplicación del instrum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cedimiento de formulación de normas en oper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gulaciones generales y específicas en el ámbito hídrico y atmosfér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cedimiento que permite toma de decisiones documentada, informada, con participación y en base a consideraciones nacionales y/o loc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arrollo de capacidades de coordinación interminister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Generación de capacidades técnicas en gestión de la contamin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ablecimiento de regulaciones con participación multisector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bilida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 información usa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edominio de antecedentes internacion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mparación de Riesgos aus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apacidad de analítica nac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álisis General del Impacto Económic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scasa participación ciudada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étodo “escrito” v/s “ora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álisis estratégico mediano y largo plaz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ción Externa: OEC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arrollar y fortalecer aún más los marcos normativos para mejorar la salud ambiental y cumplir los compromisos internacionales; examinar formas de fortalecer la capacidad de cumplimiento y fiscalización, incluso mediante reformas institucionales, como por ejemplo el establecimiento de un órgano de inspección ambiental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ás recomend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“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ogresar en la puesta en práctica de programas de calidad del aire, incluidos los relacionados con la minería, orientados al material particulado y ozono; dar seguimiento al avance y a los efectos de los programas en la salud mediante indicadores apropiado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sarrollar normas de emisión nacion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sarrollar monitoreo de la calidad del aire en ciudades princip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sarrollar medidas de eficiencia energética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¿Qué es regula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blecer condiciones para que los agentes desarrollen sus actividad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r los objetivos de la gestión ambient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blecer el nivel de riesgo socialmente acept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¿Porqué regula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sideraciones Económic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 mercados no funcionan sol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 Instituciones del Estado no funcionan sol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sideraciones políticas y Soci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isten metas que el mercado no puede definir (equidad, prioridad en salud, etc.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sideraciones Jurídic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je de conflictos en el marco leg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llas de Mercad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ertidumb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imetría de la inform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ciona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manda no coincide con Neces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enes Públ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rnalida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Si el objetivo de protección 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a salud de la población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mic Sans MS"/>
              </a:rPr>
              <a:t>Norma Primaria de Ca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Si el objetivo de protección s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os recursos naturales y 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atrimonio ambient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mic Sans MS"/>
              </a:rPr>
              <a:t>Norma Secundaria de Calidad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8294760" y="0"/>
            <a:ext cx="849240" cy="839880"/>
            <a:chOff x="8294760" y="0"/>
            <a:chExt cx="849240" cy="83988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829476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 txBox="1"/>
            <p:nvPr/>
          </p:nvSpPr>
          <p:spPr>
            <a:xfrm>
              <a:off x="829476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334120" y="1600200"/>
            <a:ext cx="1071360" cy="1371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 flipH="1" rot="10800000">
            <a:off x="4952880" y="4191120"/>
            <a:ext cx="755640" cy="690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867280" y="4343400"/>
            <a:ext cx="1060560" cy="1447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85800" y="609480"/>
            <a:ext cx="15238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TIPOS DE NOR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181480" y="2438280"/>
            <a:ext cx="3962520" cy="3454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5800" y="609480"/>
            <a:ext cx="15238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TIPOS DE NOR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213372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66"/>
                </a:solidFill>
                <a:latin typeface="Comic Sans MS"/>
              </a:rPr>
              <a:t>NORMAS DE EMI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establecen la cantidad máxi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ermitida para un 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medida en el efluente  de l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fuente emiso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8294760" y="0"/>
            <a:ext cx="849240" cy="839880"/>
            <a:chOff x="8294760" y="0"/>
            <a:chExt cx="849240" cy="83988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829476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 txBox="1"/>
            <p:nvPr/>
          </p:nvSpPr>
          <p:spPr>
            <a:xfrm>
              <a:off x="829476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91320" y="990720"/>
            <a:ext cx="1557360" cy="3352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38080" y="914400"/>
            <a:ext cx="441036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33"/>
                </a:solidFill>
                <a:latin typeface="Comic Sans MS"/>
              </a:rPr>
              <a:t>¿Cuál es el procedimiento para la dictación de una norma de calidad ambiental y de emisió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procedimiento se sujetará a las disposiciones del Reglamento para la Dictación de Normas de Calidad Ambiental y Emisión (D.S. 93/9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1447920"/>
            <a:ext cx="6553080" cy="53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33"/>
                </a:solidFill>
                <a:latin typeface="Comic Sans MS"/>
              </a:rPr>
              <a:t>¿Cómo se priorizan las norm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CONAMA consulta a instituciones del Estado c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competencia reguladora y a Dirección Reg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Consulta a instituciones privadas, academias y O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Presentación  de Programa Priorizado a Consejo Consultivo Nac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Presentación de propuesta  al Consejo Directivo de Conama con una reseña de todas las opiniones vert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086600" y="3200400"/>
            <a:ext cx="2057400" cy="10191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9:22:14Z</dcterms:created>
  <dc:creator>Cenma</dc:creator>
  <dc:description/>
  <dc:language>en-US</dc:language>
  <cp:lastModifiedBy>Dii</cp:lastModifiedBy>
  <dcterms:modified xsi:type="dcterms:W3CDTF">2005-11-18T16:40:50Z</dcterms:modified>
  <cp:revision>12</cp:revision>
  <dc:subject/>
  <dc:title>La Regulación Ambiental</dc:title>
</cp:coreProperties>
</file>