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6BB3-D35E-4D80-847B-AA26D552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BEB0-9CDC-40DC-9250-A472840B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FF1E-C79E-4423-AE71-5BC43E71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9E1-294E-4B55-AD22-20B0E7C4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C1A2-FBA8-482C-9A58-EF9FD8EA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6B5D-51DE-4B4C-B000-1FEACD87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9721-03CE-41E1-9729-136D52F8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087B-D0DB-45E7-BD9B-7FA425ED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EAD7-4F5B-4E8E-BB79-2517D691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D25E-3002-44AA-AD60-972294F5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0015-4A52-4F3A-A56C-F5AFA8C6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F56E-207F-4CC2-8E9D-FC709C9F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B814-A348-4E49-BEA8-6B61AC48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7631-13A2-44EE-9441-745CBD89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F655-EBCB-4633-9A21-29052F0A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2F86-B37A-43AC-8A2D-6372813D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56B5-B93A-41E2-92DE-63E12CB3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7CDD-234E-4633-BF59-F2B6598F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877-8CA7-4BCD-A028-5A282D91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B433-9FDE-423D-AA92-CBCECA00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A39-0E15-4C72-810A-A2960E77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4F2-C65C-4FF4-8262-575EF670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48F-B7E5-4FC5-9EBD-4B599B72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370-C699-4869-9B51-8D704586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0962-DA77-4C22-B771-4AF5719C0AFC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672C-BC9C-4867-A673-BFFE07E7C541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 Regulación Ambie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ra. Patricia M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2606760"/>
            <a:ext cx="9144000" cy="1644480"/>
            <a:chOff x="0" y="2606760"/>
            <a:chExt cx="9144000" cy="1644480"/>
          </a:xfrm>
        </p:grpSpPr>
        <p:sp>
          <p:nvSpPr>
            <p:cNvPr id="136" name=""/>
            <p:cNvSpPr/>
            <p:nvPr/>
          </p:nvSpPr>
          <p:spPr>
            <a:xfrm>
              <a:off x="0" y="260676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ejo Directivo de CONAMA aprobó el Décimo Programa Priorizado de Normas Ambient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342900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l pasado 21 de Abril de 2005, fue aprobado por el Consejo Directivo el CONAMA, el Décimo Programa Priorizado de Normas Ambientales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www.conama.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écimo Programa Prioriz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752480"/>
            <a:ext cx="914400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San Jos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Huas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Choap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Mataqui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Tolté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el Lago Villarr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Valdiv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Bak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para la regulación de contaminantes asociados a las descargas de aguas residuales en predios agrícolas y/o forest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isión de la Norma de Emisión para la Regulación de contaminantes asociados a las Descargas de Residuos Líquidos a Aguas Marinas y Continentales Superficiales, D.S. Nº 90 de 2000 de MINSEGP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de Material Particulado para Fuentes Estacionarias Puntuales y Grup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Ruido para Aeropuer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9640" y="1052640"/>
            <a:ext cx="7315200" cy="55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¿Cómo se promulgan las norm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as normas de calidad ambiental y emisión se establecerán mediante Decreto Supremo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Qué firmas llevará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Primarias de Calidad : Ministro Secretario General de la Presidencia y del Ministro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Secundarias de Calidad : Ministro Secretario General de la Presidencia y Ministro sectorial que correspo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de emisión: Si se tratare de materias que no corresponden a un ministerio determinado, serán dictadas mediante decreto del Ministerio Secretario General de la Presiden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Cada cuánto tiempo se revis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oda norma de calidad ambiental y de emisión será revisada por la CONAMA a lo menos cada 5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705720" y="1219320"/>
            <a:ext cx="1003320" cy="1353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001000" y="5486400"/>
            <a:ext cx="888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7924680" y="1143000"/>
          <a:ext cx="10018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1143000"/>
                    <a:ext cx="1001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09480" y="1143000"/>
            <a:ext cx="762012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Dónde se aplican las norma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f0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primarias de calidad son de aplicación general en todo el territorio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secundarias de calidad se aplicarán en el ámbito territorial señalado en el Decreto, el que podrá ser todo el territorio de la República o parte de é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de emisión se aplicarán en el territorio señalado en el Decre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1143000"/>
            <a:ext cx="7620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Cómo se verifica el cumplimiento de una norma ambienta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l cumplimiento de una norma de calidad primaria deberá verificarse mediante mediciones en donde existan asentamientos human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s normas de emisión se medirán en el efluente de la fuente emisora y en un periodo de tiempo determinado, cuando correspon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114800" y="3200400"/>
            <a:ext cx="11588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828800"/>
            <a:ext cx="784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ién coordina el proceso de dictación de una norma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coordinación del proceso de dictación de normas corresponderá a la CONA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160020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148560" y="2955960"/>
            <a:ext cx="1824480" cy="363240"/>
            <a:chOff x="3148560" y="2955960"/>
            <a:chExt cx="1824480" cy="363240"/>
          </a:xfrm>
        </p:grpSpPr>
        <p:sp>
          <p:nvSpPr>
            <p:cNvPr id="167" name=""/>
            <p:cNvSpPr/>
            <p:nvPr/>
          </p:nvSpPr>
          <p:spPr>
            <a:xfrm>
              <a:off x="3180960" y="2973600"/>
              <a:ext cx="167472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8560" y="2955960"/>
              <a:ext cx="18244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APROBAC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TEPROYECT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963880" y="3489480"/>
            <a:ext cx="22734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334840" y="3406680"/>
            <a:ext cx="1274040" cy="774720"/>
            <a:chOff x="5334840" y="3406680"/>
            <a:chExt cx="1274040" cy="774720"/>
          </a:xfrm>
        </p:grpSpPr>
        <p:sp>
          <p:nvSpPr>
            <p:cNvPr id="171" name=""/>
            <p:cNvSpPr/>
            <p:nvPr/>
          </p:nvSpPr>
          <p:spPr>
            <a:xfrm>
              <a:off x="5402160" y="3423960"/>
              <a:ext cx="93348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4840" y="3406680"/>
              <a:ext cx="1274040" cy="77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GENER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DE  IMPACT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CONOMIC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Y SOCIAL (2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50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538800" y="523800"/>
            <a:ext cx="2310480" cy="236520"/>
            <a:chOff x="3538800" y="523800"/>
            <a:chExt cx="2310480" cy="236520"/>
          </a:xfrm>
        </p:grpSpPr>
        <p:sp>
          <p:nvSpPr>
            <p:cNvPr id="174" name=""/>
            <p:cNvSpPr/>
            <p:nvPr/>
          </p:nvSpPr>
          <p:spPr>
            <a:xfrm>
              <a:off x="3560400" y="537840"/>
              <a:ext cx="2173320" cy="222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38800" y="523800"/>
              <a:ext cx="231048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OGRAMA PRIORIZADO DE NORM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948040" y="4419720"/>
            <a:ext cx="3645000" cy="151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03440" y="4491000"/>
            <a:ext cx="2720880" cy="236520"/>
            <a:chOff x="3403440" y="4491000"/>
            <a:chExt cx="2720880" cy="236520"/>
          </a:xfrm>
        </p:grpSpPr>
        <p:sp>
          <p:nvSpPr>
            <p:cNvPr id="178" name=""/>
            <p:cNvSpPr/>
            <p:nvPr/>
          </p:nvSpPr>
          <p:spPr>
            <a:xfrm>
              <a:off x="3403440" y="4508640"/>
              <a:ext cx="247320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09920" y="4491000"/>
              <a:ext cx="2714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OBSERVACIONES FORMULADAS (4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187280" y="2320920"/>
            <a:ext cx="635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15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51160" y="109440"/>
            <a:ext cx="6228720" cy="881280"/>
            <a:chOff x="1451160" y="109440"/>
            <a:chExt cx="6228720" cy="881280"/>
          </a:xfrm>
        </p:grpSpPr>
        <p:sp>
          <p:nvSpPr>
            <p:cNvPr id="182" name=""/>
            <p:cNvSpPr/>
            <p:nvPr/>
          </p:nvSpPr>
          <p:spPr>
            <a:xfrm>
              <a:off x="1451160" y="109440"/>
              <a:ext cx="6228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cc"/>
                  </a:solidFill>
                  <a:latin typeface="Arial"/>
                </a:rPr>
                <a:t>PROCEDIMIENTO DE DICTACION DE NORMAS AMBIENT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58960" y="38736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7720" y="657360"/>
              <a:ext cx="1807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002600" y="137160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38960" y="4724280"/>
            <a:ext cx="989280" cy="10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fini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61560" y="304956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Consu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529440" y="5351400"/>
            <a:ext cx="2427840" cy="500400"/>
            <a:chOff x="3529440" y="5351400"/>
            <a:chExt cx="2427840" cy="500400"/>
          </a:xfrm>
        </p:grpSpPr>
        <p:sp>
          <p:nvSpPr>
            <p:cNvPr id="189" name=""/>
            <p:cNvSpPr/>
            <p:nvPr/>
          </p:nvSpPr>
          <p:spPr>
            <a:xfrm>
              <a:off x="3982680" y="5365440"/>
              <a:ext cx="124776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29440" y="5351400"/>
              <a:ext cx="242784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ESENTACION PROYECTO DEFINITIV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L CONSEJO DIRECTIVO DE CONAM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1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360" y="6553080"/>
            <a:ext cx="2374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cc"/>
                </a:solidFill>
                <a:latin typeface="Arial"/>
              </a:rPr>
              <a:t>(1), (2), (3) y (4) etapas Art. 32, Ley 19.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990720"/>
            <a:ext cx="364500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987640" y="1079640"/>
            <a:ext cx="3435120" cy="347760"/>
            <a:chOff x="2987640" y="1079640"/>
            <a:chExt cx="3435120" cy="347760"/>
          </a:xfrm>
        </p:grpSpPr>
        <p:sp>
          <p:nvSpPr>
            <p:cNvPr id="194" name=""/>
            <p:cNvSpPr/>
            <p:nvPr/>
          </p:nvSpPr>
          <p:spPr>
            <a:xfrm>
              <a:off x="3697200" y="1096920"/>
              <a:ext cx="855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87640" y="1079640"/>
              <a:ext cx="343512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DE INICIO PROCES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800" spc="-1" strike="noStrike">
                  <a:solidFill>
                    <a:srgbClr val="0000cc"/>
                  </a:solidFill>
                  <a:latin typeface="Arial"/>
                </a:rPr>
                <a:t>Plazo recepción de antecedentes (&lt; 70 días) -- Crea expediente públ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046040" y="1600200"/>
            <a:ext cx="1353240" cy="237600"/>
            <a:chOff x="4046040" y="1600200"/>
            <a:chExt cx="1353240" cy="237600"/>
          </a:xfrm>
        </p:grpSpPr>
        <p:sp>
          <p:nvSpPr>
            <p:cNvPr id="197" name=""/>
            <p:cNvSpPr/>
            <p:nvPr/>
          </p:nvSpPr>
          <p:spPr>
            <a:xfrm>
              <a:off x="4068720" y="1617840"/>
              <a:ext cx="1273320" cy="219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46040" y="1600200"/>
              <a:ext cx="135324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FORMACION COM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585600" y="1973160"/>
            <a:ext cx="2423160" cy="234720"/>
            <a:chOff x="3585600" y="1973160"/>
            <a:chExt cx="2423160" cy="234720"/>
          </a:xfrm>
        </p:grpSpPr>
        <p:sp>
          <p:nvSpPr>
            <p:cNvPr id="200" name=""/>
            <p:cNvSpPr/>
            <p:nvPr/>
          </p:nvSpPr>
          <p:spPr>
            <a:xfrm>
              <a:off x="3610080" y="1987200"/>
              <a:ext cx="2082600" cy="220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85600" y="1973160"/>
              <a:ext cx="242316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STUDIOS CIENTIFICOS Y TECNICOS (1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663000" y="2362320"/>
            <a:ext cx="2237400" cy="237600"/>
            <a:chOff x="3663000" y="2362320"/>
            <a:chExt cx="2237400" cy="237600"/>
          </a:xfrm>
        </p:grpSpPr>
        <p:sp>
          <p:nvSpPr>
            <p:cNvPr id="203" name=""/>
            <p:cNvSpPr/>
            <p:nvPr/>
          </p:nvSpPr>
          <p:spPr>
            <a:xfrm>
              <a:off x="3686040" y="2376360"/>
              <a:ext cx="20829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63000" y="2362320"/>
              <a:ext cx="2237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ANTEPROYE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013560" y="3646440"/>
            <a:ext cx="842760" cy="363240"/>
            <a:chOff x="3013560" y="3646440"/>
            <a:chExt cx="842760" cy="363240"/>
          </a:xfrm>
        </p:grpSpPr>
        <p:sp>
          <p:nvSpPr>
            <p:cNvPr id="206" name=""/>
            <p:cNvSpPr/>
            <p:nvPr/>
          </p:nvSpPr>
          <p:spPr>
            <a:xfrm>
              <a:off x="3068280" y="3660840"/>
              <a:ext cx="720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13560" y="3646440"/>
              <a:ext cx="8427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UBLICA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222560" y="3965400"/>
            <a:ext cx="57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6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936240" y="3570120"/>
            <a:ext cx="1172160" cy="500400"/>
            <a:chOff x="3936240" y="3570120"/>
            <a:chExt cx="1172160" cy="500400"/>
          </a:xfrm>
        </p:grpSpPr>
        <p:sp>
          <p:nvSpPr>
            <p:cNvPr id="210" name=""/>
            <p:cNvSpPr/>
            <p:nvPr/>
          </p:nvSpPr>
          <p:spPr>
            <a:xfrm>
              <a:off x="3954240" y="3584160"/>
              <a:ext cx="93348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6240" y="3570120"/>
              <a:ext cx="117216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 A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EJ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IVOS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461040" y="4870440"/>
            <a:ext cx="2638080" cy="363240"/>
            <a:chOff x="3461040" y="4870440"/>
            <a:chExt cx="2638080" cy="363240"/>
          </a:xfrm>
        </p:grpSpPr>
        <p:sp>
          <p:nvSpPr>
            <p:cNvPr id="213" name=""/>
            <p:cNvSpPr/>
            <p:nvPr/>
          </p:nvSpPr>
          <p:spPr>
            <a:xfrm>
              <a:off x="3510000" y="4884840"/>
              <a:ext cx="208296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61040" y="4870440"/>
              <a:ext cx="26380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PROYECTO DEFINITIV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4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881800" y="6165720"/>
            <a:ext cx="3951720" cy="237960"/>
            <a:chOff x="2881800" y="6165720"/>
            <a:chExt cx="3951720" cy="237960"/>
          </a:xfrm>
        </p:grpSpPr>
        <p:sp>
          <p:nvSpPr>
            <p:cNvPr id="216" name=""/>
            <p:cNvSpPr/>
            <p:nvPr/>
          </p:nvSpPr>
          <p:spPr>
            <a:xfrm>
              <a:off x="4097160" y="6180120"/>
              <a:ext cx="12477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81800" y="6165720"/>
              <a:ext cx="395172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SOMETIDO A CONSIDERACION DEL PRESIDENTE DE LA REPUBLI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848720" y="5789520"/>
            <a:ext cx="849240" cy="839880"/>
            <a:chOff x="7848720" y="5789520"/>
            <a:chExt cx="849240" cy="8398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7848720" y="578952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7848720" y="578952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7924680" y="5562720"/>
            <a:ext cx="849600" cy="839520"/>
            <a:chOff x="7924680" y="5562720"/>
            <a:chExt cx="849600" cy="83952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7924680" y="5562720"/>
              <a:ext cx="84960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 txBox="1"/>
            <p:nvPr/>
          </p:nvSpPr>
          <p:spPr>
            <a:xfrm>
              <a:off x="7924680" y="5562720"/>
              <a:ext cx="849600" cy="83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Comic Sans MS"/>
              </a:rPr>
              <a:t>COMITÉ O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l Director Ejecutiv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revia aprobación del Conse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irectivo, podrá cre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Comités Operativos form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or representantes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los ministerios, servicios 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más organismos compet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 igual forma y con el mismo objetivo, podrá crear comités consultivos con participación de personas naturales y jurídicas ajenas a la Administración del Es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338800" y="2286000"/>
            <a:ext cx="353700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1828800"/>
            <a:ext cx="762012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tuaciones de emergenc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O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1828800"/>
            <a:ext cx="762012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Qué criterios debo considerar para elaborar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Gravedad y la frecuencia del daño y efectos adversos observ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ntidad de población expues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calización, abundancia, persistencia y origen del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nsformación ambiental o alteraciones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abólicas secundaria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I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772400" y="1219320"/>
            <a:ext cx="8413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M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os concep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po de Regul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dimiento para la dictación de Normas Ambientales en Ch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ción a 10 años de apl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1066680"/>
            <a:ext cx="7620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para establecer los niveles de riesgo para la sal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y caracterizar 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su distribución en el país, identificando el nivel actual exist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copilar antecedentes acerca de efectos adver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las vías, fuentes, rutas y medios de exposi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efectos independientes, aditivos, sinérgicos, acumulativo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86600" y="1371600"/>
            <a:ext cx="1771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762120"/>
            <a:ext cx="762012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una norma de emis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 medida en el efl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Objetivos de protec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Ámbito territorial de su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ipos de fuentes regulad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2120" y="457200"/>
            <a:ext cx="76197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para determinar los valores de la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nor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centración ambiental o distribución en el área de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lación entre emisiones del contaminante y calidad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pacidad de dilución y autodepuración del medio recep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fectos del contaminante sobre la salud de las personas, la flora o la fauna u otros ele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ecnologías aplicables a cada caso y análisis de la factibilidad técnica y económica de su implemen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286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315200" y="3200400"/>
            <a:ext cx="1487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PARTICIPACION</a:t>
            </a:r>
            <a:br>
              <a:rPr sz="1600"/>
            </a:b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CIUDAD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1447560" cy="808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 rot="10800000">
            <a:off x="7467120" y="1371240"/>
            <a:ext cx="1111320" cy="1676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8580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Cuáles son los mecanismos de particip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programa priorizado de nor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olución de in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stablecimiento de fecha recepción de anteced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xpediente públ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Tabla pública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umen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  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anteproye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lazo 60 días para formular consultas y aportar observ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Diario Oficial norma defini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Mecanismo de recla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0" t="0" r="63343" b="0"/>
          <a:stretch/>
        </p:blipFill>
        <p:spPr>
          <a:xfrm>
            <a:off x="7848720" y="304920"/>
            <a:ext cx="990360" cy="9507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Comic Sans MS"/>
              </a:rPr>
              <a:t>Normas Ambientales Vigent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mic Sans MS"/>
              </a:rPr>
              <a:t>Primari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46/97: ru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29/2002: ruido bu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65/98: Arsénico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67/99: Olores TRS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59/ 98: PM 10 d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15/02: 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45/01 PM10 añ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114/02: N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2/02: O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3/02: S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36/00: plo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Secundar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09/98: emisión Alcantarill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86/98 : Contaminación lumín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90: emisión aguas marinas y continentales superfi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visión DS 60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46/02: Emisión a aguas subterrán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30/02: Buses locomoción colec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4/00: Motocicle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4/94: vehículos motoriz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3/00: Hidrocarburos no metánicos vehículos livianos y media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Logros alcanzados con la aplicación del instrum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de formulación de normas en ope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ciones generales y específicas en el ámbito hídrico y atmosfér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que permite toma de decisiones documentada, informada, con participación y en base a consideraciones nacionales y/o loc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o de capacidades de coordinación interministe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eneración de capacidades técnicas en gestión de la contamin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imiento de regulaciones con participación multisecto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bilida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información usa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edominio de antecedentes internacio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aración de Riesgos aus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 analítica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General del Impacto Económ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casa participación ciudad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étodo “escrito” v/s “ora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estratégico mediano y largo plaz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ción Externa: OEC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arrollar y fortalecer aún más los marcos normativos para mejorar la salud ambiental y cumplir los compromisos internacionales; examinar formas de fortalecer la capacidad de cumplimiento y fiscalización, incluso mediante reformas institucionales, como por ejemplo el establecimiento de un órgano de inspección ambiental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ás recomend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gresar en la puesta en práctica de programas de calidad del aire, incluidos los relacionados con la minería, orientados al material particulado y ozono; dar seguimiento al avance y a los efectos de los programas en la salud mediante indicadores apropiad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normas de emisión n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onitoreo de la calidad del aire en ciudades princip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edidas de eficiencia energétic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Qué es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condiciones para que los agentes desarrollen sus activ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los objetivos de la gestión ambient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el nivel de riesgo socialmente acept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Porqué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Económ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mercados no funcionan so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 Instituciones del Estado no funcionan so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políticas y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metas que el mercado no puede definir (equidad, prioridad en salud, etc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Juríd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je de conflictos en el marco leg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llas de Merc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ertidumb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metría de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i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a no coincide con Neces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es Públ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salud de la població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Primaria de Ca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s recursos naturales y 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atrimonio ambien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Secundaria de Calidad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107136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flipH="1" rot="10800000">
            <a:off x="4952880" y="4191120"/>
            <a:ext cx="755640" cy="690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867280" y="4343400"/>
            <a:ext cx="1060560" cy="144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962520" cy="3454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1337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66"/>
                </a:solidFill>
                <a:latin typeface="Comic Sans MS"/>
              </a:rPr>
              <a:t>NORMAS DE EM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stablecen la cantidad máx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ermitida para un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dida en el efluente  de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uente emiso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990720"/>
            <a:ext cx="1557360" cy="3352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38080" y="914400"/>
            <a:ext cx="441036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uál es el procedimiento para la dictación de una norma de calidad ambiental y de emis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procedimiento se sujetará a las disposiciones del Reglamento para la Dictación de Normas de Calidad Ambiental y Emisión (D.S. 93/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1447920"/>
            <a:ext cx="655308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ómo se priorizan las norm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AMA consulta a instituciones del Estado c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mpetencia reguladora y a Dirección Reg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sulta a instituciones privadas, academias y O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 de Programa Priorizado a Consejo Consultivo Na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de propuesta  al Consejo Directivo de Conama con una reseña de todas las opiniones vert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86600" y="3200400"/>
            <a:ext cx="2057400" cy="10191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22:14Z</dcterms:created>
  <dc:creator>Cenma</dc:creator>
  <dc:description/>
  <dc:language>en-US</dc:language>
  <cp:lastModifiedBy>Dii</cp:lastModifiedBy>
  <dcterms:modified xsi:type="dcterms:W3CDTF">2005-11-18T16:40:50Z</dcterms:modified>
  <cp:revision>12</cp:revision>
  <dc:subject/>
  <dc:title>La Regulación Ambiental</dc:title>
</cp:coreProperties>
</file>