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364-EC0C-4FB6-9D06-2997D5A7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1FD-E3A7-4FC5-BB92-B4D6C30D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7B2-974E-4955-865E-E688FE5E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BFD-93C0-465B-A689-9E3C2FE8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2739-2EC5-4F06-8741-A61BD9B2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A431-DC2B-422D-98F2-D1E53D8B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9F38-1086-4727-A89E-125227AD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4072-C3FD-4739-BF5F-0A058410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5E62-6415-47C3-8BE3-14E0494C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35E5-96A1-478A-ACD5-15D81B45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B7F9-4DC6-4CE2-B193-4D91BFCF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0B8-01A9-48C8-ACFF-B65AEE5E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384F-C072-4F6F-8AC5-F717FF47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6EC3-046F-49AF-9755-605BAE35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29CB-F011-4886-A29A-A138418D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B645-F224-4157-9E79-F4C51C60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31AC-85F4-4216-AE4A-95EF9E3D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E87-7559-4207-934F-C20499F3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4FA-727E-4A6A-A76A-CEDE541D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924-065C-4756-9B2B-6188BCCC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609-CF53-4C7A-B244-87C5C6B6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105-FF6C-40D9-AF1B-E3793460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15F-111E-4E1F-ACB4-6972C65B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985-4140-4F8C-A468-E2BC3122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A5C2-FB5D-4229-A603-04F9C9FAFF5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D63A-188F-4784-95D2-07D7016F17AD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Regulación Ambi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a. Patricia M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2606760"/>
            <a:ext cx="9144000" cy="1644480"/>
            <a:chOff x="0" y="2606760"/>
            <a:chExt cx="9144000" cy="1644480"/>
          </a:xfrm>
        </p:grpSpPr>
        <p:sp>
          <p:nvSpPr>
            <p:cNvPr id="136" name=""/>
            <p:cNvSpPr/>
            <p:nvPr/>
          </p:nvSpPr>
          <p:spPr>
            <a:xfrm>
              <a:off x="0" y="260676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ejo Directivo de CONAMA aprobó el Décimo Programa Priorizado de Normas Ambient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2900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 pasado 21 de Abril de 2005, fue aprobado por el Consejo Directivo el CONAMA, el Décimo Programa Priorizado de Normas Ambientale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www.conama.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écimo Programa Prioriz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752480"/>
            <a:ext cx="91440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San Jos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Huas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Choap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Mataqui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Tolté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el Lago Villarr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Valdiv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Ba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para la regulación de contaminantes asociados a las descargas de aguas residuales en predios agrícolas y/o fores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sión de la Norma de Emisión para la Regulación de contaminantes asociados a las Descargas de Residuos Líquidos a Aguas Marinas y Continentales Superficiales, D.S. Nº 90 de 2000 de MINSEGP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de Material Particulado para Fuentes Estacionarias Puntuales y Grup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Ruido para Aeropuer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052640"/>
            <a:ext cx="731520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¿Cómo se promulgan las norm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s normas de calidad ambiental y emisión se establecerán mediante Decreto Supremo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Qué firmas llevará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Primarias de Calidad : Ministro Secretario General de la Presidencia y del Ministro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Secundarias de Calidad : Ministro Secretario General de la Presidencia y Ministro sectorial que correspo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de emisión: Si se tratare de materias que no corresponden a un ministerio determinado, serán dictadas mediante decreto del Ministerio Secretario General de la Preside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Cada cuánto tiempo se revis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oda norma de calidad ambiental y de emisión será revisada por la CONAMA a lo menos cada 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003320" cy="135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88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924680" y="1143000"/>
          <a:ext cx="1001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143000"/>
                    <a:ext cx="1001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09480" y="1143000"/>
            <a:ext cx="76201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Dónde se aplican las norma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f0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primarias de calidad son de aplicación general en todo el territorio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secundarias de calidad se aplicarán en el ámbito territorial señalado en el Decreto, el que podrá ser todo el territorio de la República o parte de é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de emisión se aplicarán en el territorio señalado en el Decr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143000"/>
            <a:ext cx="76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Cómo se verifica el cumplimiento de una norma ambienta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l cumplimiento de una norma de calidad primaria deberá verificarse mediante mediciones en donde existan asentamientos huma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s normas de emisión se medirán en el efluente de la fuente emisora y en un periodo de tiempo determinado, cuando correspo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11588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8288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ién coordina el proceso de dictación de una norma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coordinación del proceso de dictación de normas corresponderá a la CONA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16002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48560" y="2955960"/>
            <a:ext cx="1824480" cy="363240"/>
            <a:chOff x="3148560" y="2955960"/>
            <a:chExt cx="1824480" cy="363240"/>
          </a:xfrm>
        </p:grpSpPr>
        <p:sp>
          <p:nvSpPr>
            <p:cNvPr id="167" name=""/>
            <p:cNvSpPr/>
            <p:nvPr/>
          </p:nvSpPr>
          <p:spPr>
            <a:xfrm>
              <a:off x="3180960" y="2973600"/>
              <a:ext cx="167472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8560" y="2955960"/>
              <a:ext cx="1824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APROBAC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TEPROYECT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963880" y="3489480"/>
            <a:ext cx="22734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334840" y="3406680"/>
            <a:ext cx="1274040" cy="774720"/>
            <a:chOff x="5334840" y="3406680"/>
            <a:chExt cx="1274040" cy="774720"/>
          </a:xfrm>
        </p:grpSpPr>
        <p:sp>
          <p:nvSpPr>
            <p:cNvPr id="171" name=""/>
            <p:cNvSpPr/>
            <p:nvPr/>
          </p:nvSpPr>
          <p:spPr>
            <a:xfrm>
              <a:off x="5402160" y="3423960"/>
              <a:ext cx="93348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840" y="3406680"/>
              <a:ext cx="1274040" cy="77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GEN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DE  IMPAC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CONOMIC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Y SOCIAL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50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38800" y="523800"/>
            <a:ext cx="2310480" cy="236520"/>
            <a:chOff x="3538800" y="523800"/>
            <a:chExt cx="2310480" cy="236520"/>
          </a:xfrm>
        </p:grpSpPr>
        <p:sp>
          <p:nvSpPr>
            <p:cNvPr id="174" name=""/>
            <p:cNvSpPr/>
            <p:nvPr/>
          </p:nvSpPr>
          <p:spPr>
            <a:xfrm>
              <a:off x="3560400" y="537840"/>
              <a:ext cx="2173320" cy="2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38800" y="523800"/>
              <a:ext cx="231048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OGRAMA PRIORIZADO DE NOR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948040" y="4419720"/>
            <a:ext cx="3645000" cy="15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03440" y="4491000"/>
            <a:ext cx="2720880" cy="236520"/>
            <a:chOff x="3403440" y="4491000"/>
            <a:chExt cx="2720880" cy="236520"/>
          </a:xfrm>
        </p:grpSpPr>
        <p:sp>
          <p:nvSpPr>
            <p:cNvPr id="178" name=""/>
            <p:cNvSpPr/>
            <p:nvPr/>
          </p:nvSpPr>
          <p:spPr>
            <a:xfrm>
              <a:off x="3403440" y="4508640"/>
              <a:ext cx="2473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09920" y="4491000"/>
              <a:ext cx="2714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OBSERVACIONES FORMULADAS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7280" y="2320920"/>
            <a:ext cx="63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15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51160" y="109440"/>
            <a:ext cx="6228720" cy="881280"/>
            <a:chOff x="1451160" y="109440"/>
            <a:chExt cx="6228720" cy="881280"/>
          </a:xfrm>
        </p:grpSpPr>
        <p:sp>
          <p:nvSpPr>
            <p:cNvPr id="182" name=""/>
            <p:cNvSpPr/>
            <p:nvPr/>
          </p:nvSpPr>
          <p:spPr>
            <a:xfrm>
              <a:off x="1451160" y="109440"/>
              <a:ext cx="622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cc"/>
                  </a:solidFill>
                  <a:latin typeface="Arial"/>
                </a:rPr>
                <a:t>PROCEDIMIENTO DE DICTACION DE NORMAS AMBIEN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58960" y="3873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7720" y="657360"/>
              <a:ext cx="1807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02600" y="137160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8960" y="4724280"/>
            <a:ext cx="98928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fin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61560" y="304956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Consu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529440" y="5351400"/>
            <a:ext cx="2427840" cy="500400"/>
            <a:chOff x="3529440" y="5351400"/>
            <a:chExt cx="2427840" cy="500400"/>
          </a:xfrm>
        </p:grpSpPr>
        <p:sp>
          <p:nvSpPr>
            <p:cNvPr id="189" name=""/>
            <p:cNvSpPr/>
            <p:nvPr/>
          </p:nvSpPr>
          <p:spPr>
            <a:xfrm>
              <a:off x="3982680" y="5365440"/>
              <a:ext cx="124776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9440" y="5351400"/>
              <a:ext cx="242784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ESENTACION PROYECTO DEFINIT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L CONSEJO DIRECTIVO DE CONAM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1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360" y="6553080"/>
            <a:ext cx="237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cc"/>
                </a:solidFill>
                <a:latin typeface="Arial"/>
              </a:rPr>
              <a:t>(1), (2), (3) y (4) etapas Art. 32, Ley 19.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990720"/>
            <a:ext cx="36450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87640" y="1079640"/>
            <a:ext cx="3435120" cy="347760"/>
            <a:chOff x="2987640" y="1079640"/>
            <a:chExt cx="3435120" cy="347760"/>
          </a:xfrm>
        </p:grpSpPr>
        <p:sp>
          <p:nvSpPr>
            <p:cNvPr id="194" name=""/>
            <p:cNvSpPr/>
            <p:nvPr/>
          </p:nvSpPr>
          <p:spPr>
            <a:xfrm>
              <a:off x="3697200" y="1096920"/>
              <a:ext cx="855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87640" y="1079640"/>
              <a:ext cx="343512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DE INICIO PROCES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800" spc="-1" strike="noStrike">
                  <a:solidFill>
                    <a:srgbClr val="0000cc"/>
                  </a:solidFill>
                  <a:latin typeface="Arial"/>
                </a:rPr>
                <a:t>Plazo recepción de antecedentes (&lt; 70 días) -- Crea expediente públ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46040" y="1600200"/>
            <a:ext cx="1353240" cy="237600"/>
            <a:chOff x="4046040" y="1600200"/>
            <a:chExt cx="1353240" cy="237600"/>
          </a:xfrm>
        </p:grpSpPr>
        <p:sp>
          <p:nvSpPr>
            <p:cNvPr id="197" name=""/>
            <p:cNvSpPr/>
            <p:nvPr/>
          </p:nvSpPr>
          <p:spPr>
            <a:xfrm>
              <a:off x="4068720" y="1617840"/>
              <a:ext cx="1273320" cy="21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6040" y="1600200"/>
              <a:ext cx="135324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FORMACION COM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85600" y="1973160"/>
            <a:ext cx="2423160" cy="234720"/>
            <a:chOff x="3585600" y="1973160"/>
            <a:chExt cx="2423160" cy="234720"/>
          </a:xfrm>
        </p:grpSpPr>
        <p:sp>
          <p:nvSpPr>
            <p:cNvPr id="200" name=""/>
            <p:cNvSpPr/>
            <p:nvPr/>
          </p:nvSpPr>
          <p:spPr>
            <a:xfrm>
              <a:off x="3610080" y="1987200"/>
              <a:ext cx="2082600" cy="22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85600" y="1973160"/>
              <a:ext cx="24231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STUDIOS CIENTIFICOS Y TECNICOS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63000" y="2362320"/>
            <a:ext cx="2237400" cy="237600"/>
            <a:chOff x="3663000" y="2362320"/>
            <a:chExt cx="2237400" cy="237600"/>
          </a:xfrm>
        </p:grpSpPr>
        <p:sp>
          <p:nvSpPr>
            <p:cNvPr id="203" name=""/>
            <p:cNvSpPr/>
            <p:nvPr/>
          </p:nvSpPr>
          <p:spPr>
            <a:xfrm>
              <a:off x="3686040" y="2376360"/>
              <a:ext cx="20829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63000" y="2362320"/>
              <a:ext cx="2237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ANTEPROYE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013560" y="3646440"/>
            <a:ext cx="842760" cy="363240"/>
            <a:chOff x="3013560" y="3646440"/>
            <a:chExt cx="842760" cy="363240"/>
          </a:xfrm>
        </p:grpSpPr>
        <p:sp>
          <p:nvSpPr>
            <p:cNvPr id="206" name=""/>
            <p:cNvSpPr/>
            <p:nvPr/>
          </p:nvSpPr>
          <p:spPr>
            <a:xfrm>
              <a:off x="3068280" y="3660840"/>
              <a:ext cx="720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13560" y="3646440"/>
              <a:ext cx="842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UBL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22560" y="3965400"/>
            <a:ext cx="57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6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36240" y="3570120"/>
            <a:ext cx="1172160" cy="500400"/>
            <a:chOff x="3936240" y="3570120"/>
            <a:chExt cx="1172160" cy="500400"/>
          </a:xfrm>
        </p:grpSpPr>
        <p:sp>
          <p:nvSpPr>
            <p:cNvPr id="210" name=""/>
            <p:cNvSpPr/>
            <p:nvPr/>
          </p:nvSpPr>
          <p:spPr>
            <a:xfrm>
              <a:off x="3954240" y="3584160"/>
              <a:ext cx="93348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6240" y="3570120"/>
              <a:ext cx="117216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 A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EJ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IVOS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461040" y="4870440"/>
            <a:ext cx="2638080" cy="363240"/>
            <a:chOff x="3461040" y="4870440"/>
            <a:chExt cx="2638080" cy="363240"/>
          </a:xfrm>
        </p:grpSpPr>
        <p:sp>
          <p:nvSpPr>
            <p:cNvPr id="213" name=""/>
            <p:cNvSpPr/>
            <p:nvPr/>
          </p:nvSpPr>
          <p:spPr>
            <a:xfrm>
              <a:off x="3510000" y="4884840"/>
              <a:ext cx="208296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61040" y="4870440"/>
              <a:ext cx="26380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PROYECTO DEFINITIV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4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81800" y="6165720"/>
            <a:ext cx="3951720" cy="237960"/>
            <a:chOff x="2881800" y="6165720"/>
            <a:chExt cx="3951720" cy="237960"/>
          </a:xfrm>
        </p:grpSpPr>
        <p:sp>
          <p:nvSpPr>
            <p:cNvPr id="216" name=""/>
            <p:cNvSpPr/>
            <p:nvPr/>
          </p:nvSpPr>
          <p:spPr>
            <a:xfrm>
              <a:off x="4097160" y="6180120"/>
              <a:ext cx="12477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81800" y="6165720"/>
              <a:ext cx="395172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SOMETIDO A CONSIDERACION DEL PRESIDENTE DE LA REPUB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848720" y="5789520"/>
            <a:ext cx="849240" cy="839880"/>
            <a:chOff x="7848720" y="5789520"/>
            <a:chExt cx="849240" cy="8398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7848720" y="578952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7848720" y="578952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924680" y="5562720"/>
            <a:ext cx="849600" cy="839520"/>
            <a:chOff x="7924680" y="5562720"/>
            <a:chExt cx="849600" cy="8395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924680" y="5562720"/>
              <a:ext cx="84960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 txBox="1"/>
            <p:nvPr/>
          </p:nvSpPr>
          <p:spPr>
            <a:xfrm>
              <a:off x="7924680" y="5562720"/>
              <a:ext cx="849600" cy="83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Comic Sans MS"/>
              </a:rPr>
              <a:t>COMITÉ 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l Director Ejecutiv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revia aprobación del Conse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irectivo, podrá cre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Comités Operativos form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or representant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los ministerios, servicios 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más organismos compet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 igual forma y con el mismo objetivo, podrá crear comités consultivos con participación de personas naturales y jurídicas ajenas a la Administración del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338800" y="22860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1828800"/>
            <a:ext cx="7620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tuaciones de emerg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O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1828800"/>
            <a:ext cx="762012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Qué criterios debo considerar para elaborar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Gravedad y la frecuencia del daño y efectos adversos obser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ntidad de población expue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calización, abundancia, persistencia y origen del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nsformación ambiental o alteraciones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abólicas secundaria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I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772400" y="1219320"/>
            <a:ext cx="841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os con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o de Regu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imiento para la dictación de Normas Ambientales en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ción a 10 años de apl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1066680"/>
            <a:ext cx="7620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para establecer los niveles de riesgo para la sal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y caracterizar 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su distribución en el país, identificando el nivel actual exis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copilar antecedentes acerca de efectos adver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las vías, fuentes, rutas y medios de exposi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efectos independientes, aditivos, sinérgicos, acumulativo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177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762120"/>
            <a:ext cx="76201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una norma de emis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 medida en el efl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Objetivos de protec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Ámbito territorial de su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ipos de fuentes regulad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457200"/>
            <a:ext cx="76197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para determinar los valores de la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nor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centración ambiental o distribución en el área de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lación entre emisiones del contaminante y calidad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pacidad de dilución y autodepuración del medio rece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fectos del contaminante sobre la salud de las personas, la flora o la fauna u otros ele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ecnologías aplicables a cada caso y análisis de la factibilidad técnica y económica de su imple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315200" y="3200400"/>
            <a:ext cx="1487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PARTICIPACION</a:t>
            </a:r>
            <a:br>
              <a:rPr sz="1600"/>
            </a:b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CIUDAD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1447560" cy="808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 rot="10800000">
            <a:off x="7467120" y="1371240"/>
            <a:ext cx="1111320" cy="1676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Cuáles son los mecanismos de particip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programa priorizado de nor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olución de in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stablecimiento de fecha recepción de ant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xpediente públ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Tabla pública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umen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anteproy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lazo 60 días para formular consultas y aportar observ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Diario Oficial norma defini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Mecanismo de recla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0" r="63343" b="0"/>
          <a:stretch/>
        </p:blipFill>
        <p:spPr>
          <a:xfrm>
            <a:off x="7848720" y="30492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Normas Ambientales Vigent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mic Sans MS"/>
              </a:rPr>
              <a:t>Primar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46/97: r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29/2002: ruido b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65/98: Arsénico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67/99: Olores TRS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59/ 98: PM 10 d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15/02: 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45/01 PM10 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114/02: N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2/02: O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3/02: S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36/00: pl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Secund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09/98: emisión Alcantarill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86/98 : Contaminación lumí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90: emisión aguas marinas y continentales superfi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visión DS 6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46/02: Emisión a aguas subterrán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30/02: Buses locomoción colec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4/00: Motocicl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4/94: vehículos motoriz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3/00: Hidrocarburos no metánicos vehículos livianos y med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Logros alcanzados con la aplicación del instru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de formulación de normas en ope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ciones generales y específicas en el ámbito hídrico y atmosfér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que permite toma de decisiones documentada, informada, con participación y en base a consideraciones nacionales y/o lo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capacidades de coordinación interminis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ción de capacidades técnicas en gestión de la contam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imiento de regulaciones con participación multisecto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bilid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información us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dominio de antecedentes interna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ación de Riesgos au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 analític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General del Impacto Económ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asa participación ciudad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étodo “escrito” v/s “ora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estratégico mediano y largo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ción Externa: OEC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rrollar y fortalecer aún más los marcos normativos para mejorar la salud ambiental y cumplir los compromisos internacionales; examinar formas de fortalecer la capacidad de cumplimiento y fiscalización, incluso mediante reformas institucionales, como por ejemplo el establecimiento de un órgano de inspección ambienta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ás recomend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esar en la puesta en práctica de programas de calidad del aire, incluidos los relacionados con la minería, orientados al material particulado y ozono; dar seguimiento al avance y a los efectos de los programas en la salud mediante indicadores apropi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normas de emisión 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onitoreo de la calidad del aire en ciudades princip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edidas de eficiencia energétic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Qué es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condiciones para que los agentes desarrollen sus activ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los objetivos de la gestión ambien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el nivel de riesgo socialmente acep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qué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Económ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mercados no funcionan so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Instituciones del Estado no funcionan so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políticas y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metas que el mercado no puede definir (equidad, prioridad en salud, etc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Juríd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je de conflictos en el marc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llas de Merc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ertidumb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metría de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i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a no coincide con Neces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salud de la població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Primaria de Ca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recursos naturales y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atrimonio ambien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Secundaria de Calidad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flipH="1" rot="10800000">
            <a:off x="4952880" y="4191120"/>
            <a:ext cx="755640" cy="69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867280" y="4343400"/>
            <a:ext cx="1060560" cy="144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962520" cy="3454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1337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Comic Sans MS"/>
              </a:rPr>
              <a:t>NORMAS DE EM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ablecen la cantidad máx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ermitida para un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dida en el efluente  d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uente emis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990720"/>
            <a:ext cx="1557360" cy="335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914400"/>
            <a:ext cx="44103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uál es el procedimiento para la dictación de una norma de calidad ambiental y de emis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procedimiento se sujetará a las disposiciones del Reglamento para la Dictación de Normas de Calidad Ambiental y Emisión (D.S. 93/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1447920"/>
            <a:ext cx="655308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ómo se priorizan las nor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AMA consulta a instituciones del Estado c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mpetencia reguladora y a Dirección Reg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sulta a instituciones privadas, academias y 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 de Programa Priorizado a Consejo Consultivo 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de propuesta  al Consejo Directivo de Conama con una reseña de todas las opiniones vert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2057400" cy="10191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22:14Z</dcterms:created>
  <dc:creator>Cenma</dc:creator>
  <dc:description/>
  <dc:language>en-US</dc:language>
  <cp:lastModifiedBy>Dii</cp:lastModifiedBy>
  <dcterms:modified xsi:type="dcterms:W3CDTF">2005-11-18T16:40:50Z</dcterms:modified>
  <cp:revision>12</cp:revision>
  <dc:subject/>
  <dc:title>La Regulación Ambiental</dc:title>
</cp:coreProperties>
</file>