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95B-ACE1-4604-919C-CE908F08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7AE-4D16-4ED9-94E9-905F622F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518-23C0-4723-8942-7852BE43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E54-4BD9-47C8-A466-8B23BEA0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CB2-12BC-4479-92AD-2267E94F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67C-A322-47D7-B8CA-1BCFCEC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FC4-673C-4E40-8845-BB990B6A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400-86DE-481E-AA60-C9E351B1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A9E-3F3A-48E6-879C-5C621007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619-A363-4DC4-8A91-5962083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A5B-D556-441F-BD69-E9F363C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30F-FA1B-4833-8244-C55E673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4909-69B9-46D9-8503-1BD39A840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56A-E744-4ED8-BE31-E51BB303094F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Mujica y Cia.</cp:lastModifiedBy>
  <dcterms:modified xsi:type="dcterms:W3CDTF">2005-11-04T14:09:49Z</dcterms:modified>
  <cp:revision>40</cp:revision>
  <dc:subject/>
  <dc:title>Presentación de PowerPoint</dc:title>
</cp:coreProperties>
</file>