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ick.wav" ContentType="audio/x-wav"/>
  <Override PartName="/ppt/media/image6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0AE-E9FC-4285-B314-A288DCA1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922-2FE3-48B1-9543-4C52A437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D20B-2F27-4681-88F5-C0CF1D9D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4581-1C3C-4B4F-B919-8E8D7E96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45A7-D623-4E12-A7B1-D347AF0C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809-BBF3-4B4A-8B1A-7376D386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4B84-21CC-4301-A28C-AEBEF50E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74A-18E0-4515-8FD3-BF964DE9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F5B6-5513-422F-8DF1-49D813E4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6879-881D-4162-BB6B-133546DA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3423-DC08-4350-8645-6379B0AB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D8A-7225-4B35-83D0-E12D1523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10E1-B105-45A9-A6F2-69571A27E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8930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IPACION CIUDADANA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TRANSPA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LA GESTION PUBLICA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1447920"/>
            <a:ext cx="752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RGANOS ADMINISTRACIÓN DEL EST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sterios, intendencias, gobernaciones y los órganos y servicios públicos, incluyendo:  Contraloría General de la República, Banco Central, Fuerzas Armadas y las Fuerzas de Orden  y Seguridad Pública,  Gobiernos Regionales, las Municipalidades y las empresas públicas creadas por le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extiende a informes y antecedentes de empresas privadas que presten servicios de utilidad pública y a empresas a que se refiere Ley Sociedades Anónima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icinas de Información O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to Nº 680, de 1990, del Ministerio del Interior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énes:  Ministerios, Intendencias, Gobernaciones y servicios públicos creados para el cumplimiento de la función administrat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 qué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asistir al administrado en su derecho a presentar peticiones, sugerencias o reclamos ante la Administración del Esta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IONES DE LAS OI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r sobre  organización, competencia y funcionamiento de la institución y los requisitos para formular presentacion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istir al administrado en dificultades en la tramitación de sus asunto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ibir y estudiar sugerencias que los administrados presenten, con el objeto de mejorar el funcionamiento del órg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ibir los reclamos de los administrado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1584360"/>
            <a:ext cx="8028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PUBL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documentos publicados íntegramente en el Diario Oficial son públicos y deben estar en un índice en las Oficinas de Información, Reclamos y Sugerencias OIR (DS Nº 680, de 1990 Ministerio del Interior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ada Jefe Superior  establecerá la forma y contenido  del índice. Datos mínimos: i) individualización del acto o documento, señalando naturaleza, identificación o numeración; ii)  fecha de su emisión; y iii) fecha y lugar de la publicación del acto o docum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1916280"/>
            <a:ext cx="78854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AUSALES DENEGAC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serva o secreto, establecida por ley o reglament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que la publicidad impida o entorpezca debido cumplimiento funciones del órgan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la oposición terceros a quienes se refiere o afecta la informació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divulgación o entrega afecte sensiblemente derechos o intereses de terceros, según calificación fundada del jefe superior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que la publicidad afecte seguridad Nación o  interés nac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1197000"/>
            <a:ext cx="867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DE SECRETO O RESERVA BASADA EN PROTECCIÓN D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NTERESES PÚBLICO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) los relativos a la defensa y seguridad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) los relativos a la política exterior o las relaciones internacional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) los relativos a la política monetaria y divisa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) aquellos cuya comunicación pueda perjudicar a la moneda y al crédito públic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) los relativos al mantenimiento del orden público y la prevención y represión de la criminalidad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) aquellos cuya comunicación perjudique desarrollo de procedimientos jurisdiccionales o de actuaciones preparativas de aquellos que la  ley encomiende a organismos de la Administración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) aquellos cuya comunicación perjudique la investigación por los servicios públicos de delitos y infracciones administrativas, tributarias o aduanera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)  aquellos cuyo conocimiento pueda impedir u obstaculizar gravemente el ejercicio de la acción administrativa del órgan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) la correspondencia oficial debidamente calificada por la autoridad según lo  dispuesto en  el DS N° 291 de 1974 del Ministerio del Int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1268280"/>
            <a:ext cx="831708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DE SECRETO O RESERVA BASADA EN LA PROTECCIÓN DE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NTERESES PRIVADOS DE LOS ADMINISTRADOS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) Los de carácter nominativo, es decir, que contengan una apreciación de juicio o valor sobre una persona determinada o claramente identifi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) Aquellos cuya comunicación afecte la vida privada de una persona individualizada o identifi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) Los expedientes relativos a procedimientos sancionatorios o disciplinarios de cualquier naturaleza, solo respecto de terceros ajenos a dichos procedimi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) Los expedientes médicos o sanit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) Los que contengan o se refieran a secretos industriales y comerciales, incluyendo procedimientos de fabricación, las informaciones económicas y financieras y las estrategias comerciales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7280" y="907920"/>
            <a:ext cx="6913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80"/>
                </a:solidFill>
                <a:latin typeface="Century Gothic"/>
                <a:ea typeface="Times New Roman"/>
              </a:rPr>
              <a:t>      </a:t>
            </a:r>
            <a:r>
              <a:rPr b="0" lang="es-ES_tradnl" sz="1400" spc="-1" strike="noStrike" u="sng">
                <a:solidFill>
                  <a:srgbClr val="008080"/>
                </a:solidFill>
                <a:uFillTx/>
                <a:latin typeface="Century Gothic"/>
                <a:ea typeface="Times New Roman"/>
              </a:rPr>
              <a:t>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QUEMA SOLICITUD DE  AC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32240"/>
            <a:ext cx="1398600" cy="10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citud de persona u 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49400" y="3394080"/>
            <a:ext cx="1482840" cy="107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uesta de organism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73520" y="3610080"/>
            <a:ext cx="6843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060640"/>
            <a:ext cx="15955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3394080"/>
            <a:ext cx="1595520" cy="12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haza la solicitud de información o no resp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4929120"/>
            <a:ext cx="1595520" cy="12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ta a terceros potencialmente afec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10240" y="3394080"/>
            <a:ext cx="1595520" cy="107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lamo ante Juzgado de Le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60840" y="4929120"/>
            <a:ext cx="102564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días háb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4720" y="4929120"/>
            <a:ext cx="159552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4720" y="5808600"/>
            <a:ext cx="159552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haza 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20240" y="6248520"/>
            <a:ext cx="455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8675640" y="3833280"/>
            <a:ext cx="0" cy="23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105400" y="383364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22600" y="383364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32240" y="383364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32240" y="4048200"/>
            <a:ext cx="455400" cy="86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57880" y="383364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116240" y="2502000"/>
            <a:ext cx="684360" cy="10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6480" y="53690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96120" y="3833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396120" y="5152680"/>
            <a:ext cx="22860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96120" y="5592600"/>
            <a:ext cx="228600" cy="64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41360"/>
            <a:ext cx="88200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295280"/>
            <a:ext cx="882000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ION DE AMPA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equirente tendrá derecho a recurrir al juez de letra  civil de turno   del domicilio del órgano de la Administr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l juez notifica por cédula en oficina de partes del  órgano correspondiente y en el domicilio del tercero si lo hubie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utoridad tiene 5 días para presentar descargos y adjuntar medios de prue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sentencia se dictará dentro de tercero día de vencido el plazo para presentar descar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sentencia definitiva es apelable en ambos efectos, dentro del plazo de 5 días desde la notificación. El fallo no es susceptible recurso de casación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1525680"/>
            <a:ext cx="86040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A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e acoge reclamación, sentencia fija plazo prudencial para entreg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ribunal puede aplicar multa al jefe del servicio de 2 a 10 UT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no entrega oportuna de los documentos será sancionada con suspensión del jefe de servicio por  lapso de 5 a 15 días y multa de 2 a 10 UTM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jefe de servicio persiste se aplica doble de las sanciones.  El costo del material será siempre del requir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19162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   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PECTOS POSITIVOS DE NUESTRO ACTUA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Se consagra  Principio de Transparencia y Publicida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La información puede ser requerida por cualquier person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No es necesario expresar motivo del requerimiento de la informació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El derecho comprende el de recibir copi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Plazos brev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El silencio administrativo positivo como regla gener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cursos judicial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sponsa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RCO LEGAL ACCESO A LA INFORMAC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1197000"/>
            <a:ext cx="86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     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PECTOS NEG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misma ley que contempla el derecho de acceso a la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formación es la que presenta las barreras a ésta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causales de negación de la información quedan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regadas a la autoridad administrativa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 conjunto de derechos de acceso no se encuentran   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rticulados en un cuerpo legal único y autónomo.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asunto queda entregado solamente a la justicia ordin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ORMA CO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ículo 8º,  Capítulo Primero sobre Bases de la Institucionalidad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jercicio de las funciones públicas obliga a sus titulares a dar estricto cumplimiento al principio de probidad en todas sus actu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 públicos los actos y resoluciones de los órganos del Estado, así como sus fundamentos y los procedimientos que utilicen. Sin embargo, sólo una ley de quórum calificado podrá establecer la reserva o secreto de aquéllos o de éstos, cuando la publicidad afectare el debido cumplimiento de las funciones de dichos órganos, los derechos de las personas, la seguridad de la Nación o el interés nacional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8893080" cy="60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YECTO DE L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iende concepto de información pública a toda información en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er de la Administración y toda documentación financiada co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upuesto públic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cluye dentro de los obligados al Poder Legislativ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iende el plazo para entregar la información a 10 días hábil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stablece en la misma ley las causales para denegar informació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gula requisitos de una petición de acceso y obligación de remitir la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citud a la institución competent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 elevan las sanciones a funcionarios acceso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 restringen causales sesiones del Congreso con carácter de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AS NO INCLUIDOS PROYECTO DE L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incluye ámbito administrativo Poder Judi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osición de terceros no necesita ser fundamentad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ción de amparo sigue quedando entregado a los jueces civi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recoge creación de un órgano administrativo, autónomo e independiente, evitando la instancia judicial como  única instancia de revisión. Este órgano cumpliría con las funciones de promoción del derecho.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Qué es necesario además  para mejorar esta situación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oluntad política para garantizar el acceso a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rementar el conocimiento de los funcionarios y la sociedad civil acerca del derecho de acceso a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jorar el diseño institucional de las instituciones para garantizar la entrega de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pacitar a jueces en formación en materia de acceso a la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ueva normativa para Ch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click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sultados </a:t>
            </a:r>
            <a:br>
              <a:rPr sz="2000"/>
            </a:b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udi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Acceso a la informació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ública en Chile</a:t>
            </a:r>
            <a:br>
              <a:rPr sz="3200"/>
            </a:b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ayo 2005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508720" y="5151600"/>
            <a:ext cx="2950920" cy="1066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r las condiciones para ejercer el derecho de acceso a información pública, de acuerdo a los estándares nacionales e internacionales en la ma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odologí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ada por el Open Society Institute e implementada simultáneamente en 10 países de América, África y Euro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rgenti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er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en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Bulga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Franc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España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edonia     Rumania           Sudá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269720"/>
            <a:ext cx="8497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0 pedi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 información públ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dos p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voluntari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 diferentes perfi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eriodistas, 2 ONG´s, 1 empresario, 1 estudiante universitario, 1 empleado mapu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dos 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isteri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ituciones del Poder Judi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nicip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resas privadas prestadoras de servici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emp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templados para evaluar las respuestas a los pedid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ntro de los 1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e 11 y 2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de 2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respond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ipo d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olicitó información de: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ut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ifíci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nsib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solicitó información que pudiera afectar la seguridad pública o de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po de informació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difíc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 casos en que la respuesta debe ser de alguna forma compilada o investig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sensib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sos en que las respuestas pudieran ser políticamente sensibles o que pudieran generar susceptibilidades en la cultura particular de un determinado paí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de rutina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refiere a información de disponibilidad auto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1483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ARCO JURÍDICO INTERNACION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Universal del Derechos Humanos de 1948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cto Internacional de Derechos Civiles y Políticos, 1966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vención Americana sobre Derechos Humano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cto de San José de Costa Rica, 1969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346040"/>
            <a:ext cx="820728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6 Ministerios: 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Defensa, Hacienda, Justicia, MIDEPLAN, CONAMA, Secretaría General de Presidenc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2 instituciones Poder Judicial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Corte Suprema y Juzgado Civil Nº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8 Municipios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Vitacura, Las Condes, Lo Barnechea, La Reina, Lo Prado, Lo Espejo, Ñuñoa, Pedro Aguirre Cer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2 Empresas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Aguas Andinas y Canal Megavi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115920"/>
            <a:ext cx="83628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ituciones a las que se le solicitó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63560" y="2662200"/>
          <a:ext cx="7569360" cy="2030400"/>
        </p:xfrm>
        <a:graphic>
          <a:graphicData uri="http://schemas.openxmlformats.org/drawingml/2006/table">
            <a:tbl>
              <a:tblPr/>
              <a:tblGrid>
                <a:gridCol w="7569360"/>
              </a:tblGrid>
              <a:tr h="20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os que se presentan a continuación son sólo una fotografía de un aspecto de las institucion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alizadas y, por lo tanto, no deben ser generalizados.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940360" y="5837400"/>
            <a:ext cx="2303640" cy="831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57200" y="1171440"/>
            <a:ext cx="26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mportan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lick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68360" y="1052640"/>
          <a:ext cx="807732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07732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3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1: Resultados Generales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62A-A40E-4D45-ABC5-9D3B99399D61}" type="slidenum">
              <a:t>32</a:t>
            </a:fld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680" y="1054080"/>
          <a:ext cx="9134640" cy="44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054080"/>
                    <a:ext cx="913464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2: Resultados por institución (#)</a:t>
            </a:r>
            <a:br>
              <a:rPr sz="3200"/>
            </a:b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RVICIOS PÚBLICOS Y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50920" y="1484280"/>
          <a:ext cx="8642160" cy="42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864216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3: Resultados por institución (#)</a:t>
            </a:r>
            <a:br>
              <a:rPr sz="32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554040" y="917640"/>
          <a:ext cx="782784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917640"/>
                    <a:ext cx="78278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4: Respuesta a la misma solicitud hecha por distintas personas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24000" y="1351080"/>
          <a:ext cx="8642160" cy="42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51080"/>
                    <a:ext cx="864216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5: Información denegada por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tipo de institución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228600" y="1125360"/>
          <a:ext cx="86868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25360"/>
                    <a:ext cx="86868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72720"/>
            <a:ext cx="914400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6: Información recibida por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tipo de respuesta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684360" y="1125360"/>
          <a:ext cx="7543800" cy="48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754380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5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7: Ranking de peticiones de información sin respuesta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17360"/>
            <a:ext cx="9144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lgunos ejemplos de respuestas negativas recibi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68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nosotros no damos información de forma oral, debe presentar su solicitud por escrit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...) En todo caso, su derecho a la información supone que Ud. tenga un interés comprometid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o pedido no cumple con los requisitos de a) que el documento no revista el carácter de reservado y b) que la información contenida en dicho antecedente solicitado afecte directamente al particular que lo solicita o se vincule con situaciones fácticas concretas en que le corresponde intervenir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557360"/>
            <a:ext cx="88200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SAGRACION EN DERECHO INTERNACIONAL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da persona tiene derecho a la libertad de pensamiento y de expre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e derecho comprende la libertad de buscar, recibir y difundir informaciones e ideas de toda índ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a sea oralmente, por escrito,  o por cualquier  otro proced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820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17% de los casos se accedió a la información solicitad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69% de los casos no se obtuvo respuest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hile está en el último lugar de los 10 países evalu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general los Municipios tienden a brindar información en mayor medida que los Ministerios, las Instituciones del Poder Judicial y las empresas privadas de servici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gral. se observa que numerosas instituciones que tienden a responder, lo hacen vencido el plazo de 10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instituciones de Justicia y las empresas de servicios públicos analizadas han tendido a no responder los pedidos de información pública presentados en est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servaciones fin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44000" y="1341000"/>
            <a:ext cx="8820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ién se ha observado que la categoría de las preguntas (sensibles, difíciles o de rutina) no pareciera ser determinante a la hora de entregar inform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aprecia que los servicios públicos no están organizados para entrega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percibe un escaso conocimiento por parte de los funcionarios públicos del derecho de acceso a la información pública y de la normativa nacional e internacional en la materia y las obligaciones que éstas impo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servaciones finales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1773360"/>
            <a:ext cx="838836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RECHO TRANSVERS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iminación de la corrupción y arbitraried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ción de la participación a través del desarrollo de una ciudadanía informa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os de comunicación más efectivos y basados en hechos verdader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ción del control sobre las funciones públ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2421000"/>
            <a:ext cx="7667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¿QUÉ ES ACCESO A LA INFORMACIÓN DE CARÁCTER PÚBL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recho que tienen los ciudadanos de acceder a la información sobre hechos que tengan relevancia o interés público, permitiendo la formación de una opinión razonable y fundamenta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1280" y="1600200"/>
            <a:ext cx="788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¿A QUE INFORMACION PODEMOS ACCED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on públicos los actos administrativos de los órganos de la Administración del Estado y los documentos que les sirvan de sustento o complemento directo  y esenci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ey N° 19.653, modifica Ley Orgánica Constitucional de Bases Generales de la Administración del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1600200"/>
            <a:ext cx="658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CTOS ADMINISTRATIV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decisiones formales que emiten los órganos de la Administración del Estado en las que se contienen declaraciones finales de voluntad, realizadas en el ejercicio de una potestad públ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981000"/>
            <a:ext cx="838836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SUSTENTATORIO O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Documen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todo escrito, correspondencia, memorándum, fotografía, video, y en general  todo soporte material que contenga información, cualquiera sea su forma  física o características y las copias de aquell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Documento de respald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 los agregados al acto administrativo que permiten verificar el contenido del mismo de manera íntegra y perfec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Complemento direc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los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que se vinculen necesariamente al acto administrativ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que concurren y siempre que dicho acto se haya dictado, precisa e inequívocamente,  sobre las bases de esos docu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Complemento esencia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os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indispensables para la elaboración y dictación del acto administrativ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que concurren, de modo que son inseparables del m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7:47:51Z</dcterms:created>
  <dc:creator>Mujica y Cia.</dc:creator>
  <dc:description/>
  <dc:language>en-US</dc:language>
  <cp:lastModifiedBy>Mujica y Cia.</cp:lastModifiedBy>
  <dcterms:modified xsi:type="dcterms:W3CDTF">2005-11-04T14:09:49Z</dcterms:modified>
  <cp:revision>40</cp:revision>
  <dc:subject/>
  <dc:title>Presentación de PowerPoint</dc:title>
</cp:coreProperties>
</file>