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1DE1-5119-4274-A5CB-A53091A0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DD3-A513-43B4-98A7-F26793E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80C-3ABC-4913-BBFC-BB41DE88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538A-B16F-464B-85A9-BE27D9827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37A-0BD0-4DA4-9D68-A13895CE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C0B1-765E-45D2-9B85-5360F1A3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0F8-246F-4C34-BEAA-53CBD86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D2C7-28CE-44CD-A64E-15E33063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349-BF2C-4A58-984F-83EA55EB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5D97-AFEF-4CA3-BEF4-F8C618D9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511F-D6BD-4F6C-862F-A7D39EAE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9D4E-54DD-475C-BD76-56D180DB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8531-6E30-436E-B34C-1FA6A4AA7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3BB-9A4F-444D-937C-DF6536865928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Mujica y Cia.</cp:lastModifiedBy>
  <dcterms:modified xsi:type="dcterms:W3CDTF">2005-11-04T14:09:49Z</dcterms:modified>
  <cp:revision>40</cp:revision>
  <dc:subject/>
  <dc:title>Presentación de PowerPoint</dc:title>
</cp:coreProperties>
</file>