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536F4-7D3B-4100-8666-DFD54B4FB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DBD3E-43DE-4EAA-B689-CE31F82BC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5E6B0-16CF-42E9-9136-E9E39733D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D5068-3584-404C-BF86-991C7F56B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3AF65B-DFDC-49A7-AB7C-91B25CAA18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F313A-7B93-456B-BF4F-6D4285E96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02FB0-32A0-4469-8A63-7B69E78CE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9A5A9-51ED-47E9-B8CA-FABC209E8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AB097-7854-4C52-A244-FBAAC5EFE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E68DF-CC98-4160-9299-0615BB73B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7E8A6-84C9-43B7-8CEA-B13F7DA90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DD164-7075-46E1-AA87-919A1A2EA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9095E-992D-4349-BC68-74BFEA970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26DF8-6AB3-4DF3-9781-BC2EB9E14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6404F-1FFA-4C26-A9F0-B5090F233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77DDF-944A-4EBD-AA21-D40EEF51B5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8F9763-DC6B-488C-947C-73015F57D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EFAC3-CA6A-4353-80CC-FDB5A97C5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96DFD-6124-42AE-810D-89D9A4BC7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D9B32-909C-429B-9C13-C8DE91A8B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5BA05-126E-4EC4-8BB0-D6C1A24C3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F3726-5FF7-4281-8665-8BBFE86D9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F2BFD-B432-4F2C-A4CB-43DF1D05B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63776-68B3-4EBB-880D-63EBB4E8A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E2A0-9761-4246-8455-1FB7E69987C8}"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F608-3524-496E-B8AB-F76B3150C7EC}"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 </a:t>
            </a:r>
            <a:r>
              <a:rPr b="0" lang="es-ES" sz="3200" spc="-1" strike="noStrike">
                <a:solidFill>
                  <a:srgbClr val="40458c"/>
                </a:solidFill>
                <a:latin typeface="Tahoma"/>
              </a:rPr>
              <a:t>Expositor:</a:t>
            </a:r>
            <a:endParaRPr b="0" lang="en-US" sz="3200" spc="-1" strike="noStrike">
              <a:solidFill>
                <a:srgbClr val="40458c"/>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Mtro. Juan José García Espinosa</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0000"/>
          </a:bodyPr>
          <a:p>
            <a:pPr marL="308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Tercera idea: </a:t>
            </a:r>
            <a:r>
              <a:rPr b="0" i="1" lang="es-ES" sz="2800" spc="-1" strike="noStrike">
                <a:solidFill>
                  <a:srgbClr val="40458c"/>
                </a:solidFill>
                <a:latin typeface="Tahoma"/>
              </a:rPr>
              <a:t>La aprobación privada de los espacios públicos es la condición clave para reconocer una conducta ética contraria a los valores básicos de la democracia. Este es el principio de la corrupción</a:t>
            </a:r>
            <a:endParaRPr b="0" lang="en-US" sz="2800" spc="-1" strike="noStrike">
              <a:solidFill>
                <a:srgbClr val="40458c"/>
              </a:solidFill>
              <a:latin typeface="Tahoma"/>
            </a:endParaRPr>
          </a:p>
          <a:p>
            <a:pPr marL="308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a apropiación puede adoptar formas diversas. </a:t>
            </a:r>
            <a:endParaRPr b="0" lang="en-US" sz="2800" spc="-1" strike="noStrike">
              <a:solidFill>
                <a:srgbClr val="40458c"/>
              </a:solidFill>
              <a:latin typeface="Tahoma"/>
            </a:endParaRPr>
          </a:p>
          <a:p>
            <a:pPr marL="308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más conocida es la búsqueda de la riqueza individual mediante el usufructo ilegitimo de recursos públicos. Pero no es la única</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Dejar de cumplir con los objetivos planteados por la democracia, para beneficio político de una persona o de un grupo, es otra forma típica de la apropiación privada del espacio público. Esta es materias del enfoque de políticas públicas</a:t>
            </a:r>
            <a:endParaRPr b="0" lang="en-US" sz="2800" spc="-1" strike="noStrike">
              <a:solidFill>
                <a:srgbClr val="40458c"/>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2640" indent="-33264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Otra forma de apropiación privada de los espacios públicos es la privatización patrimonialista del empleo públic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9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s consecuencias de esas distintas formas de apropiación privada de los espacios públicos se han estudiado desde diversos enfoques:</a:t>
            </a:r>
            <a:endParaRPr b="0" lang="en-US" sz="2800" spc="-1" strike="noStrike">
              <a:solidFill>
                <a:srgbClr val="40458c"/>
              </a:solidFill>
              <a:latin typeface="Tahoma"/>
            </a:endParaRPr>
          </a:p>
          <a:p>
            <a:pPr marL="329040" indent="-329040" algn="just">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foque político</a:t>
            </a:r>
            <a:endParaRPr b="0" lang="en-US" sz="2800" spc="-1" strike="noStrike">
              <a:solidFill>
                <a:srgbClr val="40458c"/>
              </a:solidFill>
              <a:latin typeface="Tahoma"/>
            </a:endParaRPr>
          </a:p>
          <a:p>
            <a:pPr marL="329040" indent="-329040" algn="just">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foque de rendición de cuentas</a:t>
            </a:r>
            <a:endParaRPr b="0" lang="en-US" sz="2800" spc="-1" strike="noStrike">
              <a:solidFill>
                <a:srgbClr val="40458c"/>
              </a:solidFill>
              <a:latin typeface="Tahoma"/>
            </a:endParaRPr>
          </a:p>
          <a:p>
            <a:pPr marL="329040" indent="-329040" algn="just">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foque de administración pública</a:t>
            </a:r>
            <a:endParaRPr b="0" lang="en-US" sz="2800" spc="-1" strike="noStrike">
              <a:solidFill>
                <a:srgbClr val="40458c"/>
              </a:solidFill>
              <a:latin typeface="Tahoma"/>
            </a:endParaRPr>
          </a:p>
          <a:p>
            <a:pPr marL="329040" indent="-329040" algn="just">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foque de política pública</a:t>
            </a:r>
            <a:endParaRPr b="0" lang="en-US" sz="2800" spc="-1" strike="noStrike">
              <a:solidFill>
                <a:srgbClr val="40458c"/>
              </a:solidFill>
              <a:latin typeface="Tahoma"/>
            </a:endParaRPr>
          </a:p>
          <a:p>
            <a:pPr marL="329040" indent="-329040" algn="just">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tc.</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9" name="PlaceHolder 2"/>
          <p:cNvSpPr>
            <a:spLocks noGrp="1"/>
          </p:cNvSpPr>
          <p:nvPr>
            <p:ph/>
          </p:nvPr>
        </p:nvSpPr>
        <p:spPr>
          <a:xfrm>
            <a:off x="684000" y="1125000"/>
            <a:ext cx="7926120" cy="5472360"/>
          </a:xfrm>
          <a:prstGeom prst="rect">
            <a:avLst/>
          </a:prstGeom>
          <a:noFill/>
          <a:ln w="0">
            <a:noFill/>
          </a:ln>
        </p:spPr>
        <p:txBody>
          <a:bodyPr lIns="90000" rIns="90000" tIns="46800" bIns="46800" anchor="t">
            <a:normAutofit fontScale="97000"/>
          </a:bodyPr>
          <a:p>
            <a:pPr marL="332640" indent="-332640" algn="just">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foque político (régimen político): Toda apropiación privada de los espacios de distribución y ejercicio del poder describe los principios de un régimen no democrático</a:t>
            </a:r>
            <a:endParaRPr b="0" lang="en-US" sz="2500" spc="-1" strike="noStrike">
              <a:solidFill>
                <a:srgbClr val="40458c"/>
              </a:solidFill>
              <a:latin typeface="Tahoma"/>
            </a:endParaRPr>
          </a:p>
          <a:p>
            <a:pPr marL="332640" indent="-332640" algn="just">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foque de la transparencia (rendición de cuentas): Todo ocultamiento conduce a la discrecionalidad y a la ausencia de responsabilidad</a:t>
            </a:r>
            <a:endParaRPr b="0" lang="en-US" sz="2500" spc="-1" strike="noStrike">
              <a:solidFill>
                <a:srgbClr val="40458c"/>
              </a:solidFill>
              <a:latin typeface="Tahoma"/>
            </a:endParaRPr>
          </a:p>
          <a:p>
            <a:pPr marL="332640" indent="-332640" algn="just">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foque de administración pública: El uso de los recursos para obtener privilegios privados se traduce en patrimonialismo y en sistema de botín (spoyl system)</a:t>
            </a:r>
            <a:endParaRPr b="0" lang="en-US" sz="2500" spc="-1" strike="noStrike">
              <a:solidFill>
                <a:srgbClr val="40458c"/>
              </a:solidFill>
              <a:latin typeface="Tahoma"/>
            </a:endParaRPr>
          </a:p>
          <a:p>
            <a:pPr marL="332640" indent="-332640" algn="just">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foque de política pública: esa apropiación entendida como una pugna entre intereses encontrados, constituye el desafío más importante de la implementación</a:t>
            </a:r>
            <a:endParaRPr b="0" lang="en-US" sz="2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2349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660066"/>
                </a:solidFill>
                <a:latin typeface="Tahoma"/>
              </a:rPr>
              <a:t>Los valores en un régimen democrático</a:t>
            </a:r>
            <a:endParaRPr b="0" lang="en-US" sz="6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3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democracia apenas comienza: el primer paso de la transición</a:t>
            </a:r>
            <a:endParaRPr b="0" lang="en-US" sz="2800" spc="-1" strike="noStrike">
              <a:solidFill>
                <a:srgbClr val="40458c"/>
              </a:solidFill>
              <a:latin typeface="Tahoma"/>
            </a:endParaRPr>
          </a:p>
          <a:p>
            <a:pPr marL="343080" indent="-343080" algn="just">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democracia es una manera de procesar la vida pública</a:t>
            </a:r>
            <a:endParaRPr b="0" lang="en-US" sz="2800" spc="-1" strike="noStrike">
              <a:solidFill>
                <a:srgbClr val="40458c"/>
              </a:solidFill>
              <a:latin typeface="Tahoma"/>
            </a:endParaRPr>
          </a:p>
          <a:p>
            <a:pPr marL="343080" indent="-343080" algn="just">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 su proceso de construcción está implicada la responsabilidad compartida, la tolerancia y la solidaridad. Sólo así se fortalecen las institucion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3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89000"/>
          </a:bodyPr>
          <a:p>
            <a:pPr marL="305280" indent="-30528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ética alude al comportamiento humano. En ese sentido, se desdobla en valores y en virtudes: algo colectivo y algo individual</a:t>
            </a:r>
            <a:endParaRPr b="0" lang="en-US" sz="2800" spc="-1" strike="noStrike">
              <a:solidFill>
                <a:srgbClr val="40458c"/>
              </a:solidFill>
              <a:latin typeface="Tahoma"/>
            </a:endParaRPr>
          </a:p>
          <a:p>
            <a:pPr marL="305280" indent="-30528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ética supone al menos la elección entre dos opciones encontradas: lo que es bueno y lo que es malo</a:t>
            </a:r>
            <a:endParaRPr b="0" lang="en-US" sz="2800" spc="-1" strike="noStrike">
              <a:solidFill>
                <a:srgbClr val="40458c"/>
              </a:solidFill>
              <a:latin typeface="Tahoma"/>
            </a:endParaRPr>
          </a:p>
          <a:p>
            <a:pPr marL="305280" indent="-30528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a elección supone, a su vez, la existencia de un conjunto de valores admitidos y una decisión individual. La ética puede estudiarse desde ambos lados</a:t>
            </a:r>
            <a:endParaRPr b="0" lang="en-US" sz="2800" spc="-1" strike="noStrike">
              <a:solidFill>
                <a:srgbClr val="40458c"/>
              </a:solidFill>
              <a:latin typeface="Tahoma"/>
            </a:endParaRPr>
          </a:p>
          <a:p>
            <a:pPr marL="305280" indent="-305280" algn="just">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No existe una sola ética: hay tantas variantes como comunidades identificadas por un conjunto de valores, e individuos que actúan </a:t>
            </a:r>
            <a:r>
              <a:rPr b="0" i="1" lang="es-ES" sz="2800" spc="-1" strike="noStrike">
                <a:solidFill>
                  <a:srgbClr val="40458c"/>
                </a:solidFill>
                <a:latin typeface="Tahoma"/>
              </a:rPr>
              <a:t>virtuosamente</a:t>
            </a:r>
            <a:r>
              <a:rPr b="0" lang="es-ES" sz="2800" spc="-1" strike="noStrike">
                <a:solidFill>
                  <a:srgbClr val="40458c"/>
                </a:solidFill>
                <a:latin typeface="Tahoma"/>
              </a:rPr>
              <a:t> en función de esos valores</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or ejemplo: hay una ética islámica; hay una ética del comunismo(¿hubo? China sigue ahí); hay una ética del hinduismo</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ero hay una ética de la democracia occidental? Si la ética alude a los valores, ¿cuáles son los valor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l primer problema es, por lo tanto, una definición aceptable de los valores éticos del sistema democrático</a:t>
            </a:r>
            <a:endParaRPr b="0" lang="en-US" sz="2500" spc="-1" strike="noStrike">
              <a:solidFill>
                <a:srgbClr val="40458c"/>
              </a:solidFill>
              <a:latin typeface="Tahoma"/>
            </a:endParaRPr>
          </a:p>
          <a:p>
            <a:pPr marL="318960" indent="-318960" algn="just">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Cuáles son esos valores? Entre otros:</a:t>
            </a:r>
            <a:endParaRPr b="0" lang="en-US" sz="25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a:t>
            </a:r>
            <a:r>
              <a:rPr b="0" i="1" lang="es-ES" sz="2400" spc="-1" strike="noStrike">
                <a:solidFill>
                  <a:srgbClr val="40458c"/>
                </a:solidFill>
                <a:latin typeface="Tahoma"/>
              </a:rPr>
              <a:t>libertad </a:t>
            </a:r>
            <a:r>
              <a:rPr b="0" lang="es-ES" sz="2400" spc="-1" strike="noStrike">
                <a:solidFill>
                  <a:srgbClr val="40458c"/>
                </a:solidFill>
                <a:latin typeface="Tahoma"/>
              </a:rPr>
              <a:t>individual</a:t>
            </a:r>
            <a:endParaRPr b="0" lang="en-US" sz="24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jercida con los límites propios de la </a:t>
            </a:r>
            <a:r>
              <a:rPr b="0" i="1" lang="es-ES" sz="2400" spc="-1" strike="noStrike">
                <a:solidFill>
                  <a:srgbClr val="40458c"/>
                </a:solidFill>
                <a:latin typeface="Tahoma"/>
              </a:rPr>
              <a:t>legalidad </a:t>
            </a:r>
            <a:endParaRPr b="0" lang="en-US" sz="24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n un ambiente público bien</a:t>
            </a:r>
            <a:r>
              <a:rPr b="0" i="1" lang="es-ES" sz="2400" spc="-1" strike="noStrike">
                <a:solidFill>
                  <a:srgbClr val="40458c"/>
                </a:solidFill>
                <a:latin typeface="Tahoma"/>
              </a:rPr>
              <a:t> informado </a:t>
            </a:r>
            <a:endParaRPr b="0" lang="en-US" sz="24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onde quepa la </a:t>
            </a:r>
            <a:r>
              <a:rPr b="0" i="1" lang="es-ES" sz="2400" spc="-1" strike="noStrike">
                <a:solidFill>
                  <a:srgbClr val="40458c"/>
                </a:solidFill>
                <a:latin typeface="Tahoma"/>
              </a:rPr>
              <a:t>pluralidad </a:t>
            </a:r>
            <a:r>
              <a:rPr b="0" lang="es-ES" sz="2400" spc="-1" strike="noStrike">
                <a:solidFill>
                  <a:srgbClr val="40458c"/>
                </a:solidFill>
                <a:latin typeface="Tahoma"/>
              </a:rPr>
              <a:t>de opciones y elecciones</a:t>
            </a:r>
            <a:endParaRPr b="0" lang="en-US" sz="24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onde todos los individuos puedan efectivamente ejercer su libertad  para</a:t>
            </a:r>
            <a:r>
              <a:rPr b="0" i="1" lang="es-ES" sz="2400" spc="-1" strike="noStrike">
                <a:solidFill>
                  <a:srgbClr val="40458c"/>
                </a:solidFill>
                <a:latin typeface="Tahoma"/>
              </a:rPr>
              <a:t> asociarse, votar, ser votado...</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0"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ibertad</a:t>
            </a: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luralidad</a:t>
            </a:r>
            <a:endParaRPr b="0" lang="en-US" sz="2800" spc="-1" strike="noStrike">
              <a:solidFill>
                <a:srgbClr val="40458c"/>
              </a:solidFill>
              <a:latin typeface="Tahoma"/>
            </a:endParaRPr>
          </a:p>
          <a:p>
            <a:pPr marL="335880" indent="-3358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ublicidad</a:t>
            </a:r>
            <a:endParaRPr b="0" lang="en-US" sz="2800" spc="-1" strike="noStrike">
              <a:solidFill>
                <a:srgbClr val="40458c"/>
              </a:solidFill>
              <a:latin typeface="Tahoma"/>
            </a:endParaRPr>
          </a:p>
          <a:p>
            <a:pPr marL="335880" indent="-3358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egalidad</a:t>
            </a:r>
            <a:endParaRPr b="0" lang="en-US" sz="2800" spc="-1" strike="noStrike">
              <a:solidFill>
                <a:srgbClr val="40458c"/>
              </a:solidFill>
              <a:latin typeface="Tahoma"/>
            </a:endParaRPr>
          </a:p>
          <a:p>
            <a:pPr marL="335880" indent="-3358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Inclusión</a:t>
            </a:r>
            <a:endParaRPr b="0" lang="en-US" sz="2800" spc="-1" strike="noStrike">
              <a:solidFill>
                <a:srgbClr val="40458c"/>
              </a:solidFill>
              <a:latin typeface="Tahoma"/>
            </a:endParaRPr>
          </a:p>
          <a:p>
            <a:pPr marL="335880" indent="-3358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Tolerancia</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n éstos los valores (mínimos) de una ética democrática?</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660066"/>
                </a:solidFill>
                <a:latin typeface="Tahoma"/>
              </a:rPr>
              <a:t>“</a:t>
            </a:r>
            <a:r>
              <a:rPr b="0" i="1" lang="es-ES" sz="4400" spc="-1" strike="noStrike">
                <a:solidFill>
                  <a:srgbClr val="660066"/>
                </a:solidFill>
                <a:latin typeface="Tahoma"/>
              </a:rPr>
              <a:t>La democratización de la administración pública y los servicios civiles de carrera”</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ibertad, pluralidad, publicidad, legalidad, inclusión y tolerancia. ¿Pueden aislarse unidades de medida sobre conceptos tan genéricos? ¿Cuál sería su diferencia específica?</a:t>
            </a:r>
            <a:endParaRPr b="0" lang="en-US" sz="2800" spc="-1" strike="noStrike">
              <a:solidFill>
                <a:srgbClr val="40458c"/>
              </a:solidFill>
              <a:latin typeface="Tahoma"/>
            </a:endParaRPr>
          </a:p>
          <a:p>
            <a:pPr marL="318960" indent="-31896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or otro lado ¿Qué se quiere medir? ¿La aceptación de esos valores en la sociedad? ¿La forma en que cumplen por las instituciones de la democracia? ¿La forma en que los individuos los convierten en virtudes cotidiana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609480" indent="-609480" algn="just">
              <a:spcBef>
                <a:spcPts val="700"/>
              </a:spcBef>
              <a:buClr>
                <a:srgbClr val="6f89f7"/>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Qué tan importante es la libertad política para los latinoamericanos, frente a otros valores éticos de referencia</a:t>
            </a:r>
            <a:endParaRPr b="0" lang="en-US" sz="2800" spc="-1" strike="noStrike">
              <a:solidFill>
                <a:srgbClr val="40458c"/>
              </a:solidFill>
              <a:latin typeface="Tahoma"/>
            </a:endParaRPr>
          </a:p>
          <a:p>
            <a:pPr marL="609480" indent="-609480" algn="just">
              <a:spcBef>
                <a:spcPts val="700"/>
              </a:spcBef>
              <a:buClr>
                <a:srgbClr val="6f89f7"/>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Qué tan importante es la garantía de la libertad como objetivo propio de las instituciones políticas de Latinoamérica</a:t>
            </a:r>
            <a:endParaRPr b="0" lang="en-US" sz="2800" spc="-1" strike="noStrike">
              <a:solidFill>
                <a:srgbClr val="40458c"/>
              </a:solidFill>
              <a:latin typeface="Tahoma"/>
            </a:endParaRPr>
          </a:p>
          <a:p>
            <a:pPr marL="609480" indent="-609480" algn="just">
              <a:spcBef>
                <a:spcPts val="700"/>
              </a:spcBef>
              <a:buClr>
                <a:srgbClr val="6f89f7"/>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Qué tan libres son en realidad las relaciones y las prácticas sociales de estos país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6"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90000"/>
          </a:bodyPr>
          <a:p>
            <a:pPr marL="308520" indent="-308520" algn="just">
              <a:lnSpc>
                <a:spcPct val="9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La construcción de unidades de medida, en cualquiera de las opciones mencionadas (o de otras), debe convertirse en información realmente pertinente</a:t>
            </a:r>
            <a:endParaRPr b="0" lang="en-US" sz="2600" spc="-1" strike="noStrike">
              <a:solidFill>
                <a:srgbClr val="40458c"/>
              </a:solidFill>
              <a:latin typeface="Tahoma"/>
            </a:endParaRPr>
          </a:p>
          <a:p>
            <a:pPr marL="308520" indent="-308520" algn="just">
              <a:lnSpc>
                <a:spcPct val="90000"/>
              </a:lnSpc>
              <a:spcBef>
                <a:spcPts val="649"/>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La pertinencia de un dato está  en función de la clave de lectura: del propósito racional que se persigue</a:t>
            </a:r>
            <a:endParaRPr b="0" lang="en-US" sz="2600" spc="-1" strike="noStrike">
              <a:solidFill>
                <a:srgbClr val="40458c"/>
              </a:solidFill>
              <a:latin typeface="Tahoma"/>
            </a:endParaRPr>
          </a:p>
          <a:p>
            <a:pPr marL="308520" indent="-308520" algn="just">
              <a:lnSpc>
                <a:spcPct val="90000"/>
              </a:lnSpc>
              <a:spcBef>
                <a:spcPts val="649"/>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Se requiere mostrar la ausencia de valores éticos de referencia? ¿El apego de las instituciones a esos valores democráticos? ¿La adopción de esos valores éticos en las relaciones cotidianas entre los latinoamericanos?</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8"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4000"/>
          </a:bodyPr>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n la actualidad hay índices e indicadores de diversa índole. Por ejemplo:</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s índices de transparencia mexicana (Federico Reyes Heroles, et.al)</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s índices de corrupción (Antonio Azuela: IISUNAM)</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s índices de orientación del gasto (Arturo del Castillo)</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s recientes mediciones sobre acceso a la información (Sergio López Ayllón, et.al)</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s mediciones sobre capital social (PNUD)</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s mediciones sobre valores democráticos (IFE, Secretaría de Gobernación, Latinobarómetro, PNUD, UNAM, Banamex)</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tcéter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os datos están construidos sobre asuntos puntuales específicos. Comparten la vocación de la denuncia: alertan sobre los defectos</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 construyen sobre información pública y sobre encuestas</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antienen una posición ética bien definida: el cumplimiento de la Ley; valores asumidos previamente. O ambas cosas</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n metodologías diversas, con fuentes diferentes y periodos de valides distint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definir qué se entenderá por valores éticos asociados a la democracia</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optar por una definición mínima de esos valores</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decidir sobre el ámbito en el que se confrontarán esos valores</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optar por una metodología</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decidir sobre la importancia de la información que se obtendrá</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11280" y="2141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660066"/>
                </a:solidFill>
                <a:latin typeface="Tahoma"/>
              </a:rPr>
              <a:t>Diez contravalores del servicio público</a:t>
            </a:r>
            <a:endParaRPr b="0" lang="en-US" sz="6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Diez contravalores del servicio público </a:t>
            </a:r>
            <a:endParaRPr b="0" lang="en-US" sz="4400" spc="-1" strike="noStrike">
              <a:solidFill>
                <a:srgbClr val="660066"/>
              </a:solidFill>
              <a:latin typeface="Tahoma"/>
            </a:endParaRPr>
          </a:p>
        </p:txBody>
      </p:sp>
      <p:sp>
        <p:nvSpPr>
          <p:cNvPr id="255" name="PlaceHolder 2"/>
          <p:cNvSpPr>
            <a:spLocks noGrp="1"/>
          </p:cNvSpPr>
          <p:nvPr>
            <p:ph/>
          </p:nvPr>
        </p:nvSpPr>
        <p:spPr>
          <a:xfrm>
            <a:off x="838080" y="1447920"/>
            <a:ext cx="7772400" cy="4114800"/>
          </a:xfrm>
          <a:prstGeom prst="rect">
            <a:avLst/>
          </a:prstGeom>
          <a:noFill/>
          <a:ln w="0">
            <a:noFill/>
          </a:ln>
        </p:spPr>
        <p:txBody>
          <a:bodyPr lIns="90000" rIns="90000" tIns="46800" bIns="46800" anchor="t">
            <a:normAutofit fontScale="82000"/>
          </a:bodyPr>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lealtad personal como el valor de cambio más importante para obtener, permanecer y ascender en la carrera del servicio público</a:t>
            </a:r>
            <a:endParaRPr b="0" lang="en-US" sz="2200" spc="-1" strike="noStrike">
              <a:solidFill>
                <a:srgbClr val="40458c"/>
              </a:solidFill>
              <a:latin typeface="Tahoma"/>
            </a:endParaRPr>
          </a:p>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El desplazamiento de los fines institucionales formalmente aceptados, hacia los fines de las personas y los grupos que ocupan los cargos</a:t>
            </a:r>
            <a:endParaRPr b="0" lang="en-US" sz="2200" spc="-1" strike="noStrike">
              <a:solidFill>
                <a:srgbClr val="40458c"/>
              </a:solidFill>
              <a:latin typeface="Tahoma"/>
            </a:endParaRPr>
          </a:p>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doble lectura acerca de los propósitos del servicio público; usar los medios disponibles para obtener más poder: y aludir al cumplimiento de los propósitos formales de la institución</a:t>
            </a:r>
            <a:endParaRPr b="0" lang="en-US" sz="2200" spc="-1" strike="noStrike">
              <a:solidFill>
                <a:srgbClr val="40458c"/>
              </a:solidFill>
              <a:latin typeface="Tahoma"/>
            </a:endParaRPr>
          </a:p>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El acceso a los puestos públicos en función de las credenciales políticas y personales de los candidatos y no por criterios de idoneidad</a:t>
            </a:r>
            <a:endParaRPr b="0" lang="en-US" sz="2200" spc="-1" strike="noStrike">
              <a:solidFill>
                <a:srgbClr val="40458c"/>
              </a:solidFill>
              <a:latin typeface="Tahoma"/>
            </a:endParaRPr>
          </a:p>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evaluación sobre el ejercicio del cargo, en función del compromiso personal de quien lo ocupa y de su capacidad para “ponerse la camiseta” del grupo, y no sobre la base de resultados institucionales</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Diez contravalores del servicio público </a:t>
            </a:r>
            <a:endParaRPr b="0" lang="en-US" sz="4400" spc="-1" strike="noStrike">
              <a:solidFill>
                <a:srgbClr val="660066"/>
              </a:solidFill>
              <a:latin typeface="Tahoma"/>
            </a:endParaRPr>
          </a:p>
        </p:txBody>
      </p:sp>
      <p:sp>
        <p:nvSpPr>
          <p:cNvPr id="257" name="PlaceHolder 2"/>
          <p:cNvSpPr>
            <a:spLocks noGrp="1"/>
          </p:cNvSpPr>
          <p:nvPr>
            <p:ph/>
          </p:nvPr>
        </p:nvSpPr>
        <p:spPr>
          <a:xfrm>
            <a:off x="838080" y="1557360"/>
            <a:ext cx="7772400" cy="4114800"/>
          </a:xfrm>
          <a:prstGeom prst="rect">
            <a:avLst/>
          </a:prstGeom>
          <a:noFill/>
          <a:ln w="0">
            <a:noFill/>
          </a:ln>
        </p:spPr>
        <p:txBody>
          <a:bodyPr lIns="90000" rIns="90000" tIns="46800" bIns="46800" anchor="t">
            <a:normAutofit fontScale="81000"/>
          </a:bodyPr>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tiempo invertido en allegarse de información política y burocrática sobre las posiciones del grupo, y no en función de la productividad de la institución</a:t>
            </a:r>
            <a:endParaRPr b="0" lang="en-US" sz="2400" spc="-1" strike="noStrike">
              <a:solidFill>
                <a:srgbClr val="40458c"/>
              </a:solidFill>
              <a:latin typeface="Tahoma"/>
            </a:endParaRPr>
          </a:p>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pérdida del valor de la experiencia acumulada, ante los cambios de dirección</a:t>
            </a:r>
            <a:endParaRPr b="0" lang="en-US" sz="2400" spc="-1" strike="noStrike">
              <a:solidFill>
                <a:srgbClr val="40458c"/>
              </a:solidFill>
              <a:latin typeface="Tahoma"/>
            </a:endParaRPr>
          </a:p>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esarrollo profesional vinculado con la creencia de los mandos superiores de la organización. La construcción de historias paralelas</a:t>
            </a:r>
            <a:endParaRPr b="0" lang="en-US" sz="2400" spc="-1" strike="noStrike">
              <a:solidFill>
                <a:srgbClr val="40458c"/>
              </a:solidFill>
              <a:latin typeface="Tahoma"/>
            </a:endParaRPr>
          </a:p>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iseño de catálogos de puestos y descripciones de perfiles </a:t>
            </a:r>
            <a:r>
              <a:rPr b="0" i="1" lang="es-ES" sz="2400" spc="-1" strike="noStrike">
                <a:solidFill>
                  <a:srgbClr val="40458c"/>
                </a:solidFill>
                <a:latin typeface="Tahoma"/>
              </a:rPr>
              <a:t>ad hoc</a:t>
            </a:r>
            <a:r>
              <a:rPr b="0" lang="es-ES" sz="2400" spc="-1" strike="noStrike">
                <a:solidFill>
                  <a:srgbClr val="40458c"/>
                </a:solidFill>
                <a:latin typeface="Tahoma"/>
              </a:rPr>
              <a:t> para quien los ocupa, y no en función de los fines institucionales</a:t>
            </a:r>
            <a:endParaRPr b="0" lang="en-US" sz="2400" spc="-1" strike="noStrike">
              <a:solidFill>
                <a:srgbClr val="40458c"/>
              </a:solidFill>
              <a:latin typeface="Tahoma"/>
            </a:endParaRPr>
          </a:p>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evaluación diseñada (o modificada) </a:t>
            </a:r>
            <a:r>
              <a:rPr b="0" i="1" lang="es-ES" sz="2400" spc="-1" strike="noStrike">
                <a:solidFill>
                  <a:srgbClr val="40458c"/>
                </a:solidFill>
                <a:latin typeface="Tahoma"/>
              </a:rPr>
              <a:t>ex post </a:t>
            </a:r>
            <a:r>
              <a:rPr b="0" lang="es-ES" sz="2400" spc="-1" strike="noStrike">
                <a:solidFill>
                  <a:srgbClr val="40458c"/>
                </a:solidFill>
                <a:latin typeface="Tahoma"/>
              </a:rPr>
              <a:t>por preferencias individuales, y no en función de los resultados realmente obtenidos por la institució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2361960"/>
            <a:ext cx="6019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660066"/>
                </a:solidFill>
                <a:latin typeface="Tahoma"/>
              </a:rPr>
              <a:t>Contexto</a:t>
            </a:r>
            <a:endParaRPr b="0" lang="en-US" sz="6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Ética en el Servicio Público</a:t>
            </a:r>
            <a:endParaRPr b="0" lang="en-US" sz="4400" spc="-1" strike="noStrike">
              <a:solidFill>
                <a:srgbClr val="660066"/>
              </a:solidFill>
              <a:latin typeface="Tahoma"/>
            </a:endParaRPr>
          </a:p>
        </p:txBody>
      </p:sp>
      <p:sp>
        <p:nvSpPr>
          <p:cNvPr id="21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609480" indent="-609480" algn="just">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 </a:t>
            </a:r>
            <a:r>
              <a:rPr b="0" lang="es-ES" sz="3200" spc="-1" strike="noStrike">
                <a:solidFill>
                  <a:srgbClr val="40458c"/>
                </a:solidFill>
                <a:latin typeface="Tahoma"/>
              </a:rPr>
              <a:t>En esta presentación veremos:</a:t>
            </a:r>
            <a:endParaRPr b="0" lang="en-US" sz="3200" spc="-1" strike="noStrike">
              <a:solidFill>
                <a:srgbClr val="40458c"/>
              </a:solidFill>
              <a:latin typeface="Tahoma"/>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609480" indent="-609480" algn="just">
              <a:lnSpc>
                <a:spcPct val="90000"/>
              </a:lnSpc>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Tres ideas básicas para abordar la ética en el servicio público</a:t>
            </a:r>
            <a:endParaRPr b="0" lang="en-US" sz="3200" spc="-1" strike="noStrike">
              <a:solidFill>
                <a:srgbClr val="40458c"/>
              </a:solidFill>
              <a:latin typeface="Tahoma"/>
            </a:endParaRPr>
          </a:p>
          <a:p>
            <a:pPr marL="609480" indent="-609480" algn="just">
              <a:lnSpc>
                <a:spcPct val="90000"/>
              </a:lnSpc>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El dilema de la selección de valores en un régimen democrático</a:t>
            </a:r>
            <a:endParaRPr b="0" lang="en-US" sz="3200" spc="-1" strike="noStrike">
              <a:solidFill>
                <a:srgbClr val="40458c"/>
              </a:solidFill>
              <a:latin typeface="Tahoma"/>
            </a:endParaRPr>
          </a:p>
          <a:p>
            <a:pPr marL="609480" indent="-609480" algn="just">
              <a:lnSpc>
                <a:spcPct val="90000"/>
              </a:lnSpc>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Los “contra valores” del servicio Profesional de carrera</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13"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9000"/>
          </a:bodyPr>
          <a:p>
            <a:pPr marL="3052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Primer idea: </a:t>
            </a:r>
            <a:r>
              <a:rPr b="0" i="1" lang="es-ES" sz="2500" spc="-1" strike="noStrike">
                <a:solidFill>
                  <a:srgbClr val="40458c"/>
                </a:solidFill>
                <a:latin typeface="Tahoma"/>
              </a:rPr>
              <a:t>Los valores son generales, las virtudes individuales</a:t>
            </a:r>
            <a:endParaRPr b="0" lang="en-US" sz="2500" spc="-1" strike="noStrike">
              <a:solidFill>
                <a:srgbClr val="40458c"/>
              </a:solidFill>
              <a:latin typeface="Tahoma"/>
            </a:endParaRPr>
          </a:p>
          <a:p>
            <a:pPr marL="305280" indent="-305280" algn="just">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Los valores son una contribución social, histórica y las virtudes se adoptan individualmente y llevan los valores al ámbito de lo concreto</a:t>
            </a:r>
            <a:endParaRPr b="0" lang="en-US" sz="2500" spc="-1" strike="noStrike">
              <a:solidFill>
                <a:srgbClr val="40458c"/>
              </a:solidFill>
              <a:latin typeface="Tahoma"/>
            </a:endParaRPr>
          </a:p>
          <a:p>
            <a:pPr marL="305280" indent="-305280" algn="just">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Los valores son siempre una referencia, se concretan a través de reglas (formales e informales) pero también se realizan a través de conductas puntuales.</a:t>
            </a:r>
            <a:endParaRPr b="0" lang="en-US" sz="2500" spc="-1" strike="noStrike">
              <a:solidFill>
                <a:srgbClr val="40458c"/>
              </a:solidFill>
              <a:latin typeface="Tahoma"/>
            </a:endParaRPr>
          </a:p>
          <a:p>
            <a:pPr marL="305280" indent="-305280" algn="just">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 materia de ética, sin embargo,  no todo puede ser resuelto con reglas: tras ellas, hay siempre decisiones individuales y valores comunes de referencia</a:t>
            </a:r>
            <a:endParaRPr b="0" lang="en-US" sz="2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15"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Segunda idea: </a:t>
            </a:r>
            <a:r>
              <a:rPr b="0" i="1" lang="es-ES" sz="2500" spc="-1" strike="noStrike">
                <a:solidFill>
                  <a:srgbClr val="40458c"/>
                </a:solidFill>
                <a:latin typeface="Tahoma"/>
              </a:rPr>
              <a:t>La distinción entre lo público y lo privado</a:t>
            </a:r>
            <a:endParaRPr b="0" lang="en-US" sz="2500" spc="-1" strike="noStrike">
              <a:solidFill>
                <a:srgbClr val="40458c"/>
              </a:solidFill>
              <a:latin typeface="Tahoma"/>
            </a:endParaRPr>
          </a:p>
          <a:p>
            <a:pPr marL="325800" indent="-325800" algn="just">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sa distinción es parte del proceso político que se inició con la Ilustración y el Liberalismo</a:t>
            </a:r>
            <a:endParaRPr b="0" lang="en-US" sz="2500" spc="-1" strike="noStrike">
              <a:solidFill>
                <a:srgbClr val="40458c"/>
              </a:solidFill>
              <a:latin typeface="Tahoma"/>
            </a:endParaRPr>
          </a:p>
          <a:p>
            <a:pPr marL="325800" indent="-325800" algn="just">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La lenta construcción del Estado de derecho se ha traducido en la salvaguarda, cada más amplia, de las libertades individuales</a:t>
            </a:r>
            <a:endParaRPr b="0" lang="en-US" sz="2500" spc="-1" strike="noStrike">
              <a:solidFill>
                <a:srgbClr val="40458c"/>
              </a:solidFill>
              <a:latin typeface="Tahoma"/>
            </a:endParaRPr>
          </a:p>
          <a:p>
            <a:pPr marL="325800" indent="-325800" algn="just">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También produjo una distinción teórica adicional entre los valores públicos y las virtudes privadas</a:t>
            </a:r>
            <a:endParaRPr b="0" lang="en-US" sz="2500" spc="-1" strike="noStrike">
              <a:solidFill>
                <a:srgbClr val="40458c"/>
              </a:solidFill>
              <a:latin typeface="Tahoma"/>
            </a:endParaRPr>
          </a:p>
          <a:p>
            <a:pPr marL="325800" indent="-325800" algn="just">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Sin embargo, irónicamente, en la práctica generó una confusión entre espacio público y ámbito privado</a:t>
            </a:r>
            <a:endParaRPr b="0" lang="en-US" sz="2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0" lang="es-ES" sz="2800" spc="-1" strike="noStrike">
                <a:solidFill>
                  <a:srgbClr val="40458c"/>
                </a:solidFill>
                <a:latin typeface="Tahoma"/>
              </a:rPr>
              <a:t>La separación entre lo público y lo privado originó dos vertientes de la concepción ética</a:t>
            </a:r>
            <a:endParaRPr b="0" lang="en-US" sz="2800" spc="-1" strike="noStrike">
              <a:solidFill>
                <a:srgbClr val="40458c"/>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just">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antecedente de esa separación esta entre Maquiavelo y su mejor desarrollo en Weber: la ética de la responsabilidad, frente a la ética de la convicción</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1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ero la confusión práctica de espacio público y ámbito privado condujo a comportamientos contrarios a la doble concepción ética mencionada (responsabilidad, convicción)</a:t>
            </a:r>
            <a:endParaRPr b="0" lang="en-US" sz="2800" spc="-1" strike="noStrike">
              <a:solidFill>
                <a:srgbClr val="40458c"/>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just">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mo veremos más adelante, esta confusión da origen a la apropiación privada del espacio públic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virtud más apreciada en los gobernantes ha sido la prudencia</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uando los súbditos se convierten en ciudadanos, la prudencia deja de ser una virtud exclusiva del gobernante, para convertirse en un compromiso de servicio público</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ética de la responsabilidad se define en función de los objetivos planteados mediante procedimientos democrátic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3T02:23:16Z</dcterms:created>
  <dc:creator>Mónica Andrade</dc:creator>
  <dc:description/>
  <dc:language>en-US</dc:language>
  <cp:lastModifiedBy>Rafael A. Castillo Zugasti</cp:lastModifiedBy>
  <dcterms:modified xsi:type="dcterms:W3CDTF">2005-10-14T14:31:32Z</dcterms:modified>
  <cp:revision>22</cp:revision>
  <dc:subject/>
  <dc:title>Ética en el Servicio Público</dc:title>
</cp:coreProperties>
</file>