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AFF-6D7F-44A4-BDF7-C0DB5C2E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4A1-AFB5-4377-BF09-98BEA2F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6CC-218B-4468-8583-0AB1C45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53D-8A38-4384-BFB7-F8A293B8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A216-3ECF-40DB-81DE-0C5942B9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381-7FF1-419E-9ECB-CE6C517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FCC-1E0C-4489-8153-4FA6C6D0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CAA0-6F34-4AC8-AD83-7C72DB6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FC00-22BE-4F3E-90A3-1501657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7615-1D3B-4B1E-8976-2174D24F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3BB-7D01-4724-83BA-5093D4D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D8D-5D90-4323-AD53-4850FD70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770F-FCCA-4F8E-BABE-FDF293E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791B-27E2-429F-A000-75BFFCCE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C41-274B-4CF3-BD84-DE6C506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BA2-548B-41AF-B254-490790C8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438F-C095-43D8-BDFC-C4AC50C0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6F5-CE8A-480C-A538-88EC1BE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B89-43FC-4AAF-9753-78E972F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796-292A-4326-BF05-3862D3F3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689-D5EF-4120-B7D4-4A597F26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C4B-EDFC-4574-A36E-A438143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3BB-ED72-4BB7-B0E7-D0882FA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990-E24F-4402-9A62-B2DFB253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E47-93F0-420F-80EF-A52A151C7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CE0C-BCD1-4401-8DF7-A50B70325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epal.org/" TargetMode="External"/><Relationship Id="rId2" Type="http://schemas.openxmlformats.org/officeDocument/2006/relationships/hyperlink" Target="mailto:ivan.finot@cepal.or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32048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imes New Roman"/>
              </a:rPr>
              <a:t>Descentralización en América Latina: una Propuesta para Conciliar Eficiencia con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933720"/>
            <a:ext cx="7772400" cy="13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ván Finot (NN.UU./CEPAL/I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 - Facultad de Ingeniería -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ntiago de Chile, 7 de octubre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br>
              <a:rPr sz="4000"/>
            </a:b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    Mejor Adecuación a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uelson (1954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ientras la provisión de un bien privado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BO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1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2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…  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: consumidores de 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P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a provisión de todos los bienes público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2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 … 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n: todos los ciudad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 (T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Mejor Adecuación a P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Charles Tibout (1956): votar con los p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Vincent Ostrom, Charles Tibout, Robert Warren (1961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iferencia entre proveer y produci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as decisiones sobre provisión serán más eficientes con un sistema policént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Wallace Oates (1972): Teorema de la Descentralización: cuando la demanda está diferenciada y sin tomar en cuenta externalidades y economías de escala, la provisión  descentralizada será más eficiente que la centralizada (versión libr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Implica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557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s no explícitos sobre revelación de preferencia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ciudadanos pueden comparar beneficios con costos = 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erecho de autoimpos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Programas de gobierno explicitan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electos representan adecuadamente las preferencias de los elect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 explícito (Oates): la provisión será tanto más eficiente cuanto mejor correspondan las circuncripciones políticas con la diferenciación de la deman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Acercamiento al ciudadano y asociativismo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4222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entralización Polít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asignaciones y financiamiento a </a:t>
            </a:r>
            <a:r>
              <a:rPr b="0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 (jurídicamente, a gobiern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 fiscal: sólo un aspec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gresos: contribuciones ciudadanas a cada nivel de solución (errores de cuantificac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s: ecualización de derech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conveniente descentralizar los procesos de decisión sobre provisión cuando la demanda está geográficamente diferenciada por aspect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ís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33768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petencias Descentralizables Políticamen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86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anda geográficamente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Uso de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Organización territorial de la prestación de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Infraestructura básica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finición de contenidos de servicios de educación (y salu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ase del desarrollo local/region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económico (competitiv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amiento del há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Ope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0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oceso de asignación político-administrativ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cisión (polít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Ejecución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(administrativ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responder mejor por algunas funciones que les competen, los gobiernos centrales transfieren parte de la 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ejecución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 sus decisiones sobre asignación, a administraciones locales a través de sus respectivos gobiernos. Ej. Subsidi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ando lugar a una relación “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principal - agente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”: ventajas de información pero conflict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Descentralización Operativa</a:t>
            </a:r>
            <a:r>
              <a:rPr b="0" lang="es-ES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scentralización de la ejecución de decisiones políticas centrales,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 gobiern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“locales” ( = “descentralización administrativa a gobiernos”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legació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410080"/>
            <a:ext cx="817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6" name=""/>
          <p:cNvCxnSpPr>
            <a:stCxn id="177" idx="2"/>
            <a:endCxn id="178" idx="1"/>
          </p:cNvCxnSpPr>
          <p:nvPr/>
        </p:nvCxnSpPr>
        <p:spPr>
          <a:xfrm>
            <a:off x="4686480" y="2362320"/>
            <a:ext cx="1638720" cy="3505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2680" y="1828800"/>
            <a:ext cx="2667240" cy="5335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419720"/>
            <a:ext cx="221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tr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362320"/>
            <a:ext cx="6858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7880" y="286056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ff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ff"/>
                </a:solidFill>
                <a:latin typeface="Times New Roman"/>
              </a:rPr>
              <a:t>Decisiones 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2960" y="12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609480"/>
            <a:ext cx="64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Polític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81952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562720"/>
            <a:ext cx="21337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657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Desc.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Decisiones 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br>
              <a:rPr sz="2800"/>
            </a:b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encias: entreg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dinero y/o en servi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ara reducir desigual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: de gobierno a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es: de gobiernos a personas (subsidios) y a organizaciones (subvenci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 (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No 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compensar diferencias en ingresos públicos (por habita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igualar nivel de provisión de algunos servicios (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3720" y="498240"/>
            <a:ext cx="75502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ipos de Transferencia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19280" y="2852640"/>
          <a:ext cx="6389640" cy="316872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87280" y="16700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condiciones de eficiencia: es conveniente  diferenciar entre dos tipos de condicionami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ransferencias y Tipos de Descentralización                        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1989000"/>
          <a:ext cx="6389640" cy="436428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ffff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5570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autonomía de las localidades es indispensable para favorecer identidad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diferenciación productiva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ompeti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en los procesos de descentralización de la región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se tiende a favorecer la 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entralismos intermedios en países federales (excepto Brasil) y aun unitarios (Chile, Ecuador, Paragu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Gobiernos municipales ejecutores de políticas sociales n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iesgos que refuerzan el centralis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Insostenibil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Aumentar en vez de disminuir la in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¿Cómo hacer viable la autonomía local con sostenibilidad y equidad social y territori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000" y="49860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ff99"/>
                </a:solidFill>
                <a:latin typeface="Times New Roman"/>
              </a:rPr>
              <a:t>Descentralización Económ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7935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erencia de la decisión sobre cómo producir,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de procesos político-administrativos a la competencia económ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Form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xternalización: contratación de obras y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oncesión: privatización tempo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imes New Roman"/>
              </a:rPr>
              <a:t>Apertura (“desregulación”): exposición de producción pública a la competencia de establecimientos no públicos. Ej. en Colombia, telecomunicaciones, salud; en Chile,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5335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mplica: descentralización hasta establec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49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35080"/>
            <a:ext cx="792000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scentralización econó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 pública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urrencia individual en la ofe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l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ulación, transparencia, control efectivo (incluido de c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so especial: monopolios naturales (re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quida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subvenciones y subsid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838080"/>
            <a:ext cx="23619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3200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1422000"/>
            <a:ext cx="5040" cy="436788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72200" y="4114800"/>
            <a:ext cx="914400" cy="167652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870200"/>
            <a:ext cx="1925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1911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Desc. Económ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sobr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5280" y="20484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ntique Olive"/>
              </a:rPr>
              <a:t>Forma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57200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188640"/>
            <a:ext cx="6796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Descentralización en América Lati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0200" y="2133360"/>
            <a:ext cx="7129440" cy="36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ducción (</a:t>
            </a:r>
            <a:r>
              <a:rPr b="0" lang="es-ES" sz="3200" spc="-1" strike="noStrike">
                <a:solidFill>
                  <a:srgbClr val="ff9966"/>
                </a:solidFill>
                <a:latin typeface="Symbol"/>
                <a:ea typeface="Symbol"/>
              </a:rPr>
              <a:t>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centralización de la Provisión</a:t>
            </a:r>
            <a:br>
              <a:rPr sz="4000"/>
            </a:b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Distribución de Compet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7600" y="1484280"/>
          <a:ext cx="7772400" cy="51037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108080"/>
                <a:gridCol w="1111320"/>
                <a:gridCol w="1109520"/>
                <a:gridCol w="1111320"/>
              </a:tblGrid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Co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Infraes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Educ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Sec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7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el Gast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66680" y="1690560"/>
          <a:ext cx="74678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90560"/>
                    <a:ext cx="74678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Ingresos Propios</a:t>
            </a:r>
            <a:br>
              <a:rPr sz="3600"/>
            </a:br>
            <a:r>
              <a:rPr b="0" lang="es-BO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946160"/>
          <a:ext cx="8474040" cy="3984840"/>
        </p:xfrm>
        <a:graphic>
          <a:graphicData uri="http://schemas.openxmlformats.org/drawingml/2006/table">
            <a:tbl>
              <a:tblPr/>
              <a:tblGrid>
                <a:gridCol w="1224000"/>
                <a:gridCol w="1144440"/>
                <a:gridCol w="1222560"/>
                <a:gridCol w="1218960"/>
                <a:gridCol w="1222560"/>
                <a:gridCol w="1218960"/>
                <a:gridCol w="1222560"/>
              </a:tblGrid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Brutos de las Empres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nt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Persona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or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ol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692360" y="623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* Regalías 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820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los Ingresos Fisc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172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bservaciones sobre Ingres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a capacidad de generación de in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a la autoim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ención d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para alí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centración de la riqu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contabilización de contribuciones 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7040" y="3045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ntribuciones no Contabilizad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560" y="1531440"/>
            <a:ext cx="81154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ortes ciudadanos voluntarios a la generación de bienes públicos a través de sus organizaciones, en “tiempo”, trabajo, especie,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e caso se cumple la condición de eficiencia: se decide gastos sobre la base de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s aportes llegan a ser muy importantes pero no suelen ser contabilizad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pto en fondos de desarrollo y presupuestos participativos, pero no son tomados en cuenta en la contabilidad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63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foqu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0560" y="2379600"/>
            <a:ext cx="66423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álisis te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El problema de la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visión: eficiencia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ducción de bienes provistos públic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en América La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ineamientos para Conciliar Eficiencia con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6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Sistemas de Transferencias Territoriales</a:t>
            </a:r>
            <a:br>
              <a:rPr sz="3200"/>
            </a:b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Transferencia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66"/>
                </a:solidFill>
                <a:latin typeface="Times New Roman"/>
              </a:rPr>
              <a:t>Básica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: en principio de libre 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Desti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ásicas: aproximadamente un 20% sobre </a:t>
            </a:r>
            <a:r>
              <a:rPr b="0" lang="es-BO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los impuestos nacionales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(Ver Anexos 1 y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xcepciones importan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rasil (estados y municipios): sólo sobre impuestos a la renta y a la producción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hile: sólo sobre impuestos municipales + monto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olombia: sobre PIB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3789360"/>
            <a:ext cx="3353040" cy="230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884240"/>
            <a:ext cx="33530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884240"/>
            <a:ext cx="2971800" cy="190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298600"/>
            <a:ext cx="9907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21932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189864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16240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0193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4952880"/>
            <a:ext cx="12985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838840"/>
            <a:ext cx="3200400" cy="947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Colombia, Chile, (Brasil, México)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244332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9337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532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06840" y="5352480"/>
            <a:ext cx="278280" cy="38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br>
              <a:rPr sz="2000"/>
            </a:b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Síntesis y Tend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54421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36572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52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869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54920" y="5686560"/>
            <a:ext cx="10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6165720"/>
            <a:ext cx="133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000000"/>
                </a:solidFill>
                <a:latin typeface="Times New Roman"/>
              </a:rPr>
              <a:t>Asig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37240" y="443664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4000" y="4037400"/>
            <a:ext cx="8280" cy="29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16280"/>
            <a:ext cx="144756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21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12000" y="5589720"/>
            <a:ext cx="133200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3623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¿Mejor Adecuación a Preferencia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9080" y="1341360"/>
            <a:ext cx="7704000" cy="518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 o proliferación de administraciones municipales con ausencia de estímulos (eficaces) para la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istemas de financiamiento no inducen gasto vinculado con aportes, posible sólo en (pocas) circunscripciones “ric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gobiernos municipales son agentes de gobiernos centrales &gt; cabezas de autonomías (excepción relativa: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presentación de preferencias: desigual (no democrá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: el sistema electoral municipal no permite adecuada representación de preferencias ciudad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sectores privileg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1572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ara Conciliar Eficiencia con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22200" y="2204640"/>
            <a:ext cx="554508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undización y adec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1371240"/>
            <a:ext cx="770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manda de bienes públicos descentralizables, diferenciar entre servicios de infraestructura básica y servicios soci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Infraestructura básica y servicios públic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 y cuánt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 Demanda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rvicios de educación y salu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diferenciada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igual! (Derechos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, nítidamente, en Colombi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3800" y="1066680"/>
            <a:ext cx="8512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der a transformar los actuales sistemas de transferencias en dos sistemas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subsidiari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1) Sistema de ecualización de derechos sociales: respecto a ingresos familiares y objetivos nacionales, </a:t>
            </a:r>
            <a:r>
              <a:rPr b="0" lang="es-ES_tradnl" sz="2600" spc="-1" strike="noStrike">
                <a:solidFill>
                  <a:srgbClr val="00ffff"/>
                </a:solidFill>
                <a:latin typeface="Times New Roman"/>
              </a:rPr>
              <a:t>integrado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y operado por gobiernos subnacionales (Colombia, Chile parcialmen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) Sistema de ecualización del derecho a proveerse bienes locales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 y Europ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erencias de libre disponibilidad proporcionales a los aportes locales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0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especto a ingresos geográficos o niveles de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contribuciones no contabilizadas (cuantificadas por Fondos de Desarrollo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hora en legislación de Guatem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53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fundización y Adecuaci</a:t>
            </a: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9800" y="1368360"/>
            <a:ext cx="8278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país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s y fede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formar procesos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cisión autónoma en niveles submuncip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 elección de representantes y ejecutivos, transferencia de potestades y recursos (Ej.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entivar -a través de transferencias territoriales– la formación de consorcios municipales (públicos en Brasil)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en función de configuración de demandas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análisis regional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erir potestad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transferencias de tipo 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estos consorcios regionales,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públicos pero tempo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para concertación del Desarrollo Local/Regional sobre la bas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nes de uso del suelo y organización de servicios (incluido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 de infraestructura básica y servic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finición de contenidos de educación y capac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520" y="1111320"/>
            <a:ext cx="83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para elección de representantes en el nivel local, con obligación de informarse e inform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para impuestos sobre inmuebles, externalización de avalú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galización y contabi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supuestación participativa y consulta obligatoria para endeudamiento a partir de lími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incentivarla pero subordinarla a participación política reformada (punto anter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: asequible,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2280" y="1523520"/>
            <a:ext cx="751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iabilización del desarrollo local/regional: 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mpetitividad económ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equidad social y territorial: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 fiscal y administrativa, reducción de la corru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Pero se afectarían intereses políticos actuales (élites locales, partidos): viabilidad  depende de debate y consenso para reforma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ecturas Recomenda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15238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político-fi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ates, Wallace (1972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Fiscal federalis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Tra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económ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ennett, Robert (1990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ecentralization, governments and markets: towards a post-welfare agen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xf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tner, Gonzalo (1999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obernar el mercado, las nuevas fronteras del Estado en el siglo XX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LOM – Santiago de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 autor: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01: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scentralización en América Latina: teoría y práct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Serie Gestión Pública 12. CE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2005: “Descentralización, transferencias territoriales y desarrollo local” </a:t>
            </a:r>
            <a:r>
              <a:rPr b="0" i="1" lang="es-ES" sz="2400" spc="-1" strike="noStrike">
                <a:solidFill>
                  <a:srgbClr val="ffff66"/>
                </a:solidFill>
                <a:latin typeface="Times New Roman"/>
              </a:rPr>
              <a:t>Revista de la CEPAL 86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(Agos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Comentarios bienvenidos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van.finot@cepal.org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9966"/>
                </a:solidFill>
                <a:latin typeface="Times New Roman"/>
              </a:rPr>
              <a:t>El Problema de la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2360" y="1339920"/>
            <a:ext cx="7452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provisión de bienes públicos representa entre un 20 y un 50% del PI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decisiones so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é, cuánto y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 qué parte del ingreso ciudada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roveer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ómo producir: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qué producir directamente y qué compr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probación de presupuesto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n adoptada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velación de p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otación: programas (sin referencia a costo!) y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cisiones finales: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aprobar presupue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través de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una sol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todos los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menos por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94376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Dos Tipos de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62828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 las tres funciones económicas fundamentales (estabilidad, redistribución, asignación) sólo es recomendable descentralizar la de asignación (Oates, Musgra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al aprobar presupuestos se define sobre dos tipos de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1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qué, cuánto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y con qué parte del ingres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iudadano pro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2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ducc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con qué combinación de factores e insumos producir lo que se va a proveer (incide en “con qué parte del ingreso provee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oblemas de Eficienc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412640"/>
            <a:ext cx="8099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ff"/>
                </a:solidFill>
                <a:latin typeface="Times New Roman"/>
              </a:rPr>
              <a:t>Ineficiencia asignati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Diferencia entre lo que se provee y las preferencias ciudadanas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neficio/cost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). Cau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referencias individuales son diferentes (y se trata de múltiples bienes y por períodos de tiempo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dominio de la mayoría (a pesar de representación plur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líticos y administrativos tienen preferencias propi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l no haber exclusión, “polizontes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99"/>
                </a:solidFill>
                <a:latin typeface="Times New Roman"/>
              </a:rPr>
              <a:t>Ineficiencia técn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 Diferencia entre costo efectivo y costo mínimo en asignación 2 político-administra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ausa: ausencia de estímulo económico para minimizar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380880"/>
            <a:ext cx="7594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blemas Adicion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872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up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Administrativa: coimas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mayor ineficiencia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Política: “comisiones” clientelismo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caso extremo de  ineficiencia asign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tralismo: incluso sin corrupción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cuanto más centralizadas las decisiones sobre  pro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agregada la deman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complejos los procesos de asign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ayor costo administrativ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difíciles de controlar, más riesgo de corrup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Descentralización como Solu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53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asigna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r>
              <a:rPr b="1" lang="es-ES_tradnl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provisión (y producción) a 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jor adecuación de la provisión a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mandas diferenciad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erritor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ente a polizontes: mayor 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Frente a corrupción: mayor control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produc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Descentralización Económica: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transferencia de decisiones 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sobre cómo producir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sde procesos político – administrativos hacia mecanismos de merc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res costos si se puede garantiz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53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br>
              <a:rPr sz="32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2063520"/>
            <a:ext cx="65534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diciones de efi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preferencias geográficamente dif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ones de equidad: sistemas de ecualización territorial y social (transferencias: territoriales y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5-10-07T15:16:12Z</dcterms:modified>
  <cp:revision>97</cp:revision>
  <dc:subject/>
  <dc:title>Descentralización Fiscal y Financiamiento del Desarrollo Local/Regional</dc:title>
</cp:coreProperties>
</file>