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7C6-29C5-44D5-AE4D-F51546ED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EB8-DA77-4AAD-9946-D709A6B8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CB6-7BFF-4235-8617-BAF8CF5E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140-7522-4D97-8CD9-202CF31F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3B8A-7929-4565-AAFE-567B5746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CF28-ABDE-498D-857C-31885F13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5F9E-E4FA-4C4C-B252-14AEB69F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8B27-E3E4-46F9-9BBF-529F9563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75A2-7754-4D44-860D-EB0C5CAB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6BF3-0C73-415F-8E2B-BC395EA9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968B-DF64-4AFF-B728-B9841871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7BA-4A96-4D97-99E8-ABBDA989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47F8-6582-4962-BAD2-F0AD888C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0BD0-43CA-4C39-A586-2B0A0CFB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A01D-B0E2-497D-A5BD-C827D7BE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3357-5BA3-47EC-ACEA-960EFDF3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C0B9-66F2-4D16-827F-435AC7BB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F24-5E36-42D0-A9D4-59DDF941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64F-F3A4-41D0-8013-ACA1A6A1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F25-CE73-408A-B341-45C1B659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D46-C7E4-4742-81AF-99740874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FFA-9367-4B70-BC71-4CDB1CFA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187-E4C4-49CB-9977-69A53CF3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569-4311-4678-B6E1-809E33C2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4487-148A-458E-8626-289D4FB11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9607-AE4B-482E-9ED0-D8ED40789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cepal.org/" TargetMode="External"/><Relationship Id="rId2" Type="http://schemas.openxmlformats.org/officeDocument/2006/relationships/hyperlink" Target="mailto:ivan.finot@cepal.org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1320480"/>
            <a:ext cx="7772400" cy="153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Times New Roman"/>
              </a:rPr>
              <a:t>Descentralización en América Latina: una Propuesta para Conciliar Eficiencia con Equida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3933720"/>
            <a:ext cx="7772400" cy="1360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ván Finot (NN.UU./CEPAL/ILP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iversidad de Chile - Facultad de Ingeniería - Magíster en Gestión y Políticas 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ntiago de Chile, 7 de octubre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9966"/>
                </a:solidFill>
                <a:latin typeface="Times New Roman"/>
              </a:rPr>
              <a:t>Eficiencia</a:t>
            </a:r>
            <a:br>
              <a:rPr sz="4000"/>
            </a:br>
            <a:r>
              <a:rPr b="0" lang="es-BO" sz="4000" spc="-1" strike="noStrike">
                <a:solidFill>
                  <a:srgbClr val="ffffff"/>
                </a:solidFill>
                <a:latin typeface="Times New Roman"/>
              </a:rPr>
              <a:t>    Mejor Adecuación a Preferenc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uelson (1954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Mientras la provisión de un bien privado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BO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1j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+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2j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+ …  +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m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m: consumidores de b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= f (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= f (P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/Y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a provisión de todos los bienes públicos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 = f (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1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+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2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+ … 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n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5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n: todos los ciudada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= f  (T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/Y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Mejor Adecuación a Pre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Charles Tibout (1956): votar con los p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Vincent Ostrom, Charles Tibout, Robert Warren (1961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Diferencia entre proveer y produci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Las decisiones sobre provisión serán más eficientes con un sistema policéntr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Wallace Oates (1972): Teorema de la Descentralización: cuando la demanda está diferenciada y sin tomar en cuenta externalidades y economías de escala, la provisión  descentralizada será más eficiente que la centralizada (versión libr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Implicac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557360"/>
            <a:ext cx="77724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Supuestos no explícitos sobre revelación de preferencia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Los ciudadanos pueden comparar beneficios con costos = 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Derecho de autoimposi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Programas de gobierno explicitan co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Los electos representan adecuadamente las preferencias de los electo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Supuesto explícito (Oates): la provisión será tanto más eficiente cuanto mejor correspondan las circuncripciones políticas con la diferenciación de la demand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Acercamiento al ciudadano y asociativismo territo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4222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Descentralización Polític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ransferencia de decisiones políticas sobre asignaciones y financiamiento a </a:t>
            </a:r>
            <a:r>
              <a:rPr b="0" lang="es-ES_tradnl" sz="2600" spc="-1" strike="noStrike">
                <a:solidFill>
                  <a:srgbClr val="ff9966"/>
                </a:solidFill>
                <a:latin typeface="Times New Roman"/>
              </a:rPr>
              <a:t>procesos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democráticos subnacionales (jurídicamente, a gobierno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o fiscal: sólo un aspec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ngresos: contribuciones ciudadanas a cada nivel de solución (errores de cuantificación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ransferencias: ecualización de derech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s conveniente descentralizar los procesos de decisión sobre provisión cuando la demanda está geográficamente diferenciada por aspecto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Fís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ultu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oduc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1000" y="337680"/>
            <a:ext cx="8280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ompetencias Descentralizables Políticament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240" y="1844640"/>
            <a:ext cx="7086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manda geográficamente diferenci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Uso de suel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Organización territorial de la prestación de servic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Infraestructura básica y servicios públ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finición de contenidos de servicios de educación (y salu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ase del desarrollo local/regiona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económico (competitivid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amiento del hábi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escentralización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Opera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20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roceso de asignación político-administrativa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cisión (políti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Ejecución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(administrativ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ara responder mejor por algunas funciones que les competen, los gobiernos centrales transfieren parte de la </a:t>
            </a: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ejecución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de sus decisiones sobre asignación, a administraciones locales a través de sus respectivos gobiernos. Ej. Subsidio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ando lugar a una relación “</a:t>
            </a: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principal - agente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”: ventajas de información pero conflicto de interes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Descentralización Operativa</a:t>
            </a:r>
            <a:r>
              <a:rPr b="0" lang="es-ES" sz="26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scentralización de la ejecución de decisiones políticas centrales,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 gobiernos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“locales” ( = “descentralización administrativa a gobiernos”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delegació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410080"/>
            <a:ext cx="8178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6" name=""/>
          <p:cNvCxnSpPr>
            <a:stCxn id="177" idx="2"/>
            <a:endCxn id="178" idx="1"/>
          </p:cNvCxnSpPr>
          <p:nvPr/>
        </p:nvCxnSpPr>
        <p:spPr>
          <a:xfrm>
            <a:off x="4686480" y="2362320"/>
            <a:ext cx="1638720" cy="3505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352680" y="1828800"/>
            <a:ext cx="2667240" cy="53352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 central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419720"/>
            <a:ext cx="221004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entraliz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362320"/>
            <a:ext cx="6858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77880" y="2860560"/>
            <a:ext cx="26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ff"/>
                </a:solidFill>
                <a:latin typeface="Times New Roman"/>
              </a:rPr>
              <a:t>Desc. Pol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ccff"/>
                </a:solidFill>
                <a:latin typeface="Times New Roman"/>
              </a:rPr>
              <a:t>Decisiones 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12960" y="12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609480"/>
            <a:ext cx="648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ntique Olive"/>
              </a:rPr>
              <a:t>Descentralización Política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ntique Olive"/>
              </a:rPr>
              <a:t>Descentralización Ope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2819520"/>
            <a:ext cx="205740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5562720"/>
            <a:ext cx="213372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6576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Desc. Ope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ffff66"/>
                </a:solidFill>
                <a:latin typeface="Times New Roman"/>
              </a:rPr>
              <a:t>Decisiones administra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66"/>
                </a:solidFill>
                <a:latin typeface="Times New Roman"/>
              </a:rPr>
              <a:t>Equidad</a:t>
            </a:r>
            <a:br>
              <a:rPr sz="2800"/>
            </a:br>
            <a:r>
              <a:rPr b="0" lang="es-ES" sz="28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Transferencias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ansferencias: entregas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dinero y/o en servici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para reducir desigual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erritoriales: de gobierno a gobi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ciales: de gobiernos a personas (subsidios) y a organizaciones (subvencion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erritoriales (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No condicionada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para compensar diferencias en ingresos públicos (por habita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Condicionada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para igualar nivel de provisión de algunos servicios (soci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53720" y="498240"/>
            <a:ext cx="755028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ipos de Transferencias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19280" y="2852640"/>
          <a:ext cx="6389640" cy="3168720"/>
        </p:xfrm>
        <a:graphic>
          <a:graphicData uri="http://schemas.openxmlformats.org/drawingml/2006/table">
            <a:tbl>
              <a:tblPr/>
              <a:tblGrid>
                <a:gridCol w="113184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187280" y="1670040"/>
            <a:ext cx="76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condiciones de eficiencia: es conveniente  diferenciar entre dos tipos de condicionamien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ransferencias y Tipos de Descentralización                         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19280" y="1989000"/>
          <a:ext cx="6389640" cy="4364280"/>
        </p:xfrm>
        <a:graphic>
          <a:graphicData uri="http://schemas.openxmlformats.org/drawingml/2006/table">
            <a:tbl>
              <a:tblPr/>
              <a:tblGrid>
                <a:gridCol w="113184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Operativ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00ffff"/>
                </a:solidFill>
                <a:latin typeface="Times New Roman"/>
              </a:rPr>
              <a:t>El Problem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557000"/>
            <a:ext cx="7772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La autonomía de las localidades es indispensable para favorecer identidad </a:t>
            </a:r>
            <a:r>
              <a:rPr b="0" lang="es-BO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diferenciación productiva </a:t>
            </a:r>
            <a:r>
              <a:rPr b="0" lang="es-BO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competi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Pero en los procesos de descentralización de la región </a:t>
            </a:r>
            <a:r>
              <a:rPr b="0" lang="es-BO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se tiende a favorecer la autonomía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Centralismos intermedios en países federales (excepto Brasil) y aun unitarios (Chile, Ecuador, Paragu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Gobiernos municipales ejecutores de políticas sociales nac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Riesgos que refuerzan el centralis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Insostenibilidad financi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Aumentar en vez de disminuir la in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¿Cómo hacer viable la autonomía local con sostenibilidad y equidad social y territoria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1000" y="498600"/>
            <a:ext cx="8280360" cy="12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ff99"/>
                </a:solidFill>
                <a:latin typeface="Times New Roman"/>
              </a:rPr>
              <a:t>Descentralización Económ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12880" y="1989000"/>
            <a:ext cx="7935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nsferencia de la decisión sobre cómo producir,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de procesos político-administrativos a la competencia económi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Form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xternalización: contratación de obras y servic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oncesión: privatización tempor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Times New Roman"/>
              </a:rPr>
              <a:t>Apertura (“desregulación”): exposición de producción pública a la competencia de establecimientos no públicos. Ej. en Colombia, telecomunicaciones, salud; en Chile, educa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447920" indent="-5335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Implica: descentralización hasta establecimi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498600"/>
            <a:ext cx="7416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ondiciones de Eficiencia y Equida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920" y="2035080"/>
            <a:ext cx="7920000" cy="40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descentralización económic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finición pública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urrencia individual en la ofer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dición para la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eficienci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mpetencia: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egulación, transparencia, control efectivo (incluido de calid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aso especial: monopolios naturales (re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dición para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equidad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subvenciones y subsid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48320" y="1371600"/>
            <a:ext cx="1600200" cy="35053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838080"/>
            <a:ext cx="236196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3429000"/>
            <a:ext cx="198144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791320"/>
            <a:ext cx="3200400" cy="60948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res Exter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1371600"/>
            <a:ext cx="9144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3960" y="1422000"/>
            <a:ext cx="5040" cy="4367880"/>
          </a:xfrm>
          <a:prstGeom prst="line">
            <a:avLst/>
          </a:prstGeom>
          <a:ln w="1260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172200" y="4114800"/>
            <a:ext cx="914400" cy="1676520"/>
          </a:xfrm>
          <a:prstGeom prst="line">
            <a:avLst/>
          </a:prstGeom>
          <a:ln w="1260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0040" y="1870200"/>
            <a:ext cx="1925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esc. Polític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polít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4191120"/>
            <a:ext cx="2514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imes New Roman"/>
              </a:rPr>
              <a:t>Desc. Económic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sobr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12960" y="26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65280" y="20484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ntique Olive"/>
              </a:rPr>
              <a:t>Formas de 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1828800"/>
            <a:ext cx="20574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572000"/>
            <a:ext cx="21337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2666880"/>
            <a:ext cx="1828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. Operativ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47920" y="188640"/>
            <a:ext cx="67960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Descentralización en América Latin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30200" y="2133360"/>
            <a:ext cx="7129440" cy="367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centralización de la prov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gres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ransfer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diciones de eficiencia y equ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centralización de la producción (</a:t>
            </a:r>
            <a:r>
              <a:rPr b="0" lang="es-ES" sz="3200" spc="-1" strike="noStrike">
                <a:solidFill>
                  <a:srgbClr val="ff9966"/>
                </a:solidFill>
                <a:latin typeface="Symbol"/>
                <a:ea typeface="Symbol"/>
              </a:rPr>
              <a:t>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Descentralización de la Provisión</a:t>
            </a:r>
            <a:br>
              <a:rPr sz="4000"/>
            </a:br>
            <a:r>
              <a:rPr b="0" lang="es-BO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4000" spc="-1" strike="noStrike">
                <a:solidFill>
                  <a:srgbClr val="00ffff"/>
                </a:solidFill>
                <a:latin typeface="Times New Roman"/>
              </a:rPr>
              <a:t>Distribución de Competenc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47600" y="1484280"/>
          <a:ext cx="7772400" cy="5103720"/>
        </p:xfrm>
        <a:graphic>
          <a:graphicData uri="http://schemas.openxmlformats.org/drawingml/2006/table">
            <a:tbl>
              <a:tblPr/>
              <a:tblGrid>
                <a:gridCol w="1111320"/>
                <a:gridCol w="1109520"/>
                <a:gridCol w="1111320"/>
                <a:gridCol w="1108080"/>
                <a:gridCol w="1111320"/>
                <a:gridCol w="1109520"/>
                <a:gridCol w="1111320"/>
              </a:tblGrid>
              <a:tr h="63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Co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rge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olom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Infraest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Dept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uni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uni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Educ.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Infraest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Deptos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Salud 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Infraest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Deptos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Salud Secun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uni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7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articipación en el Gast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6400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382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66680" y="1690560"/>
          <a:ext cx="746784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90560"/>
                    <a:ext cx="74678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Ingresos Propios</a:t>
            </a:r>
            <a:br>
              <a:rPr sz="3600"/>
            </a:br>
            <a:r>
              <a:rPr b="0" lang="es-BO" sz="3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Bases de los Principales Impuestos 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Subnacion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68360" y="1946160"/>
          <a:ext cx="8474040" cy="3984840"/>
        </p:xfrm>
        <a:graphic>
          <a:graphicData uri="http://schemas.openxmlformats.org/drawingml/2006/table">
            <a:tbl>
              <a:tblPr/>
              <a:tblGrid>
                <a:gridCol w="1224000"/>
                <a:gridCol w="1144440"/>
                <a:gridCol w="1222560"/>
                <a:gridCol w="1218960"/>
                <a:gridCol w="1222560"/>
                <a:gridCol w="1218960"/>
                <a:gridCol w="1222560"/>
              </a:tblGrid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rge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olom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Intermed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gresos Brutos de las Empres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 Hidroc. *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Vent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gresos Persona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 Hidroc. *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er. *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er. *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cor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solin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 Hidroc. *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Municip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1692360" y="6237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* Regalías no son i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75960"/>
            <a:ext cx="8820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articipación en los Ingresos Fiscal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61722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90720" y="1582560"/>
          <a:ext cx="769608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82560"/>
                    <a:ext cx="769608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Observaciones sobre Ingres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casa capacidad de generación de in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mitaciones a la autoimposi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ención d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mitaciones para alícuo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centración de la riqu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contabilización de contribuciones voluntar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7040" y="30456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ontribuciones no Contabilizad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6560" y="1531440"/>
            <a:ext cx="811548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ortes ciudadanos voluntarios a la generación de bienes públicos a través de sus organizaciones, en “tiempo”, trabajo, especie,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ste caso se cumple la condición de eficiencia: se decide gastos sobre la base de apo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os aportes llegan a ser muy importantes pero no suelen ser contabilizado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pto en fondos de desarrollo y presupuestos participativos, pero no son tomados en cuenta en la contabilidad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632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nfoqu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0560" y="2379600"/>
            <a:ext cx="664236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álisis teó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El problema de la asig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Descentralización de la provisión: eficiencia y 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Descentralización de la producción de bienes provistos públic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centralización en América La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ineamientos para Conciliar Eficiencia con 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763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Sistemas de Transferencias Territoriales</a:t>
            </a:r>
            <a:br>
              <a:rPr sz="3200"/>
            </a:b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Financiamient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00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Transferencias territ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66"/>
                </a:solidFill>
                <a:latin typeface="Times New Roman"/>
              </a:rPr>
              <a:t>Básicas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: en principio de libre disponi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Destin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ásicas: aproximadamente un 20% sobre </a:t>
            </a:r>
            <a:r>
              <a:rPr b="0" lang="es-BO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dos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los impuestos nacionales 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(Ver Anexos 1 y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Excepciones importan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rasil (estados y municipios): sólo sobre impuestos a la renta y a la producción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Chile: sólo sobre impuestos municipales + monto adi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Colombia: sobre PIB de largo plaz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66680" y="3789360"/>
            <a:ext cx="3353040" cy="230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884240"/>
            <a:ext cx="3353040" cy="190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884240"/>
            <a:ext cx="2971800" cy="19051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419720" y="1676520"/>
            <a:ext cx="0" cy="502920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2298600"/>
            <a:ext cx="99072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90640" y="3789360"/>
            <a:ext cx="67057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3352680"/>
            <a:ext cx="16002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Vinculación con esfuerzo 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1219320"/>
            <a:ext cx="1600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Autonomía de ga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56120" y="189864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516240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01932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7160" y="4952880"/>
            <a:ext cx="129852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3657600"/>
            <a:ext cx="114300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5838840"/>
            <a:ext cx="3200400" cy="94716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inanciamiento Directo de Servicios Sociales: </a:t>
            </a: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Colombia, Chile, (Brasil, México)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36800" y="2443320"/>
            <a:ext cx="14479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4536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802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393372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25322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706840" y="5352480"/>
            <a:ext cx="278280" cy="38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6964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ffff"/>
                </a:solidFill>
                <a:latin typeface="Times New Roman"/>
              </a:rPr>
              <a:t>Sistemas de Transferencias</a:t>
            </a:r>
            <a:br>
              <a:rPr sz="2000"/>
            </a:br>
            <a:r>
              <a:rPr b="0" lang="es-BO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Síntesis y Tendencia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48000" y="5442120"/>
            <a:ext cx="1219320" cy="3376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436572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1952640"/>
            <a:ext cx="1218960" cy="337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19640" y="4869000"/>
            <a:ext cx="1143000" cy="398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54920" y="5686560"/>
            <a:ext cx="1081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Times New Roman"/>
              </a:rPr>
              <a:t>Bá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12000" y="6165720"/>
            <a:ext cx="133200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000" spc="-1" strike="noStrike">
                <a:solidFill>
                  <a:srgbClr val="000000"/>
                </a:solidFill>
                <a:latin typeface="Times New Roman"/>
              </a:rPr>
              <a:t>Asign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737240" y="4436640"/>
            <a:ext cx="215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14000" y="4037400"/>
            <a:ext cx="8280" cy="29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43280" y="1916280"/>
            <a:ext cx="144756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56000" y="21337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12000" y="5589720"/>
            <a:ext cx="1332000" cy="107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2362320"/>
            <a:ext cx="22860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¿Mejor Adecuación a Preferencias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9080" y="1341360"/>
            <a:ext cx="7704000" cy="5184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caso acercamiento a niveles más próximos al ciudadano (submunicipales) o proliferación de administraciones municipales con ausencia de estímulos (eficaces) para la asoci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sistemas de financiamiento no inducen gasto vinculado con aportes, posible sólo en (pocas) circunscripciones “rica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gobiernos municipales son agentes de gobiernos centrales &gt; cabezas de autonomías (excepción relativa: Bras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presentación de preferencias: desigual (no democrát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: el sistema electoral municipal no permite adecuada representación de preferencias ciudad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: sectores privilegi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6000" y="315720"/>
            <a:ext cx="7632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ara Conciliar Eficiencia con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122200" y="2204640"/>
            <a:ext cx="5545080" cy="36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iferenciaciones bás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stemas de transfer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fundización y adecu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articipación y autonom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ultados esper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Diferenciaciones Bás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7440" y="1371240"/>
            <a:ext cx="7702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demanda de bienes públicos descentralizables, diferenciar entre servicios de infraestructura básica y servicios soci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Infraestructura básica y servicios públic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 y cuánto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: Demanda diferenci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ervicios de educación y salu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demanda diferenciada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: nivele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demanda igual! (Derechos soci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erenciación establecida en México y ahora, nítidamente, en Colombia (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stemas de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3800" y="1066680"/>
            <a:ext cx="8512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ender a transformar los actuales sistemas de transferencias en dos sistemas</a:t>
            </a: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 subsidiarios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1) Sistema de ecualización de derechos sociales: respecto a ingresos familiares y objetivos nacionales, </a:t>
            </a:r>
            <a:r>
              <a:rPr b="0" lang="es-ES_tradnl" sz="2600" spc="-1" strike="noStrike">
                <a:solidFill>
                  <a:srgbClr val="00ffff"/>
                </a:solidFill>
                <a:latin typeface="Times New Roman"/>
              </a:rPr>
              <a:t>integrado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y operado por gobiernos subnacionales (Colombia, Chile parcialment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2) Sistema de ecualización del derecho a proveerse bienes locales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600" spc="-1" strike="noStrike">
                <a:solidFill>
                  <a:srgbClr val="ffffff"/>
                </a:solidFill>
                <a:latin typeface="Times New Roman"/>
              </a:rPr>
              <a:t>sobre experiencia de México y Europa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ansferencias de libre disponibilidad proporcionales a los aportes locales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relativos</a:t>
            </a:r>
            <a:r>
              <a:rPr b="0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especto a ingresos geográficos o niveles de pobrez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ir contribuciones no contabilizadas (cuantificadas por Fondos de Desarrollo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hora en legislación de Guatem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353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rofundización y Adecuaci</a:t>
            </a:r>
            <a:r>
              <a:rPr b="0" lang="es-BO" sz="4000" spc="-1" strike="noStrike">
                <a:solidFill>
                  <a:srgbClr val="ffffff"/>
                </a:solidFill>
                <a:latin typeface="Times New Roman"/>
              </a:rPr>
              <a:t>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29800" y="1368360"/>
            <a:ext cx="82789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paíse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nitarios y feder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formar procesos de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cisión autónoma en niveles submuncip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: elección de representantes y ejecutivos, transferencia de potestades y recursos (Ej. Ecua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entivar -a través de transferencias territoriales– la formación de consorcios municipales (públicos en Brasil)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en función de configuración de demandas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análisis regional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nsferir potestade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y transferencias de tipo 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a estos consorcios regionales,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públicos pero tempor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para concertación del Desarrollo Local/Regional sobre la base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anes de uso del suelo y organización de servicios (incluidos soci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visión de infraestructura básica y servicio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finición de contenidos de educación y capaci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articipación y Autonomí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12520" y="1111320"/>
            <a:ext cx="836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 y mayor autonomía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Sistema territorial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para elección de representantes en el nivel local, con obligación de informarse e inform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otestades de autoim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ara modificar alícuotas (para impuestos sobre inmuebles, externalización de avalú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egalización y contabilización de cuasi-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resupuestación participativa y consulta obligatoria para endeudamiento a partir de lími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: incentivarla pero subordinarla a participación política reformada (punto anteri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s de información: asequible, de base y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2280" y="1523520"/>
            <a:ext cx="751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Viabilización del desarrollo local/regional: mayor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competitividad económica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yor equidad social y territorial: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igualdad de oportun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de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ciudadan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yor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eficiencia fiscal y administrativa, reducción de la corru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Pero se afectarían intereses políticos actuales (élites locales, partidos): viabilidad  depende de debate y consenso para reforma estruc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Lecturas Recomenda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71280" y="1523880"/>
            <a:ext cx="7848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obre descentralización político-fisc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ates, Wallace (1972)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Fiscal federalism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Trad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obre descentralización económ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ennett, Robert (1990)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ecentralization, governments and markets: towards a post-welfare agend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Oxfor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rtner, Gonzalo (1999)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obernar el mercado, las nuevas fronteras del Estado en el siglo XX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LOM – Santiago de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l autor: en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epal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001: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 Descentralización en América Latina: teoría y práct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 Serie Gestión Pública 12. CE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2005: “Descentralización, transferencias territoriales y desarrollo local” </a:t>
            </a:r>
            <a:r>
              <a:rPr b="0" i="1" lang="es-ES" sz="2400" spc="-1" strike="noStrike">
                <a:solidFill>
                  <a:srgbClr val="ffff66"/>
                </a:solidFill>
                <a:latin typeface="Times New Roman"/>
              </a:rPr>
              <a:t>Revista de la CEPAL 86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(Agos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66"/>
                </a:solidFill>
                <a:latin typeface="Times New Roman"/>
              </a:rPr>
              <a:t>Comentarios bienvenidos en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van.finot@cepal.org</a:t>
            </a:r>
            <a:r>
              <a:rPr b="0" lang="es-ES" sz="2400" spc="-1" strike="noStrike">
                <a:solidFill>
                  <a:srgbClr val="ff9966"/>
                </a:solidFill>
                <a:latin typeface="Times New Roman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ff9966"/>
                </a:solidFill>
                <a:latin typeface="Times New Roman"/>
              </a:rPr>
              <a:t>El Problema de la Asign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52360" y="1339920"/>
            <a:ext cx="7452000" cy="55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La provisión de bienes públicos representa entre un 20 y un 50% del PIB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s decisiones so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é, cuánto y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con qué parte del ingreso ciudada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roveer biene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ómo producir: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qué producir directamente y qué compra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aprobación de presupuestos A través de procesos político-administr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on adoptadas a través de procesos político-administr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velación de pre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otación: programas (sin referencia a costo!) y represen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cisiones finales:</a:t>
            </a:r>
            <a:r>
              <a:rPr b="0" lang="es-ES" sz="24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 aprobar presupue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través de represen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una sola v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ra todos los biene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 menos por un a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943760" cy="99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Dos Tipos de Asign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62828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De las tres funciones económicas fundamentales (estabilidad, redistribución, asignación) sólo es recomendable descentralizar la de asignación (Oates, Musgrav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Pero al aprobar presupuestos se define sobre dos tipos de asig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Asignación 1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BO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visión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qué, cuánto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y con qué parte del ingreso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ciudadano prov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Asignación 2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BO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ducción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con qué combinación de factores e insumos producir lo que se va a proveer (incide en “con qué parte del ingreso proveer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roblemas de Eficienci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0720" y="1412640"/>
            <a:ext cx="8099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ff"/>
                </a:solidFill>
                <a:latin typeface="Times New Roman"/>
              </a:rPr>
              <a:t>Ineficiencia asignativ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Diferencia entre lo que se provee y las preferencias ciudadanas 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eneficio/cost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). Caus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as preferencias individuales son diferentes (y se trata de múltiples bienes y por períodos de tiempo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redominio de la mayoría (a pesar de representación plur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olíticos y administrativos tienen preferencias propi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Al no haber exclusión, “polizontes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ff99"/>
                </a:solidFill>
                <a:latin typeface="Times New Roman"/>
              </a:rPr>
              <a:t>Ineficiencia técnic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 Diferencia entre costo efectivo y costo mínimo en asignación 2 político-administrativ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ausa: ausencia de estímulo económico para minimizar co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15920" y="380880"/>
            <a:ext cx="7594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roblemas Adicional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8720" y="1628280"/>
            <a:ext cx="8136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rrup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1562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Administrativa: coimas </a:t>
            </a:r>
            <a:r>
              <a:rPr b="0" lang="es-ES_tradnl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 mayor ineficiencia técnic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62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Política: “comisiones” clientelismo </a:t>
            </a:r>
            <a:r>
              <a:rPr b="0" lang="es-ES_tradnl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 caso extremo de  ineficiencia asigna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entralismo: incluso sin corrupción,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cuanto más centralizadas las decisiones sobre  prov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ás agregada la demand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ás complejos los procesos de asignació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ayor costo administrativ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ás difíciles de controlar, más riesgo de corrupció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80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a Descentralización como Solu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532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Frente a ineficiencia asignativa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6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ff9966"/>
                </a:solidFill>
                <a:latin typeface="Times New Roman"/>
              </a:rPr>
              <a:t>Descentralización Política</a:t>
            </a:r>
            <a:r>
              <a:rPr b="1" lang="es-ES_tradnl" sz="26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transferencia de decisiones políticas sobre provisión (y producción) a </a:t>
            </a:r>
            <a:r>
              <a:rPr b="1" lang="es-ES_tradnl" sz="2600" spc="-1" strike="noStrike">
                <a:solidFill>
                  <a:srgbClr val="ff9966"/>
                </a:solidFill>
                <a:latin typeface="Times New Roman"/>
              </a:rPr>
              <a:t>procesos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democráticos subnacion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jor adecuación de la provisión a 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demandas diferenciad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territori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rente a polizontes: mayor 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Frente a corrupción: mayor control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720" indent="-39672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Frente a ineficiencia productiva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6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66ff33"/>
                </a:solidFill>
                <a:latin typeface="Times New Roman"/>
              </a:rPr>
              <a:t>Descentralización Económica: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transferencia de decisiones </a:t>
            </a:r>
            <a:r>
              <a:rPr b="1" lang="es-ES_tradnl" sz="2600" spc="-1" strike="noStrike">
                <a:solidFill>
                  <a:srgbClr val="66ff33"/>
                </a:solidFill>
                <a:latin typeface="Times New Roman"/>
              </a:rPr>
              <a:t>sobre cómo producir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desde procesos político – administrativos hacia mecanismos de merca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nores costos si se puede garantiz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286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286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532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66"/>
                </a:solidFill>
                <a:latin typeface="Times New Roman"/>
              </a:rPr>
              <a:t>Descentralización Política</a:t>
            </a:r>
            <a:br>
              <a:rPr sz="32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ndiciones de Eficiencia y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640" y="2063520"/>
            <a:ext cx="655344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diciones de efici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 adecuación a preferencias geográficamente diferenci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eneficios superiores a economías de escala por centr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diciones de equidad: sistemas de ecualización territorial y social (transferencias: territoriales y soci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20:28:21Z</dcterms:created>
  <dc:creator>I.Finot</dc:creator>
  <dc:description/>
  <dc:language>en-US</dc:language>
  <cp:lastModifiedBy>JMFINOT</cp:lastModifiedBy>
  <dcterms:modified xsi:type="dcterms:W3CDTF">2005-10-07T15:16:12Z</dcterms:modified>
  <cp:revision>97</cp:revision>
  <dc:subject/>
  <dc:title>Descentralización Fiscal y Financiamiento del Desarrollo Local/Regional</dc:title>
</cp:coreProperties>
</file>