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246-981D-41C9-96D1-F5C55A96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E40F-AE10-4875-BD30-970FA975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F43-0534-42D3-8FEF-E89C83E4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F1D-7B94-4286-9F86-36204C3B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E14F-B789-49C6-A6D5-28E2F063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0254-8E0E-4A99-92D1-E96C4307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5DC-E2E7-451E-9A82-18DF4079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FF8-00FC-4FB1-9B98-40663A9C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B830-3202-4A30-8650-BFC1F0F0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C47-B29D-4905-BBB9-127B45D3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161-1FB8-49ED-809A-86CD3A6D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21E-70AF-493B-9FDA-52832CD6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5208-F898-4235-ADC9-AD7597D53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638680"/>
            <a:ext cx="8229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Crecimiento de 2,6% en 1990-2004, mejor que en los 80,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ero muy inferior a los 70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En 1998-2003 hubo un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exenio perdido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 Recuperación en 2004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Necesidad de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Reformar las reforma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de primera gener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229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Inestabilidad de la economía real causada por flujos de capitales volát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érica Latina: ciclos de median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791320"/>
            <a:ext cx="8229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inestabilidad real implica una baja tasa de utilización de la capacidad productiva, explicando la baja formación de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229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de cambio real altamente correlacionado con los movimientos de capi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01:34Z</dcterms:created>
  <dc:creator>rheresi</dc:creator>
  <dc:description/>
  <dc:language>en-US</dc:language>
  <cp:lastModifiedBy>rheresi</cp:lastModifiedBy>
  <dcterms:modified xsi:type="dcterms:W3CDTF">2005-09-23T14:53:57Z</dcterms:modified>
  <cp:revision>8</cp:revision>
  <dc:subject/>
  <dc:title>Crecimiento de 2,6% en 1990-2004, mejor que en los 80, pero muy inferior a los 70.    </dc:title>
</cp:coreProperties>
</file>