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A250-F352-48F6-88E4-19EB3275F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E413-8E44-4C30-A320-93B094A8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A936-6893-41C2-A3C0-2D71588A1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A514-A96F-4BDC-A0CF-5BAC820CC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78DD-77D1-4F9D-A374-92EB673D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E404-F85D-4E74-AA15-0C2EB5E6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AB5F-FBFC-4535-9CF0-B830B1AC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2B75-EB77-43A8-865A-D25EEC47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FEE5-0B4F-4944-8B5C-E8BAF88A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F631-CE6A-46C9-B72F-27527F4C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EE8D-3A73-4CBD-A980-7DEFB03B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4853-2C5F-45AB-9F4B-ABEE4116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2B5E-6C0A-4939-B1B9-6BF10BAC0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ormas Económicas en América La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ardo Ffrench-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90920" y="5334120"/>
            <a:ext cx="396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-09-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ormas Económicas en América La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ardo Ffrench-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5334120"/>
            <a:ext cx="396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-09-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5638680"/>
            <a:ext cx="8229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 Crecimiento de 2,6% en 1990-2004, mejor que en los 80,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ero muy inferior a los 70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 En 1998-2003 hubo un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exenio perdido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. Recuperación en 2004.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 Necesidad de 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Reformar las reformas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de primera generació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763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095880"/>
            <a:ext cx="8229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Inestabilidad de la economía real causada por flujos de capitales volát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érica Latina: ciclos de mediano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229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1048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5791320"/>
            <a:ext cx="82296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 inestabilidad real implica una baja tasa de utilización de la capacidad productiva, explicando la baja formación de capi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05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5866920"/>
            <a:ext cx="82296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po de cambio real altamente correlacionado con los movimientos de capi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8:01:34Z</dcterms:created>
  <dc:creator>rheresi</dc:creator>
  <dc:description/>
  <dc:language>en-US</dc:language>
  <cp:lastModifiedBy>rheresi</cp:lastModifiedBy>
  <dcterms:modified xsi:type="dcterms:W3CDTF">2005-09-23T14:53:57Z</dcterms:modified>
  <cp:revision>8</cp:revision>
  <dc:subject/>
  <dc:title>Crecimiento de 2,6% en 1990-2004, mejor que en los 80, pero muy inferior a los 70.    </dc:title>
</cp:coreProperties>
</file>