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CF23-9995-4636-84F7-E51A63AF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CB32-3D00-47DC-B73A-E321E603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84BF-4441-4E8E-8B88-E42EDCDE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357E-8831-48A5-B1FE-07F3A9BF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6F87-6CB8-4E81-8C75-0D4C240B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0840-4AEB-4024-8B46-B1A9227F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9BDD-C16E-404B-A637-C7FDF19B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5E2-AFCA-4A63-8B0C-BAB128DA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FA69-D28C-404C-8BCC-5335A70C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EEAF-C9AB-4BA8-AEA7-96A6DBEA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F70-3BB1-4883-ABDB-8B3D192C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0A0A-D72D-4E09-9D62-EDCF8FA5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F658-3BA4-473B-A878-13F40F9D9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ormas Económicas en América La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ardo Ffrench-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533412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-09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ormas Económicas en América La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ardo Ffrench-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33412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-09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5638680"/>
            <a:ext cx="8229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Crecimiento de 2,6% en 1990-2004, mejor que en los 80,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ero muy inferior a los 70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En 1998-2003 hubo un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exenio perdido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 Recuperación en 2004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Necesidad de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Reformar las reforma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de primera gener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5880"/>
            <a:ext cx="8229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Inestabilidad de la economía real causada por flujos de capitales volát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érica Latina: ciclos de median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229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5791320"/>
            <a:ext cx="8229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inestabilidad real implica una baja tasa de utilización de la capacidad productiva, explicando la baja formación de ca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5866920"/>
            <a:ext cx="82296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 de cambio real altamente correlacionado con los movimientos de capi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8:01:34Z</dcterms:created>
  <dc:creator>rheresi</dc:creator>
  <dc:description/>
  <dc:language>en-US</dc:language>
  <cp:lastModifiedBy>rheresi</cp:lastModifiedBy>
  <dcterms:modified xsi:type="dcterms:W3CDTF">2005-09-23T14:53:57Z</dcterms:modified>
  <cp:revision>8</cp:revision>
  <dc:subject/>
  <dc:title>Crecimiento de 2,6% en 1990-2004, mejor que en los 80, pero muy inferior a los 70.    </dc:title>
</cp:coreProperties>
</file>