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D08-D0F5-4E7B-81F8-C8A7A441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81E-5E49-4C24-8196-DC25D300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58F-17C0-4C0C-9A1E-47E8FF90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1AC-6CA1-4C1C-BC82-901D83B31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2AA-126F-4048-AD77-8EF9863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1B9-3677-4FE9-896F-361CAA45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2E2-6379-482F-BDC0-1DBBD90F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D180-58F7-4392-BE12-FB2FC75F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14C-4018-4558-89A6-DE2FEDF4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BC8D-CFFC-4DF2-A44F-35CC4B29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25C5-14A9-408E-8889-0C691C9F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00BD-14A5-41A1-AE75-A2D27557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6CA1-1716-4770-87D4-066A388B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ormas Económicas en América La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ardo Ffrench-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533412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-09-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5638680"/>
            <a:ext cx="8229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Crecimiento de 2,6% en 1990-2004, mejor que en los 80,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ero muy inferior a los 70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En 1998-2003 hubo un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exenio perdido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. Recuperación en 2004.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 Necesidad de 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Reformar las reforma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de primera generació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Inestabilidad de la economía real causada por flujos de capitales volát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rica Latina: ciclos de median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229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791320"/>
            <a:ext cx="8229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inestabilidad real implica una baja tasa de utilización de la capacidad productiva, explicando la baja formación de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866920"/>
            <a:ext cx="82296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cambio real altamente correlacionado con los movimientos de cap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18:01:34Z</dcterms:created>
  <dc:creator>rheresi</dc:creator>
  <dc:description/>
  <dc:language>en-US</dc:language>
  <cp:lastModifiedBy>rheresi</cp:lastModifiedBy>
  <dcterms:modified xsi:type="dcterms:W3CDTF">2005-09-23T14:53:57Z</dcterms:modified>
  <cp:revision>8</cp:revision>
  <dc:subject/>
  <dc:title>Crecimiento de 2,6% en 1990-2004, mejor que en los 80, pero muy inferior a los 70.    </dc:title>
</cp:coreProperties>
</file>