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5AD9-8DA0-4F2F-9D09-2C2BB673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47D-E3F9-4096-A4F7-EA7C3585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2989-C708-423B-ABC6-3066B0C0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C043-7390-42FB-9615-6687E82E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811A-374A-4146-B25C-5EB805CA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F640-7196-4B75-A16A-D7AB08E4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9AC9-285A-469E-A50C-F289B0D2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68AA-7EF2-422B-9BBF-A5E756CE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A0E1-8D6C-4007-A9BB-69F8F242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C86-7CCA-438C-8F55-8A6C363B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5BB-5C7E-42B4-AD95-0A281585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7A50-B6A0-4BD5-AD31-8DF8EBEF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B7F0-43D0-499F-8264-3CCA8A532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ormas Económicas en América La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ardo Ffrench-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533412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-09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ormas Económicas en América La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ardo Ffrench-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33412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-09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5638680"/>
            <a:ext cx="8229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Crecimiento de 2,6% en 1990-2004, mejor que en los 80,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ero muy inferior a los 70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En 1998-2003 hubo un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exenio perdido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 Recuperación en 2004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Necesidad de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Reformar las reforma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de primera gener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5880"/>
            <a:ext cx="8229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Inestabilidad de la economía real causada por flujos de capitales volát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érica Latina: ciclos de median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229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5791320"/>
            <a:ext cx="8229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inestabilidad real implica una baja tasa de utilización de la capacidad productiva, explicando la baja formación de ca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5866920"/>
            <a:ext cx="82296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 de cambio real altamente correlacionado con los movimientos de capi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8:01:34Z</dcterms:created>
  <dc:creator>rheresi</dc:creator>
  <dc:description/>
  <dc:language>en-US</dc:language>
  <cp:lastModifiedBy>rheresi</cp:lastModifiedBy>
  <dcterms:modified xsi:type="dcterms:W3CDTF">2005-09-23T14:53:57Z</dcterms:modified>
  <cp:revision>8</cp:revision>
  <dc:subject/>
  <dc:title>Crecimiento de 2,6% en 1990-2004, mejor que en los 80, pero muy inferior a los 70.    </dc:title>
</cp:coreProperties>
</file>