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350-9162-4430-B352-EF1F1B1B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6214-A79F-40AF-8BBA-2C7E63AE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B8A-ADE1-47AA-9F17-C745027F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0961-F875-4EA4-AA7A-A7FC5697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E38B-2FE7-4584-887A-84C4127B6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A1CA-4F3F-4362-8F20-9078E823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ED8E-B0CD-47F6-9127-4F4013BB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AA32-5738-421E-8438-EB0FFFA7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E2EE-D748-43BF-86A8-E59AA968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F60D-10CD-442E-936B-26364A29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9642-BB42-423B-A985-E080DE97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02F7-D6CC-4FF4-9C7B-9150C940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730B-4F4F-4B7B-8BA3-9B3F57ED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BB04-92BF-408F-8CE1-55CC9564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4525-BD6D-4DBE-9A9C-58710C47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00F8-F965-48E3-99B3-15E68B851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7A5D-D7B5-4304-8A7B-9EFB40DE0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85DB-B8DD-4123-8488-EFF2BAA4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591F-07E3-4F8F-807D-81A82EC2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58A6-563B-4768-B08A-55B826CA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E88-C339-4161-8C87-6BAD2EB0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EB92-2C32-43D6-A3B9-D4320401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E200-FFBB-4D25-9584-6627B25C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E9E3-1981-443B-B91B-D817D070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98BF-187F-46E3-84B6-08696508D66D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87E1B-0DC5-41A3-91C1-9C42D0A1BAD7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10IngresoMensual.jpg" TargetMode="External"/><Relationship Id="rId3" Type="http://schemas.openxmlformats.org/officeDocument/2006/relationships/hyperlink" Target="file:///21IngresoMensual.jpg" TargetMode="External"/><Relationship Id="rId4" Type="http://schemas.openxmlformats.org/officeDocument/2006/relationships/hyperlink" Target="file:///35IngresoMensual.jpg" TargetMode="External"/><Relationship Id="rId5" Type="http://schemas.openxmlformats.org/officeDocument/2006/relationships/hyperlink" Target="file:///37IngresoMensual.jpg" TargetMode="External"/><Relationship Id="rId6" Type="http://schemas.openxmlformats.org/officeDocument/2006/relationships/hyperlink" Target="file:///38IngresoMensual.jpg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NÁLISIS ECONÓMICO DEL 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MGPP-IN609 2005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% QUE A LOS 14 AÑOS DE EDAD COMPLETA 6 AÑOS DE ESTUDIO Y A LOS 20 COMPLETA SECUNDARIA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066680" y="1754280"/>
          <a:ext cx="7188480" cy="450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754280"/>
                    <a:ext cx="718848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DISTRIBUCIÓN MATRÍCULA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642960" y="2127240"/>
          <a:ext cx="7831080" cy="391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127240"/>
                    <a:ext cx="7831080" cy="39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DE POLÍTIC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2057400"/>
            <a:ext cx="7958160" cy="4191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Cuáles son los objetivos económicos de la política de educación superior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casez: eficiencia y 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a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Volumen de recursos, tamaño sector, cobertura, TI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ficiencia micr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Dados los recursos usarlos lo mejor posible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e relaciona con la gestión y los incentivo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Satisfacción demandas (estudiantes, empresas, Estado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—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Calidad product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OLÍTICA (2)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2504880"/>
            <a:ext cx="8178840" cy="308916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6600"/>
                </a:solidFill>
                <a:latin typeface="Verdana"/>
              </a:rPr>
              <a:t>Equi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acceso (x capacidades; diferencias r/a educación escolar x ej. derechos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En el pago (¿ingresos actuales o futuros?)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Igualdad de oportunidades y educación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DOCENCIA/INVESTIGA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multiproduc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en la última décad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lgunas carreras universitarias seleccionad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996633"/>
                </a:solidFill>
                <a:latin typeface="Verdana"/>
              </a:rPr>
              <a:t>ORDEN EXPOSICIÓN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l método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 de la econom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ntecedentes educaci</a:t>
            </a:r>
            <a:r>
              <a:rPr b="0" lang="es-CL" sz="2400" spc="-1" strike="noStrike">
                <a:solidFill>
                  <a:srgbClr val="cc6600"/>
                </a:solidFill>
                <a:latin typeface="Verdana"/>
              </a:rPr>
              <a:t>ón superior en Chi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bjetivos sistema educación superior y de la política educacion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arco conceptual: distintos product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Por qué el estado financia la educación superior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miento de la 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Otros temas: información, investigación, extensión, público vrs. privad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Dado que es una inversión rentable: ¿por qué Estado apoya financieramente docencia?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Externalidades?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e redes, fuera del mercado, crecimiento endógen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fíciles de medi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Discutibles en educación superior 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 </a:t>
            </a: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meron y Heckman (1999) 4% en EEUU. No quiere decir que en países en desarrollo no sea muy relevant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Bienes de mérito? (objetivos no privados de docenci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 ex-ante vrs. ex-post y capacidad de presión sobre el aparato públ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EQUIDAD EN EL ACCES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trícula y nivel de ingreso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obertura 1er quintil es 9,4%, 5to quintil 65,6%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Crecimiento cobertura es 21% en 1er quintil, 5to es 60% desde el 92, pero desde el 87 es 147% contra 63% del V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Otros países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Mala distribución de la calidad de educación básica y media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P(ingreso U) 6 veces &gt; para un alumno egresado de un establecimiento particular pagado que de un liceo municipal. En U.Ch. y U.C. es más de 10 veces. 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cc6600"/>
                </a:solidFill>
                <a:latin typeface="Verdana"/>
              </a:rPr>
              <a:t>Además pobres no egresan</a:t>
            </a:r>
            <a:endParaRPr b="0" lang="en-US" sz="21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ESQUEMA ACTU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acilitar el trabajo part-tim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scaso apoyo a CFT, IP, universidades privadas post 1981: becas Pdte Rep.,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Más difícil controlar ingreso actual que ingreso futuro?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ed. sup.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TROS TEMAS FINANCIAMIENTO ESTATAL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ientras mayor el apoyo estatal, mayor la presión sobre el sistema para no crece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teriorar calidad para mayor cobertur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mitir entrada de más recursos privados, sin deteriorar equidad en el acce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Necesidad de generar indicadores para mejorar asignación y uso de recurs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grpSp>
        <p:nvGrpSpPr>
          <p:cNvPr id="305" name=""/>
          <p:cNvGrpSpPr/>
          <p:nvPr/>
        </p:nvGrpSpPr>
        <p:grpSpPr>
          <a:xfrm>
            <a:off x="455040" y="617400"/>
            <a:ext cx="8390160" cy="6156360"/>
            <a:chOff x="455040" y="617400"/>
            <a:chExt cx="8390160" cy="6156360"/>
          </a:xfrm>
        </p:grpSpPr>
        <p:sp>
          <p:nvSpPr>
            <p:cNvPr id="306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2520" y="536004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62520" y="4882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62520" y="440892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62520" y="3930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62520" y="3453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62520" y="29746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62520" y="2500560"/>
              <a:ext cx="73177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62520" y="202212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62520" y="154476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62520" y="1544760"/>
              <a:ext cx="7317720" cy="4293360"/>
            </a:xfrm>
            <a:prstGeom prst="rect">
              <a:avLst/>
            </a:prstGeom>
            <a:noFill/>
            <a:ln w="12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62520" y="1544760"/>
              <a:ext cx="1080" cy="4293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214280" y="5838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14280" y="536004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14280" y="4882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214280" y="440892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214280" y="39304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4280" y="3453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14280" y="297468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14280" y="2500560"/>
              <a:ext cx="482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214280" y="202212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214280" y="1544760"/>
              <a:ext cx="4824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262520" y="5838480"/>
              <a:ext cx="7317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126252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272700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91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651640" y="5838120"/>
              <a:ext cx="108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11612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8580240" y="5838120"/>
              <a:ext cx="720" cy="54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17240" y="15404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91960" y="156204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69440" y="15991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42600" y="162108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217600" y="17686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183560" y="177336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9" y="0"/>
                  </a:moveTo>
                  <a:lnTo>
                    <a:pt x="97" y="48"/>
                  </a:lnTo>
                  <a:lnTo>
                    <a:pt x="49" y="96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808000" y="1852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08000" y="1866600"/>
              <a:ext cx="95760" cy="10872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20016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358000" y="20689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209400" y="208584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28480" y="21618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58200" y="217908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19080" y="26064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10040" y="26996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91680" y="27165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78200" y="279720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988000" y="281772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002760" y="3270240"/>
              <a:ext cx="9540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41960" y="34268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72120" y="35622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9"/>
                  </a:lnTo>
                  <a:lnTo>
                    <a:pt x="48" y="97"/>
                  </a:lnTo>
                  <a:lnTo>
                    <a:pt x="0" y="49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15760" y="3583800"/>
              <a:ext cx="95760" cy="10980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455520" y="402336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18720" y="413388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117600" y="415404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46480" y="41803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8"/>
                  </a:lnTo>
                  <a:lnTo>
                    <a:pt x="49" y="97"/>
                  </a:lnTo>
                  <a:lnTo>
                    <a:pt x="0" y="4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741760" y="4273560"/>
              <a:ext cx="95760" cy="109080"/>
            </a:xfrm>
            <a:custGeom>
              <a:avLst/>
              <a:gdLst/>
              <a:ahLst/>
              <a:rect l="l" t="t" r="r" b="b"/>
              <a:pathLst>
                <a:path w="97" h="96">
                  <a:moveTo>
                    <a:pt x="48" y="0"/>
                  </a:moveTo>
                  <a:lnTo>
                    <a:pt x="97" y="48"/>
                  </a:lnTo>
                  <a:lnTo>
                    <a:pt x="48" y="96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308000" y="470880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8" y="0"/>
                  </a:moveTo>
                  <a:lnTo>
                    <a:pt x="97" y="48"/>
                  </a:lnTo>
                  <a:lnTo>
                    <a:pt x="48" y="97"/>
                  </a:lnTo>
                  <a:lnTo>
                    <a:pt x="0" y="48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153400" y="51019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93440" y="5465520"/>
              <a:ext cx="9540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44280" y="2572200"/>
              <a:ext cx="95760" cy="1101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49" y="0"/>
                  </a:moveTo>
                  <a:lnTo>
                    <a:pt x="97" y="49"/>
                  </a:lnTo>
                  <a:lnTo>
                    <a:pt x="49" y="97"/>
                  </a:lnTo>
                  <a:lnTo>
                    <a:pt x="0" y="4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0080"/>
            </a:solidFill>
            <a:ln w="122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667880" y="681120"/>
              <a:ext cx="6901200" cy="61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00"/>
                  </a:solidFill>
                  <a:latin typeface="Arial"/>
                </a:rPr>
                <a:t>% del PIB dirigido a educación superior y proporción del gasto público en el gasto 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47240" y="2889360"/>
              <a:ext cx="268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r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211920" y="2632680"/>
              <a:ext cx="450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rgentin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84680" y="2940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pain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611720" y="4134960"/>
              <a:ext cx="45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ndonesia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03400" y="4225680"/>
              <a:ext cx="2401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apa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81760" y="1724400"/>
              <a:ext cx="342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urke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41640" y="2250720"/>
              <a:ext cx="29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z.R.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526120" y="2024640"/>
              <a:ext cx="352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xico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376720" y="26542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tal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684880" y="2460960"/>
              <a:ext cx="406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Hungary   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279960" y="4108680"/>
              <a:ext cx="427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hilippin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315400" y="5056560"/>
              <a:ext cx="201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hil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56880" y="5419080"/>
              <a:ext cx="235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Kore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71080" y="4658760"/>
              <a:ext cx="337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ai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16800" y="3978000"/>
              <a:ext cx="5295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305760" y="3380040"/>
              <a:ext cx="215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srae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34840" y="3514320"/>
              <a:ext cx="308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anad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78120" y="3534840"/>
              <a:ext cx="343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al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133240" y="1556280"/>
              <a:ext cx="284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Ice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786200" y="1956240"/>
              <a:ext cx="31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44840" y="1725480"/>
              <a:ext cx="29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orwa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7840" y="1574280"/>
              <a:ext cx="357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nmark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79960" y="1495080"/>
              <a:ext cx="275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ustria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942280" y="1864080"/>
              <a:ext cx="328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ortugal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20200" y="213228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72480" y="2040120"/>
              <a:ext cx="4748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therlands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81440" y="408600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erú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168000" y="3224520"/>
              <a:ext cx="602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United Kingdon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52520" y="1516320"/>
              <a:ext cx="45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witzerland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75400" y="1802880"/>
              <a:ext cx="361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Germany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9880" y="2518920"/>
              <a:ext cx="613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OECD average</a:t>
              </a:r>
              <a:endParaRPr b="0" lang="en-US" sz="7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33480" y="57326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33480" y="52542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33480" y="4774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33480" y="430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4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933480" y="3825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933480" y="3348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933480" y="2866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3480" y="2394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33480" y="191772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9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58760" y="14378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599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0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8560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08960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1168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3520" y="59907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.5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538840" y="59907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560120" y="6291000"/>
              <a:ext cx="1510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total/pib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75240" y="2936520"/>
              <a:ext cx="1611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 pub/total</a:t>
              </a:r>
              <a:endParaRPr b="0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5040" y="617400"/>
              <a:ext cx="8390160" cy="615636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3962520" y="2895480"/>
            <a:ext cx="3809880" cy="3200400"/>
          </a:xfrm>
          <a:prstGeom prst="ellipse">
            <a:avLst/>
          </a:prstGeom>
          <a:noFill/>
          <a:ln w="9360">
            <a:solidFill>
              <a:srgbClr val="fb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33920" y="1447920"/>
            <a:ext cx="1828800" cy="761760"/>
          </a:xfrm>
          <a:prstGeom prst="ellipse">
            <a:avLst/>
          </a:prstGeom>
          <a:noFill/>
          <a:ln w="9360">
            <a:solidFill>
              <a:srgbClr val="bf07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segurar que los estudiantes meritorios tengan acceso a crédito contingente a ingresos futur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quemas eficientes y equitativos de pag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Regular el mercado? ¿Qué aspect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ero problemas de otros instrumentos (ej. Informática en EEUU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mportancia de instituciones públic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es difícil de excluir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8951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LGUNOS ANTECEDENTES DEL SISTEMA DE EDUCACIÓN SUPERIOR CHILEN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OTROS VARIOS TEMAS...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bienes públicos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: debate sobre </a:t>
            </a:r>
            <a:r>
              <a:rPr b="0" lang="es-ES_tradnl" sz="2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propiedad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bienes eficientemente: regulación; financiamiento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¿pero en cuántos países no se confunde autonomía con impunidad? Importancia de accountability), cohesión social, reflexión sobre el futuro del paí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..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1447920"/>
          <a:ext cx="914400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914400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COBERTURA DE EDUCACIÓN SUPERIOR POR QUINTIL DE INGRESO AUTONÓMO PER CAPITA DEL HOGAR, 1990, 2000 Y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77004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bfff7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0360" y="5540400"/>
            <a:ext cx="333360" cy="1713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25560" y="5396040"/>
            <a:ext cx="319320" cy="3157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76720" y="5211720"/>
            <a:ext cx="331920" cy="5000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41920" y="4857840"/>
            <a:ext cx="319320" cy="85392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3080" y="4108320"/>
            <a:ext cx="331560" cy="160344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93720" y="5343480"/>
            <a:ext cx="319320" cy="3682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4880" y="5067360"/>
            <a:ext cx="331560" cy="6444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8640" y="4556160"/>
            <a:ext cx="320400" cy="11556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61240" y="3976560"/>
            <a:ext cx="331560" cy="173520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424640" y="3097080"/>
            <a:ext cx="320760" cy="2614680"/>
          </a:xfrm>
          <a:prstGeom prst="rect">
            <a:avLst/>
          </a:prstGeom>
          <a:solidFill>
            <a:srgbClr val="ff6600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13040" y="5133960"/>
            <a:ext cx="331560" cy="5778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76440" y="4870440"/>
            <a:ext cx="320760" cy="84132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9040" y="4411800"/>
            <a:ext cx="331920" cy="12999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292800" y="3859200"/>
            <a:ext cx="320760" cy="1852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745400" y="2781360"/>
            <a:ext cx="331920" cy="293040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27080" y="1730520"/>
            <a:ext cx="1800" cy="3981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571176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491004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1227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3321000"/>
            <a:ext cx="36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53224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1730520"/>
            <a:ext cx="36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27080" y="5711760"/>
            <a:ext cx="7296120" cy="18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2708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24908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394344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407200" y="5711760"/>
            <a:ext cx="144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685944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8323200" y="5711760"/>
            <a:ext cx="18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65640" y="508464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9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09920" y="43196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8,9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49560" y="3741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3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261200" y="286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5,6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084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973560" y="38718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79520" y="49626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2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56440" y="51465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34000" y="522936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96840" y="4830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6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84480" y="414972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32,8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01920" y="45813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1,2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04840" y="486900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4,5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56280" y="2544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73,7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29240" y="36226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6,4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29280" y="5560920"/>
            <a:ext cx="308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3560" y="48182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560" y="403056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4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3560" y="322884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6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560" y="2440080"/>
            <a:ext cx="432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8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7680" y="1638360"/>
            <a:ext cx="555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00,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38800" y="5816520"/>
            <a:ext cx="84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76640" y="5816520"/>
            <a:ext cx="168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26720" y="5816520"/>
            <a:ext cx="252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II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72480" y="5816520"/>
            <a:ext cx="22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I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3960" y="5816520"/>
            <a:ext cx="14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V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84960" y="6053040"/>
            <a:ext cx="31172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Quintil de ingreso autónomo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-347760" y="3372480"/>
            <a:ext cx="1314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(Porcentaje)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1797120"/>
            <a:ext cx="2030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56160" y="1954080"/>
            <a:ext cx="74520" cy="79560"/>
          </a:xfrm>
          <a:prstGeom prst="rect">
            <a:avLst/>
          </a:prstGeom>
          <a:solidFill>
            <a:srgbClr val="ff0000">
              <a:alpha val="50000"/>
            </a:srgbClr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0880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199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251400" y="1954080"/>
            <a:ext cx="73080" cy="79560"/>
          </a:xfrm>
          <a:prstGeom prst="rect">
            <a:avLst/>
          </a:prstGeom>
          <a:solidFill>
            <a:srgbClr val="ffffff"/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cc66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105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0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165800" y="1954080"/>
            <a:ext cx="73080" cy="79560"/>
          </a:xfrm>
          <a:prstGeom prst="rect">
            <a:avLst/>
          </a:prstGeom>
          <a:solidFill>
            <a:srgbClr val="3399ff">
              <a:alpha val="50000"/>
            </a:srgbClr>
          </a:solidFill>
          <a:ln w="176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324920" y="1901880"/>
            <a:ext cx="494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cc6600"/>
                </a:solidFill>
                <a:latin typeface="Tahoma"/>
              </a:rPr>
              <a:t>2003</a:t>
            </a:r>
            <a:endParaRPr b="0" lang="en-US" sz="17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Arial Black"/>
              </a:rPr>
              <a:t>INGRESO AUTONOMO PER CAPITA DEL HOGAR POR QUINTIL DE INGRESO: PROMEDIO, LIMITES MÍNIMOS Y MÁXIMOS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1886040"/>
            <a:ext cx="8178840" cy="4171680"/>
            <a:chOff x="457200" y="1886040"/>
            <a:chExt cx="8178840" cy="4171680"/>
          </a:xfrm>
        </p:grpSpPr>
        <p:sp>
          <p:nvSpPr>
            <p:cNvPr id="163" name=""/>
            <p:cNvSpPr/>
            <p:nvPr/>
          </p:nvSpPr>
          <p:spPr>
            <a:xfrm>
              <a:off x="6425640" y="5550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82280" y="5550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68.63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626200" y="5550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" y="5550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25640" y="504540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382280" y="504540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37.14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26200" y="504540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33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" y="504540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25640" y="453852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99.906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82280" y="453852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44.36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26200" y="453852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75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" y="453852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25640" y="4032720"/>
              <a:ext cx="221004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106.867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2280" y="4032720"/>
              <a:ext cx="2043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85.66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26200" y="4032720"/>
              <a:ext cx="175572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6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7200" y="4032720"/>
              <a:ext cx="2169000" cy="5054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425640" y="3525840"/>
              <a:ext cx="221004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67.65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382280" y="3525840"/>
              <a:ext cx="2043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52.82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626200" y="3525840"/>
              <a:ext cx="175572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9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7200" y="3525840"/>
              <a:ext cx="2169000" cy="5068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25640" y="3020760"/>
              <a:ext cx="221004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39.678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82280" y="3020760"/>
              <a:ext cx="2043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23.174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626200" y="3020760"/>
              <a:ext cx="175572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         </a:t>
              </a:r>
              <a:r>
                <a:rPr b="0" lang="en-US" sz="2000" spc="-1" strike="noStrike">
                  <a:solidFill>
                    <a:srgbClr val="cc6600"/>
                  </a:solidFill>
                  <a:latin typeface="Arial"/>
                </a:rPr>
                <a:t>-  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57200" y="3020760"/>
              <a:ext cx="2169000" cy="505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425640" y="1886040"/>
              <a:ext cx="221004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áx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382280" y="1886040"/>
              <a:ext cx="2043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Promedi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626200" y="1886040"/>
              <a:ext cx="175572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Míni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200" y="1886040"/>
              <a:ext cx="2169000" cy="1134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Arial"/>
                </a:rPr>
                <a:t>Quintil de ingreso  autónomo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57200" y="302076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2620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228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425640" y="1886040"/>
              <a:ext cx="0" cy="417168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7200" y="3525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" y="40327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200" y="453852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200" y="504540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7200" y="5550840"/>
              <a:ext cx="817884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57200" y="188604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5720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36040" y="1886040"/>
              <a:ext cx="0" cy="417168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200" y="6057720"/>
              <a:ext cx="817884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2003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2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9900"/>
                </a:solidFill>
                <a:latin typeface="Verdana"/>
              </a:rPr>
              <a:t>POBLACION 25-34 AÑOS POR QUINTIL DE INGRESO Y NIVEL DE ESCOLARIDAD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0" y="1752480"/>
          <a:ext cx="914400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UNIVERSIDAD DE CHILE.</cp:lastModifiedBy>
  <dcterms:modified xsi:type="dcterms:W3CDTF">2005-08-31T20:42:11Z</dcterms:modified>
  <cp:revision>30</cp:revision>
  <dc:subject/>
  <dc:title>ANÁLISIS ECONÓMICO DE LA EDUCACIÓN SUPERIOR</dc:title>
</cp:coreProperties>
</file>