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4.wmf" ContentType="image/x-wmf"/>
  <Override PartName="/ppt/media/image27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1.png" ContentType="image/png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928B-A28C-4B80-987C-6810987579C7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257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5706-CBB7-4576-8C23-1302BF9F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130-9D21-46A1-98DA-D3707040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666-D31E-4F14-A06C-B9FF2883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BD9-52FB-4F73-88AD-5F001FB0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177C-6B55-4ABD-9F95-F6FDAB65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784-D85D-4F15-9EBF-9BE652E4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0A0-20C3-4C75-AE68-CA672042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EDD-4DC1-491C-BA98-7AEC1971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BFF-3976-44F6-920B-17161455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350-C2B7-4D51-95DF-637A5FBA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325-94B2-4491-AC11-9A1C734C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B906-59D5-4E8F-906C-6A67AB45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8F9E-989D-49BA-8502-8C67C0837ED3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23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stands for Pension Fund Manager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57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61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0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4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78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57200" y="250920"/>
            <a:ext cx="8229600" cy="3828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1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191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3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5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7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8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0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4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4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1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61" idx="3"/>
            <a:endCxn id="64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>
            <a:stCxn id="62" idx="3"/>
            <a:endCxn id="68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67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3" idx="3"/>
            <a:endCxn id="66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4" idx="3"/>
            <a:endCxn id="65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8" idx="3"/>
            <a:endCxn id="70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7" idx="3"/>
            <a:endCxn id="70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66" idx="3"/>
            <a:endCxn id="70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3"/>
            <a:endCxn id="70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0" name=""/>
          <p:cNvCxnSpPr>
            <a:stCxn id="61" idx="3"/>
            <a:endCxn id="63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61" idx="3"/>
            <a:endCxn id="62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69" idx="3"/>
            <a:endCxn id="64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1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5 de agosto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José Inostroza</cp:lastModifiedBy>
  <dcterms:modified xsi:type="dcterms:W3CDTF">2005-08-09T20:36:29Z</dcterms:modified>
  <cp:revision>110</cp:revision>
  <dc:subject/>
  <dc:title>Cobertura, densidad y pensiones en Chile:  Proyecciones a 30 años plazo</dc:title>
</cp:coreProperties>
</file>