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4.wmf" ContentType="image/x-wmf"/>
  <Override PartName="/ppt/media/image27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png" ContentType="image/png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7190-A33C-4F28-A84C-751AFDC7165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E4B4-6FEC-4066-81D5-18A7393B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0F0-06EA-467F-B093-E4CA17E2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C65-07ED-48C2-8D66-574F81A3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009-8461-4D46-A168-0B3C3B02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A9D-0E79-4F29-BB5E-C483FEED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C64-120E-4F33-890E-2DB48326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02C-6B31-4751-A94A-AFEDE3E0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898-4236-4467-BD9B-1C620C1D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50560"/>
            <a:ext cx="699444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2B5-9998-4674-857E-8F58C096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883-8777-4FE4-98E8-5083DA6B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385-332D-4EC2-AB0F-2D988F19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074-341E-4659-A59E-7EF97913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B517-E616-4E77-A392-D5DF936FA211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130320"/>
            <a:ext cx="1447920" cy="11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Los Fondos de Pensiones son los principales inversionistas de letras hipotecari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Acceso a la vivienda en Chi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 Unicode MS"/>
              </a:rPr>
              <a:t>Efectos de los Fondos de Pensiones en el financiamiento de vivienda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15680"/>
            <a:ext cx="7632720" cy="14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 observan mayores plazos para créditos hipotecarios y disminución de las tasas de interés de los préstamo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asa de interés re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8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5,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más de  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zo máxim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7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certificados con respaldo hipotecar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La gran mayoría de los adultos mayores viven en casa prop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250200"/>
            <a:ext cx="6994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 pesar de eso, hay problemas de dos tip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de arrast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onos de reconocimiento: calculados sobre una “mala base” porque el desempleo entre 1975 y 1979 fue muy alt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ño prevision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to desempleo en 80s y 0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estructurales, endógenos y exógen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23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619280" y="4629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52452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35280" y="91440"/>
            <a:ext cx="68515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75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aspects of the Chilean pension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ultipillar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1: Old age poverty preven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ibutory Minimum pension State-guaranteed (20 y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n contributory means tested basic pen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2: Consumption smoothing, manda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AFP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(stands for Pension Fund Manager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3: Consumption smoothing, volunta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FP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fe Insurance Companies (LIC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tual Funds, brok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18920" y="188280"/>
            <a:ext cx="7451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57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61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0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8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250920"/>
            <a:ext cx="8229600" cy="38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19280" y="205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Unicode MS"/>
              </a:rPr>
              <a:t>La reforma de pensiones ha sido un éxito financiero ind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ivos alcanzan a USD 61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0" y="2185920"/>
          <a:ext cx="45720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85920"/>
                    <a:ext cx="45720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2276640"/>
          <a:ext cx="457200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4572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191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La mitad de los cotizantes no saben bien  cuanto aportan mensualmen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Prácticamente nadie sabe bien cuanto le paga a su AFP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enos de la mitad sabe cuanto tiene acumulado en su fond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aracterística de la demanda: desconocimiento, indiferencia 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79640" y="258480"/>
            <a:ext cx="71294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mprevisión!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Unicode MS"/>
              </a:rPr>
              <a:t>1. Mercado del Trabaj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Desapareció empleo de por vid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&gt; rotación, desempleo  + frecu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Factores del Mercado del trabajo afectan de manera no homogéne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la empleabilidad difiere por educación, ingreso, contactos familiares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trabajadores más pobres están más expuestos a estas incertidumb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+ trabajadores por cuenta propi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requieren ahorros líquidos en caso de necesida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92360" y="194760"/>
            <a:ext cx="69832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92000" y="280080"/>
            <a:ext cx="6994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219640" y="1413000"/>
            <a:ext cx="3924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gano natural de muchos trabajadores a cot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2. Mujeres, un caso especi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Comienzan a trabajar más tarde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Tienen más lagun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Ganan menos para igual calificación, (20%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Se retiran antes (edad legal de jubilación 60 años vs. 65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Viven más (87 vs 8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48360" cy="3024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dos los ahorros, hay que financiar más años de vid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ecuencia: pensiones men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dicciones: la gente vive más…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o se retira 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 se siente mej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69920" y="115560"/>
            <a:ext cx="69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Dos problemas de diseño en competencia y concentració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Inelasticidad de la demand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conomías de escal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típico en el sector financiero, pero aquí exagerado por la necesidad del giro únic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49560" y="1332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Banc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odelo Corbo/Schmidt-Hebb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1" idx="3"/>
            <a:endCxn id="64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3"/>
            <a:endCxn id="68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67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3"/>
            <a:endCxn id="66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4" idx="3"/>
            <a:endCxn id="65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3"/>
            <a:endCxn id="70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7" idx="3"/>
            <a:endCxn id="70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6" idx="3"/>
            <a:endCxn id="70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3"/>
            <a:endCxn id="70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61" idx="3"/>
            <a:endCxn id="63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1" idx="3"/>
            <a:endCxn id="62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9" idx="3"/>
            <a:endCxn id="64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FP Estat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 Unicode MS"/>
              </a:rPr>
              <a:t>2. Regulación a las inversiones compleja y poco flexibl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 de mayor rentabilidad en toda la vida significa más de 20% de mayor pensió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ructura de límites compleja (94 x fondo), induce cierta delegación de responsabilidad en la autorida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 se hubiera permitido optimizar en cada minuto, el fondo global sería más de 10% superio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existe metodología común de medición de riesgo y no conocemos el riesgo de las pension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5661000"/>
            <a:ext cx="69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3. Generar un primer pilar inteligent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GPM a 20 años no es incitati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Topping-up implica un gran impuesto a las contribuciones marginales una vez que se cumplió el requisito de 20 añ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40-50% de la gente no alcanzaría a tener acceso a GPM (algunos nunca habrían tenid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todos los ins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sector financi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 todos los in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692360" y="122760"/>
            <a:ext cx="74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Instrumentos corpo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9:24:17Z</dcterms:created>
  <dc:creator>safp</dc:creator>
  <dc:description/>
  <dc:language>en-US</dc:language>
  <cp:lastModifiedBy>José Inostroza</cp:lastModifiedBy>
  <dcterms:modified xsi:type="dcterms:W3CDTF">2005-08-09T20:36:29Z</dcterms:modified>
  <cp:revision>110</cp:revision>
  <dc:subject/>
  <dc:title>Cobertura, densidad y pensiones en Chile:  Proyecciones a 30 años plazo</dc:title>
</cp:coreProperties>
</file>