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4.wmf" ContentType="image/x-wmf"/>
  <Override PartName="/ppt/media/image27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png" ContentType="image/png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7BAD-EA46-4D75-9606-1E2D452FE92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F6B-7021-4623-A54C-95470998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968-8BDE-4DD6-9ED7-D278E228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8D6-9FA5-4142-B143-62EF218E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0CF-12D3-4D67-856C-057ACC3C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8FA-71B7-4AF9-8925-17431A36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3BE-B8CE-4774-AE30-CA499700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080-1A14-4920-AD96-4C6EF3BB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8F4-C69C-4031-BC6F-1F4EC3AE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0EB-539C-4A6E-82BE-28572577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778-38DE-4E39-87C5-E130FBF1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7B3-5FD8-4083-A118-A232A960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7DC-41EE-42A7-9DAA-6C771141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2B7C-3D1B-491C-88DB-F6D15DE2848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3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stands for Pension Fund Manager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7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61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0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8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250920"/>
            <a:ext cx="8229600" cy="38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91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1" idx="3"/>
            <a:endCxn id="64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3"/>
            <a:endCxn id="68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7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6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4" idx="3"/>
            <a:endCxn id="65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3"/>
            <a:endCxn id="70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7" idx="3"/>
            <a:endCxn id="70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3"/>
            <a:endCxn id="70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3"/>
            <a:endCxn id="70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61" idx="3"/>
            <a:endCxn id="63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1" idx="3"/>
            <a:endCxn id="62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9" idx="3"/>
            <a:endCxn id="64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José Inostroza</cp:lastModifiedBy>
  <dcterms:modified xsi:type="dcterms:W3CDTF">2005-08-09T20:36:29Z</dcterms:modified>
  <cp:revision>110</cp:revision>
  <dc:subject/>
  <dc:title>Cobertura, densidad y pensiones en Chile:  Proyecciones a 30 años plazo</dc:title>
</cp:coreProperties>
</file>