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7126-823B-40CE-925A-FEEC17C8643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985-C4CD-4A55-8D89-E5383A22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548-EDBA-4AA9-BD81-CC443082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06E-C2CD-4D24-BEFD-E8B481AE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89E-9899-47D0-87B5-50521EE4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FDC-75E1-42DD-AE2D-62A66F3E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583-2D23-4709-B551-91AE956D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3C6-FAE2-43DB-B5C4-5CA1676B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8D8-D2C8-4527-BF4B-DAA51D47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B06-438A-4E67-8138-F87DE2D6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79E-0936-4DF3-AD78-0BDA3794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F19-912C-4668-A58F-9375C6A2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122-AEEA-44DB-9E66-13D890C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02C7-F305-4D11-B807-66A2A4FC1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692360" y="1080"/>
            <a:ext cx="745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versificación de activos: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nstrumentos corpora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Los Fondos de Pensiones son los principales inversionistas de letras hipotec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Acceso a la vivienda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fectos de los Fondos de Pensiones en el financiamiento de viviendas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63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observan mayores plazos para créditos hipotecarios y disminución de las tasas de interés de los présta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3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interés rea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 + 1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 + 5,3</a:t>
                      </a: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ás de  20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zo máxim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7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ertificados con respaldo hipotecari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La gran mayoría de los adultos mayores viven en casa prop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pesar de eso, hay problemas de dos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de arra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onos de reconocimiento: calculados sobre una “mala base” porque el desempleo entre 1975 y 1979 fue muy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ño previ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o desempleo en 80s y 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estructurales, endógenos y ex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1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619280" y="402120"/>
            <a:ext cx="74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bertura Prev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5280" y="91800"/>
            <a:ext cx="6851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20108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38080"/>
            <a:ext cx="6889680" cy="228744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Reflexiones sobre el Sistema Previsional Chil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6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6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7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7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45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3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57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66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4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ombres que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jeres que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ombres que </a:t>
            </a: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 aspects of the Chilean pens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il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1: Old age poverty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ory Minimum pension State-guaranteed (20 y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contributory means tested basic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2: Consumption smoothing,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F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(stands for Pension Fund Mana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3: Consumption smoothing,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 Insurance Companies (L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Funds,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jeres que </a:t>
            </a: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87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La mitad de los cotizantes no saben bien  cuanto aportan mensualment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rácticamente nadie sabe bien cuanto le paga a su AFP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1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Menos de la mitad sabe cuanto tiene acumulado en su fond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acterística de la demanda: desconocimiento, indiferencia 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9640" y="197640"/>
            <a:ext cx="712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revisió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1. Mercado del Traba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apareció empleo de por vid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 rotación, desempleo  + frecu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es del Mercado del trabajo afectan de manera no homogéne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leabilidad difiere por educación, ingreso, contactos familia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trabajadores más pobres están más expuestos a estas incertid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+ trabajadores por cuenta propi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eren ahorros líquidos en caso de nece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195120"/>
            <a:ext cx="69832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Problemas exógenos:</a:t>
            </a:r>
            <a:br>
              <a:rPr sz="44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Problemas exógenos:</a:t>
            </a:r>
            <a:br>
              <a:rPr sz="44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219640" y="1413000"/>
            <a:ext cx="392436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gano natural de muchos trabajadores a cot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2. Mujeres, un caso espe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enzan a trabajar más tar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enen más lagun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anan menos para igual calificación, (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tiran antes (edad legal de jubilación 60 años vs. 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ven más (87 vs 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ados los ahorros, hay que financiar más año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cuencia: pensiones men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radicciones: la gente vive má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o se retira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se siente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69920" y="-61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Dos problemas de diseño en competencia y concent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Inelasticidad de la deman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conomías de escal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típico en el sector financiero, pero aquí exagerado por la necesidad del giro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49560" y="1152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280" y="-436320"/>
            <a:ext cx="74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reforma de pensiones ha sido un éxito financiero indu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FP Esta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2. Regulación a las inversiones compleja y poco flex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% de mayor rentabilidad en toda la vida significa más de 20% de mayor pe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uctura de límites compleja (94 x fondo), induce cierta delegación de responsabilidad en la auto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hubiera permitido optimizar en cada minuto, el fondo global sería más de 10% sup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existe metodología común de medición de riesgo y no conocemos el riesgo de las p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669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791320"/>
            <a:ext cx="6913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3. Generar un primer pilar inteli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PM a 20 años no es incit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pping-up implica un gran impuesto a las contribuciones marginales una vez que se cumplió el requisito de 2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-50% de la gente no alcanzaría a tener acceso a GPM (algunos nunca habrían ten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669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1405080"/>
            <a:ext cx="6813720" cy="228744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Reflexiones sobre el Sistema Previsional Chil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 Corbo/Schmidt-He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0" idx="3"/>
            <a:endCxn id="63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1" idx="3"/>
            <a:endCxn id="67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1" idx="3"/>
            <a:endCxn id="66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5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4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6" idx="3"/>
            <a:endCxn id="69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5" idx="3"/>
            <a:endCxn id="69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4" idx="3"/>
            <a:endCxn id="69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60" idx="3"/>
            <a:endCxn id="62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0" idx="3"/>
            <a:endCxn id="61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8" idx="3"/>
            <a:endCxn id="63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908000" y="-411480"/>
            <a:ext cx="716472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reforma de pensiones ha tenido importantes efecto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-411480"/>
            <a:ext cx="716472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reforma de pensiones ha tenido importantes efecto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todos los instr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ector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 todos los intr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20:17:09Z</dcterms:created>
  <dc:creator>José Inostroza</dc:creator>
  <dc:description/>
  <dc:language>en-US</dc:language>
  <cp:lastModifiedBy>José Inostroza</cp:lastModifiedBy>
  <dcterms:modified xsi:type="dcterms:W3CDTF">2005-08-09T20:22:15Z</dcterms:modified>
  <cp:revision>3</cp:revision>
  <dc:subject/>
  <dc:title>Diapositiva 1</dc:title>
</cp:coreProperties>
</file>