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7253-3051-4F44-BA05-E9C798B7007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3" name=""/>
          <p:cNvSpPr/>
          <p:nvPr/>
        </p:nvSpPr>
        <p:spPr>
          <a:xfrm>
            <a:off x="1281600" y="4637160"/>
            <a:ext cx="4618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here have been several prominent financial “crises” in the 1990s.  Mexico’s in 1994-5 m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what’s considered the first major episode.  In 1997, several Asian economies experienced cris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tarting with Thailand.  The Russian one in 1998 was market by a default on government debt (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get back to in this talk); that crisis was followed by the collapse of LTCM.  The latest major cri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occurred in Brazil.  It is worth noting that “crises” have occurred in many other countries in var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egions (Pakistan, Colombia, Ecuador to name a few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F9C8-7C07-484A-973F-C5E338B5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1323-753D-486E-95FF-D315E9D1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4459-A3F9-4E6E-B525-CCFEB419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BB8E-42D1-4AB7-84A3-C1BCBF16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6876-9F26-465A-9BAF-334C6869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C77-80DD-47F7-A71A-794CA10C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177B-C25E-488C-8FF8-E4E64C25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49F9-FF8C-431D-AEC8-14BF5774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198-C311-4153-8824-8B7683B4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236-94B6-495D-9152-03C57B11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106-E243-4435-9A55-38972738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9FC6-A84C-4E78-931B-F86C2788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9F5E-70B2-4DA2-9260-785C80EF9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240" y="1187280"/>
          <a:ext cx="917892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87280"/>
                    <a:ext cx="917892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692360" y="1080"/>
            <a:ext cx="7451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versificación de activos: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Instrumentos corpora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7280" y="419040"/>
            <a:ext cx="7596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</a:rPr>
              <a:t>Los Fondos de Pensiones son los principales inversionistas de letras hipoteca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516640"/>
            <a:ext cx="8569080" cy="108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versión de los Fondos de Pensiones en la ofe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 letras hipoteca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l Banco Estado es de 47%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06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Arial"/>
              </a:rPr>
              <a:t>Acceso a la vivienda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79640" y="6568920"/>
            <a:ext cx="626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Fuente: CEPAL – SERIE financiamiento del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Efectos de los Fondos de Pensiones en el financiamiento de viviendas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632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observan mayores plazos para créditos hipotecarios y disminución de las tasas de interés de los préstam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71640" y="3060720"/>
          <a:ext cx="7489800" cy="2600280"/>
        </p:xfrm>
        <a:graphic>
          <a:graphicData uri="http://schemas.openxmlformats.org/drawingml/2006/table">
            <a:tbl>
              <a:tblPr/>
              <a:tblGrid>
                <a:gridCol w="2590560"/>
                <a:gridCol w="2514600"/>
                <a:gridCol w="2384640"/>
              </a:tblGrid>
              <a:tr h="13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a de interés real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1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F + 13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F + 5,3</a:t>
                      </a: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ás de  20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zo máxim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7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ertificados con respaldo hipotecari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794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Arial"/>
              </a:rPr>
              <a:t>La gran mayoría de los adultos mayores viven en casa prop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4560" y="63025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 pesar de eso, hay problemas de dos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60" y="1687680"/>
            <a:ext cx="38876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blemas de arras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onos de reconocimiento: calculados sobre una “mala base” porque el desempleo entre 1975 y 1979 fue muy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año previ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to desempleo en 80s y 0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blemas estructurales, endógenos y exóg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5292720" cy="5040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84720" y="3571920"/>
            <a:ext cx="50328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732720" y="2637000"/>
            <a:ext cx="1798560" cy="2376360"/>
            <a:chOff x="6732720" y="2637000"/>
            <a:chExt cx="1798560" cy="2376360"/>
          </a:xfrm>
        </p:grpSpPr>
        <p:sp>
          <p:nvSpPr>
            <p:cNvPr id="121" name=""/>
            <p:cNvSpPr/>
            <p:nvPr/>
          </p:nvSpPr>
          <p:spPr>
            <a:xfrm>
              <a:off x="6732720" y="2637000"/>
              <a:ext cx="934920" cy="2376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28000" y="3787920"/>
              <a:ext cx="503280" cy="1152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7840" y="1270080"/>
          <a:ext cx="896616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270080"/>
                    <a:ext cx="896616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619280" y="402120"/>
            <a:ext cx="74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 Narrow"/>
              </a:rPr>
              <a:t>Cobertura previ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784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bertura Previ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35280" y="91800"/>
            <a:ext cx="68515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 Narrow"/>
              </a:rPr>
              <a:t>Distribución de pensionados actua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62240" y="1221840"/>
            <a:ext cx="37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ock de pensiones según monto de pen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22320" y="1558800"/>
          <a:ext cx="7254720" cy="1941480"/>
        </p:xfrm>
        <a:graphic>
          <a:graphicData uri="http://schemas.openxmlformats.org/drawingml/2006/table">
            <a:tbl>
              <a:tblPr/>
              <a:tblGrid>
                <a:gridCol w="2936880"/>
                <a:gridCol w="858960"/>
                <a:gridCol w="680760"/>
                <a:gridCol w="779760"/>
                <a:gridCol w="609480"/>
                <a:gridCol w="758880"/>
                <a:gridCol w="63000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7.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1.1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3.9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4.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.5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45.1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71.9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59.7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9.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033560" y="3715920"/>
            <a:ext cx="573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ujo de pensiones solicitadas durante 2003 según monto de pens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22320" y="4206960"/>
          <a:ext cx="7250040" cy="1941480"/>
        </p:xfrm>
        <a:graphic>
          <a:graphicData uri="http://schemas.openxmlformats.org/drawingml/2006/table">
            <a:tbl>
              <a:tblPr/>
              <a:tblGrid>
                <a:gridCol w="2933640"/>
                <a:gridCol w="858960"/>
                <a:gridCol w="682560"/>
                <a:gridCol w="771480"/>
                <a:gridCol w="617760"/>
                <a:gridCol w="760320"/>
                <a:gridCol w="62532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r>
                        <a:rPr b="0" lang="es-CL" sz="14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.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57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3.3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.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.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3.2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76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.4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900000" y="6165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¿Qué ocurrirá en los próximos 30 añ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66560" y="18900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Arial"/>
              </a:rPr>
              <a:t>Montos de las p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9640" y="3141720"/>
            <a:ext cx="4248000" cy="2879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5789520"/>
            <a:ext cx="2016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201080" cy="29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38080"/>
            <a:ext cx="6889680" cy="228744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Reflexiones sobre el Sistema Previsional Chile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19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03280" y="5364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</a:rPr>
              <a:t>Pensiones para Mayores de 60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</a:rPr>
              <a:t>Pensiones para Mayores de 60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</a:rPr>
              <a:t>Pensiones para Mayores de 70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</a:rPr>
              <a:t>Pensiones para Mayores de 70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5327640" cy="3870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4516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 Narrow"/>
              </a:rPr>
              <a:t>Información desagregada : densidad de cotizaciones es menor a la esper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62520" y="155664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 Narrow"/>
              </a:rPr>
              <a:t>Densidad de Cotizaciones para toda la histori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10960" y="573336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</a:rPr>
              <a:t>Fuente: elaboración propia en base a Historias Previ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116000" y="2852640"/>
            <a:ext cx="3197160" cy="2502000"/>
            <a:chOff x="1116000" y="2852640"/>
            <a:chExt cx="3197160" cy="2502000"/>
          </a:xfrm>
        </p:grpSpPr>
        <p:sp>
          <p:nvSpPr>
            <p:cNvPr id="153" name=""/>
            <p:cNvSpPr/>
            <p:nvPr/>
          </p:nvSpPr>
          <p:spPr>
            <a:xfrm>
              <a:off x="3305160" y="3267000"/>
              <a:ext cx="1008000" cy="20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391400">
              <a:off x="2772720" y="3460320"/>
              <a:ext cx="432000" cy="360360"/>
            </a:xfrm>
            <a:prstGeom prst="rightArrow">
              <a:avLst>
                <a:gd name="adj1" fmla="val 50000"/>
                <a:gd name="adj2" fmla="val 299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16000" y="2852640"/>
              <a:ext cx="194472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Principalmente muje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Kurtosis   1,92 (muestra: 1,5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59640" y="2060640"/>
            <a:ext cx="1297080" cy="3097080"/>
            <a:chOff x="6659640" y="2060640"/>
            <a:chExt cx="1297080" cy="3097080"/>
          </a:xfrm>
        </p:grpSpPr>
        <p:sp>
          <p:nvSpPr>
            <p:cNvPr id="157" name=""/>
            <p:cNvSpPr/>
            <p:nvPr/>
          </p:nvSpPr>
          <p:spPr>
            <a:xfrm>
              <a:off x="6659640" y="2781360"/>
              <a:ext cx="0" cy="237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59640" y="2060640"/>
              <a:ext cx="1297080" cy="576360"/>
            </a:xfrm>
            <a:prstGeom prst="downArrowCallout">
              <a:avLst>
                <a:gd name="adj1" fmla="val 56267"/>
                <a:gd name="adj2" fmla="val 56262"/>
                <a:gd name="adj3" fmla="val 16667"/>
                <a:gd name="adj4" fmla="val 66667"/>
              </a:avLst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04000" y="2060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+/- 3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1241280"/>
            <a:ext cx="8642160" cy="48085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Narrow"/>
              </a:rPr>
              <a:t>Escenario Base - Todos los afili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66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 Narrow"/>
                </a:rPr>
                <a:t>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Narrow"/>
              </a:rPr>
              <a:t>Escenario Alcanzable - Todos los afili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74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 Narrow"/>
                </a:rPr>
                <a:t>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2160" cy="483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12155" t="0" r="12155" b="0"/>
          <a:stretch/>
        </p:blipFill>
        <p:spPr>
          <a:xfrm>
            <a:off x="655560" y="1392120"/>
            <a:ext cx="7777080" cy="53946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Hombres que cumplen el requisito para obtener Pensión Mín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ujeres que cumplen el requisito para obtener Pensión Mín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2392" t="0" r="12405" b="0"/>
          <a:stretch/>
        </p:blipFill>
        <p:spPr>
          <a:xfrm>
            <a:off x="695160" y="1366920"/>
            <a:ext cx="7728120" cy="53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Hombres que </a:t>
            </a:r>
            <a:r>
              <a:rPr b="0" lang="es-CL" sz="40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cumplen el requisito para obtener Pensión Mín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12405" t="0" r="12392" b="0"/>
          <a:stretch/>
        </p:blipFill>
        <p:spPr>
          <a:xfrm>
            <a:off x="611280" y="1268280"/>
            <a:ext cx="7848360" cy="548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97200" y="4392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eneral aspects of the Chilean pens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pilla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llar 1: Old age poverty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ory Minimum pension State-guaranteed (20 y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 contributory means tested basic 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llar 2: Consumption smoothing, mand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F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(stands for Pension Fund Manag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llar 3: Consumption smoothing, volu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 Insurance Companies (L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tual Funds, bro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4920" y="4428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ujeres que </a:t>
            </a:r>
            <a:r>
              <a:rPr b="0" lang="es-CL" sz="40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cumplen el requisito para obtener Pensión Mín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1116000" y="1792440"/>
            <a:ext cx="7792560" cy="5020920"/>
            <a:chOff x="1116000" y="1792440"/>
            <a:chExt cx="7792560" cy="5020920"/>
          </a:xfrm>
        </p:grpSpPr>
        <p:graphicFrame>
          <p:nvGraphicFramePr>
            <p:cNvPr id="187" name=""/>
            <p:cNvGraphicFramePr/>
            <p:nvPr/>
          </p:nvGraphicFramePr>
          <p:xfrm>
            <a:off x="4308120" y="1792440"/>
            <a:ext cx="4203360" cy="1776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8120" y="1792440"/>
                      <a:ext cx="4203360" cy="17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1116000" y="2143080"/>
              <a:ext cx="347004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La mitad de los cotizantes no saben bien  cuanto aportan mensualment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18880" y="38088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Prácticamente nadie sabe bien cuanto le paga a su AFP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1" name=""/>
            <p:cNvGraphicFramePr/>
            <p:nvPr/>
          </p:nvGraphicFramePr>
          <p:xfrm>
            <a:off x="4016160" y="3166200"/>
            <a:ext cx="4892400" cy="3051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16160" y="3166200"/>
                      <a:ext cx="4892400" cy="305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"/>
            <p:cNvSpPr/>
            <p:nvPr/>
          </p:nvSpPr>
          <p:spPr>
            <a:xfrm>
              <a:off x="1471320" y="358560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4" name=""/>
            <p:cNvGraphicFramePr/>
            <p:nvPr/>
          </p:nvGraphicFramePr>
          <p:xfrm>
            <a:off x="4073400" y="5177880"/>
            <a:ext cx="4716000" cy="16354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3400" y="5177880"/>
                      <a:ext cx="4716000" cy="163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"/>
            <p:cNvSpPr/>
            <p:nvPr/>
          </p:nvSpPr>
          <p:spPr>
            <a:xfrm>
              <a:off x="1501560" y="518616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16000" y="52344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Menos de la mitad sabe cuanto tiene acumulado en su fond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387440" y="160200"/>
            <a:ext cx="76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racterística de la demanda: desconocimiento, indiferencia 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79640" y="197640"/>
            <a:ext cx="712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revisión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36960" y="58737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ntique Olive"/>
              </a:rPr>
              <a:t>Fuente: HL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87640" y="5267160"/>
            <a:ext cx="432000" cy="192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5241960"/>
            <a:ext cx="31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ntique Olive"/>
              </a:rPr>
              <a:t>Expectativa de vida según tablas de 198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xógenos 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Arial"/>
              </a:rPr>
              <a:t>1. Mercado del Trabaj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apareció empleo de por vida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 rotación, desempleo  + frecu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actores del Mercado del trabajo afectan de manera no homogénea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leabilidad difiere por educación, ingreso, contactos familia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trabajadores más pobres están más expuestos a estas incertidum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+ trabajadores por cuenta propia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ieren ahorros líquidos en caso de neces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195120"/>
            <a:ext cx="69832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Arial"/>
              </a:rPr>
              <a:t>Problemas exógenos:</a:t>
            </a:r>
            <a:br>
              <a:rPr sz="44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rcado del Traba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Arial"/>
              </a:rPr>
              <a:t>Problemas exógenos:</a:t>
            </a:r>
            <a:br>
              <a:rPr sz="44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rcado del Traba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184720" cy="4249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219640" y="1413000"/>
            <a:ext cx="3924360" cy="53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gano natural de muchos trabajadores a cot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liferación de un mercado formal de trabajadores independientes: requieren de ahorros líquidos mientras que los ahorro de pensión son extremadamente líquido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573408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→ 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Fortalecer Seguro de Cesa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5734080"/>
            <a:ext cx="4248000" cy="72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no obligar, inc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reducir cost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xógenos 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054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2. Mujeres, un caso espe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ienzan a trabajar más tard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enen más lagun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anan menos para igual calificación, (2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tiran antes (edad legal de jubilación 60 años vs. 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ven más (87 vs 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5157720"/>
            <a:ext cx="705672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ile tiene baja tasa de participación femenina. Para que su aumento no sea un “infierno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evaluación del rol masculino en el hog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yuda a la mujer trabajador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lexibilidad de contratos, etc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xógenos 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403200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ados los ahorros, hay que financiar más años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ecuencia: pensiones men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tradicciones: la gente vive má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o se retira 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Y se siente me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284720" y="1700280"/>
          <a:ext cx="4859280" cy="47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00280"/>
                    <a:ext cx="48592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44360" y="5516640"/>
            <a:ext cx="4211640" cy="126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Condiciones laborales en la edad mad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Edad legal de jubi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4880" y="148284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 Narrow"/>
              </a:rPr>
              <a:t>3. Mayores expectativas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969920" y="-6120"/>
            <a:ext cx="699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ndógenos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6680" y="1484280"/>
            <a:ext cx="43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Narrow"/>
              </a:rPr>
              <a:t>1. Competencia y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95280" y="2205000"/>
          <a:ext cx="8064360" cy="404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05000"/>
                    <a:ext cx="8064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0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Dos problemas de diseño en competencia y concentr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Inelasticidad de la demand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xplicada por carácter obligatorio del bien previsional. El mercado de pensiones es artificial, no hay una demanda espontánea (masiva). Por eso, la gente no presta atención a variables relevantes (rentabilidad, precio, riesgo), en particular cuando son jóv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Economías de escal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típico en el sector financiero, pero aquí exagerado por la necesidad del giro ú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42920" y="5424480"/>
            <a:ext cx="7416720" cy="144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gregar demanda vía lici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Sacar economías de esc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Informar a los afil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49560" y="1152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ndógenos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19280" y="-436320"/>
            <a:ext cx="748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reforma de pensiones ha sido un éxito financiero indud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504800"/>
            <a:ext cx="396072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orno promedio en activos : 10,2% r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7920" y="1504800"/>
            <a:ext cx="444024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os alcanzan a USD 61 mil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an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1616040"/>
            <a:ext cx="8136000" cy="457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no se prevé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FP Esta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1616040"/>
            <a:ext cx="8064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políticas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seguridad que da el Estado, pero eso no cambia iliquidez del ahorro previsional, ni el 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333399"/>
                </a:solidFill>
                <a:latin typeface="Arial"/>
              </a:rPr>
              <a:t>2. Regulación a las inversiones compleja y poco flex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% de mayor rentabilidad en toda la vida significa más de 20% de mayor pen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ructura de límites compleja (94 x fondo), induce cierta delegación de responsabilidad en la autor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se hubiera permitido optimizar en cada minuto, el fondo global sería más de 10% sup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existe metodología común de medición de riesgo y no conocemos el riesgo de las pen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79640" y="669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ndógenos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791320"/>
            <a:ext cx="69134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ptimizar el proceso de inversión de los Fo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1700280"/>
            <a:ext cx="828036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3. Generar un primer pilar inteli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PM a 20 años no es incit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opping-up implica un gran impuesto a las contribuciones marginales una vez que se cumplió el requisito de 20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40-50% de la gente no alcanzaría a tener acceso a GPM (algunos nunca habrían teni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79640" y="669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ndógenos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2000" y="4941720"/>
            <a:ext cx="6769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¿Graduación de 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¿Pensión básica univers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87280" y="1405080"/>
            <a:ext cx="6813720" cy="228744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Reflexiones sobre el Sistema Previsional Chile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896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o Corbo/Schmidt-Heb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1440" y="365184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forma de p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28840" y="237996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ercado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3240" y="3980160"/>
            <a:ext cx="182880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sarrollo 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3240" y="5093280"/>
            <a:ext cx="1219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ho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43440" y="5093280"/>
            <a:ext cx="16765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29240" y="4178880"/>
            <a:ext cx="914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86240" y="2913480"/>
            <a:ext cx="167652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mpleo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09920" y="2045160"/>
            <a:ext cx="2362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orm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6360" y="5062680"/>
            <a:ext cx="2133360" cy="10087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inanciamiento público de la tran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00840" y="3416760"/>
            <a:ext cx="2057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0" idx="3"/>
            <a:endCxn id="63" idx="1"/>
          </p:cNvCxnSpPr>
          <p:nvPr/>
        </p:nvCxnSpPr>
        <p:spPr>
          <a:xfrm>
            <a:off x="2023560" y="4003200"/>
            <a:ext cx="1220040" cy="1289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1" idx="3"/>
            <a:endCxn id="67" idx="1"/>
          </p:cNvCxnSpPr>
          <p:nvPr/>
        </p:nvCxnSpPr>
        <p:spPr>
          <a:xfrm flipV="1">
            <a:off x="4080960" y="2244240"/>
            <a:ext cx="229320" cy="48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1" idx="3"/>
            <a:endCxn id="66" idx="1"/>
          </p:cNvCxnSpPr>
          <p:nvPr/>
        </p:nvCxnSpPr>
        <p:spPr>
          <a:xfrm>
            <a:off x="4080960" y="2732040"/>
            <a:ext cx="3056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65" idx="1"/>
          </p:cNvCxnSpPr>
          <p:nvPr/>
        </p:nvCxnSpPr>
        <p:spPr>
          <a:xfrm>
            <a:off x="5072040" y="4332240"/>
            <a:ext cx="457920" cy="46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3"/>
            <a:endCxn id="64" idx="1"/>
          </p:cNvCxnSpPr>
          <p:nvPr/>
        </p:nvCxnSpPr>
        <p:spPr>
          <a:xfrm>
            <a:off x="4462560" y="5292360"/>
            <a:ext cx="381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7" idx="3"/>
            <a:endCxn id="69" idx="1"/>
          </p:cNvCxnSpPr>
          <p:nvPr/>
        </p:nvCxnSpPr>
        <p:spPr>
          <a:xfrm>
            <a:off x="6671880" y="2244600"/>
            <a:ext cx="229320" cy="1372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66" idx="3"/>
            <a:endCxn id="69" idx="1"/>
          </p:cNvCxnSpPr>
          <p:nvPr/>
        </p:nvCxnSpPr>
        <p:spPr>
          <a:xfrm>
            <a:off x="6062760" y="3265560"/>
            <a:ext cx="838800" cy="351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5" idx="3"/>
            <a:endCxn id="69" idx="1"/>
          </p:cNvCxnSpPr>
          <p:nvPr/>
        </p:nvCxnSpPr>
        <p:spPr>
          <a:xfrm flipV="1">
            <a:off x="6443640" y="3615480"/>
            <a:ext cx="45792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64" idx="3"/>
            <a:endCxn id="69" idx="1"/>
          </p:cNvCxnSpPr>
          <p:nvPr/>
        </p:nvCxnSpPr>
        <p:spPr>
          <a:xfrm flipV="1">
            <a:off x="6519960" y="3615480"/>
            <a:ext cx="381600" cy="16772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9" name=""/>
          <p:cNvCxnSpPr>
            <a:stCxn id="60" idx="3"/>
            <a:endCxn id="62" idx="1"/>
          </p:cNvCxnSpPr>
          <p:nvPr/>
        </p:nvCxnSpPr>
        <p:spPr>
          <a:xfrm>
            <a:off x="2023560" y="4003200"/>
            <a:ext cx="1220040" cy="329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60" idx="3"/>
            <a:endCxn id="61" idx="1"/>
          </p:cNvCxnSpPr>
          <p:nvPr/>
        </p:nvCxnSpPr>
        <p:spPr>
          <a:xfrm flipV="1">
            <a:off x="2023560" y="2732040"/>
            <a:ext cx="305640" cy="127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68" idx="3"/>
            <a:endCxn id="63" idx="1"/>
          </p:cNvCxnSpPr>
          <p:nvPr/>
        </p:nvCxnSpPr>
        <p:spPr>
          <a:xfrm flipV="1">
            <a:off x="2709720" y="5292000"/>
            <a:ext cx="534240" cy="27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908000" y="-411480"/>
            <a:ext cx="7164720" cy="21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reforma de pensiones ha tenido importantes efectos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54240" y="4913280"/>
            <a:ext cx="3686400" cy="79236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4240" y="3900600"/>
            <a:ext cx="3686400" cy="88740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39000" y="4535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Fijarse en las causalidad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82520" y="2138400"/>
          <a:ext cx="2855880" cy="35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138400"/>
                    <a:ext cx="285588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263760" y="1646280"/>
          <a:ext cx="5880240" cy="43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3760" y="1646280"/>
                    <a:ext cx="58802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31840" y="5977080"/>
            <a:ext cx="489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: Corbo y Schmidt-Hebbel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8000" y="-411480"/>
            <a:ext cx="7164720" cy="21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reforma de pensiones ha tenido importantes efectos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iversificación de activos: todos los instr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08080" y="1268280"/>
          <a:ext cx="874224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268280"/>
                    <a:ext cx="874224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iversificación de activos: 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ector financ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iversificación de activos:  todos los intr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20:17:09Z</dcterms:created>
  <dc:creator>José Inostroza</dc:creator>
  <dc:description/>
  <dc:language>en-US</dc:language>
  <cp:lastModifiedBy>José Inostroza</cp:lastModifiedBy>
  <dcterms:modified xsi:type="dcterms:W3CDTF">2005-08-09T20:22:15Z</dcterms:modified>
  <cp:revision>3</cp:revision>
  <dc:subject/>
  <dc:title>Diapositiva 1</dc:title>
</cp:coreProperties>
</file>