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2F54-32EA-4E01-ADA2-BE00157AD1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695-2143-4F25-AB19-E1CEEC52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6C0-8759-4B53-A810-1B68CAD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A13-C229-4097-B829-FD6EBA7C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6392-48BE-42F8-95BE-D4191284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C70-97FD-475C-A850-5442F4D7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FD4-1429-4AAD-95BE-9C65975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84F-962A-44B1-9E3F-2CC186A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987-6659-412A-9688-0E22599E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C79-15A5-4652-A688-4BE8938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5EC-BDF2-412F-89F4-FBB2D60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1B6-F2EB-4567-899E-80C6BB2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651-9567-4F3B-ADB3-71471825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EEE2-D414-4F56-8E87-A25862E63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92360" y="1080"/>
            <a:ext cx="74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corpo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Los Fondos de Pensiones son los principales inversionistas de letras hipotec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Acceso a la viviend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fectos de los Fondos de Pensiones en el financiamiento de vivien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bservan mayores plazos para créditos hipotecarios y disminución de las tasas de interés de los prés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 rea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1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5,3</a:t>
                      </a: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ás de  20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o máxim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tificados con respaldo hipotecar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La gran mayoría de los adultos mayores viven en casa pro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pesar de eso, hay problemas de dos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arr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onos de reconocimiento: calculados sobre una “mala base” porque el desempleo entre 1975 y 1979 fue muy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ño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o desempleo en 80s y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estructurales, endógenos y ex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1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19280" y="4021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1800"/>
            <a:ext cx="685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20108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688968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45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3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57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66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4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aspects of the Chilean pen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il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1: Old age povert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ory Minimum pension State-guaranteed (20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ntributory means tested basic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2: Consumption smoothing,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F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stands for Pension Fund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3: Consumption smoothing,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Insurance Companies (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Funds,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87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La mitad de los cotizantes no saben bien  cuanto aportan mensualme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ácticamente nadie sabe bien cuanto le paga a su AFP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Menos de la mitad sabe cuanto tiene acumulado en su fo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 de la demanda: desconocimiento, indiferencia 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640" y="197640"/>
            <a:ext cx="712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revisió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1. Mercado del Traba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pareció empleo de por vid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 rotación, desempleo  + frec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el Mercado del trabajo afectan de manera no homogéne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leabilidad difiere por educación, ingreso, contactos familia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rabajadores más pobres están más expuestos a estas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 trabajadores por cuenta propi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n ahorros líquidos en caso de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9832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219640" y="1413000"/>
            <a:ext cx="3924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gano natural de muchos trabajadores a co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2. Mujeres, un caso e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enzan a trabajar más tar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nen más lagu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nan menos para igual calificación,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tiran antes (edad legal de jubilación 60 años vs.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ven más (87 vs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dos los ahorros, hay que financiar más año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cuencia: pensiones men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adicciones: la gente vive má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 se retir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se siente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69920" y="-61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os problemas de diseño en competencia y concent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elasticidad de la 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conomías de escal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típico en el sector financiero, pero aquí exagerado por la necesidad del gir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9560" y="1152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-4363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reforma de pensiones ha sido un éxito financiero indu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FP Esta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2. Regulación a las inversiones compleja y poco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% de mayor rentabilidad en toda la vida significa más de 20% de mayor p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ímites compleja (94 x fondo), induce cierta delegación de responsabilidad en la aut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hubiera permitido optimizar en cada minuto, el fondo global sería más de 10%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metodología común de medición de riesgo y no conocemos el riesgo de las p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791320"/>
            <a:ext cx="69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3. Generar un primer pilar inteli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PM a 20 años no es inc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pping-up implica un gran impuesto a las contribuciones marginales una vez que se cumplió el requisito de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-50% de la gente no alcanzaría a tener acceso a GPM (algunos nunca habrían ten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1405080"/>
            <a:ext cx="681372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Corbo/Schmidt-He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0" idx="3"/>
            <a:endCxn id="63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67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1" idx="3"/>
            <a:endCxn id="66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5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4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6" idx="3"/>
            <a:endCxn id="69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69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4" idx="3"/>
            <a:endCxn id="69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0" idx="3"/>
            <a:endCxn id="62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0" idx="3"/>
            <a:endCxn id="61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8" idx="3"/>
            <a:endCxn id="63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todos los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ctor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 todos los in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7:09Z</dcterms:created>
  <dc:creator>José Inostroza</dc:creator>
  <dc:description/>
  <dc:language>en-US</dc:language>
  <cp:lastModifiedBy>José Inostroza</cp:lastModifiedBy>
  <dcterms:modified xsi:type="dcterms:W3CDTF">2005-08-09T20:22:15Z</dcterms:modified>
  <cp:revision>3</cp:revision>
  <dc:subject/>
  <dc:title>Diapositiva 1</dc:title>
</cp:coreProperties>
</file>