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2.png" ContentType="image/png"/>
  <Override PartName="/ppt/media/image26.png" ContentType="image/png"/>
  <Override PartName="/ppt/media/image11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F392-C326-446B-9D76-2A29A94214E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2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57E-A26B-49AE-9881-F82F1113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E7A-DD87-4084-96D9-4E7B0118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523-5004-4807-A32B-6E660D6A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258-19AF-4E4F-8D5C-3949AFCA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E68-B2B0-4387-9145-A1198818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FEA-1D04-44C0-BE0D-07F3C962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D62-0B2B-4AD3-BAD6-A4895D36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E39-0510-460B-B252-854FCC17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50560"/>
            <a:ext cx="699444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CE9-9D74-4FEC-ACDF-6EE51174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4F9-CC9B-47AE-A7CF-F0242DE6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712-AD6B-443F-9651-5EA81E01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DE9-1E66-430C-A7F7-E91F0367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0A0A-B3C3-4C53-B9A0-DD7B5C876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130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Los Fondos de Pensiones son los principales inversionistas de letras hipotecari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655640"/>
            <a:ext cx="7848720" cy="3789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4161" r="-2296" b="9847"/>
          <a:stretch/>
        </p:blipFill>
        <p:spPr>
          <a:xfrm>
            <a:off x="1332000" y="1484280"/>
            <a:ext cx="6767280" cy="49910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Acceso a la vivienda en Ch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 Unicode MS"/>
              </a:rPr>
              <a:t>Efectos de los Fondos de Pensiones en el financiamiento de vivienda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15680"/>
            <a:ext cx="7632720" cy="14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 observan mayores plazos para créditos hipotecarios y disminución de las tasas de interés de los préstamo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sa de interés re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8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5,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más de  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zo máxim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7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ertificados con respaldo hipotecar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La gran mayoría de los adultos mayores viven en casa prop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57280" y="1685880"/>
          <a:ext cx="8244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685880"/>
                    <a:ext cx="8244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000" y="250200"/>
            <a:ext cx="6994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 pesar de eso, hay problemas de dos tip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de arrast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onos de reconocimiento: calculados sobre una “mala base” porque el desempleo entre 1975 y 1979 fue muy alt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ño prevision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to desempleo en 80s y 0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estructurales, endógenos y exógen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24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619280" y="4629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52452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5280" y="91440"/>
            <a:ext cx="6851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75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aspects of the Chilean pensi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ultipillar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1: Old age poverty prev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ibutory Minimum pension State-guaranteed (20 y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n contributory means tested basic pen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2: Consumption smoothing, manda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AFP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(stands for Pension Fund Manager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3: Consumption smoothing, volunt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F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fe Insurance Companies (LIC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tual Funds, bro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30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188280"/>
            <a:ext cx="7451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59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63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2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80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25408" t="39603" r="23409" b="16435"/>
          <a:stretch/>
        </p:blipFill>
        <p:spPr>
          <a:xfrm>
            <a:off x="566640" y="1268280"/>
            <a:ext cx="7991640" cy="548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19280" y="205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Unicode MS"/>
              </a:rPr>
              <a:t>La reforma de pensiones ha sido un éxito financiero ind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vos alcanzan a USD 61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0" y="2185920"/>
          <a:ext cx="45720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85920"/>
                    <a:ext cx="45720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2276640"/>
          <a:ext cx="457200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4572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193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La mitad de los cotizantes no saben bien  cuanto aportan mensualmen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Prácticamente nadie sabe bien cuanto le paga a su AFP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enos de la mitad sabe cuanto tiene acumulado en su fond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aracterística de la demanda: desconocimiento, indiferencia 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640" y="258480"/>
            <a:ext cx="71294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revisión!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61800" y="1442880"/>
            <a:ext cx="8420400" cy="3972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57120" y="1452600"/>
            <a:ext cx="8429760" cy="3952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52440" y="1447920"/>
            <a:ext cx="8439120" cy="3962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Unicode MS"/>
              </a:rPr>
              <a:t>1. Mercado del Trabaj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Desapareció empleo de por vid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&gt; rotación, desempleo  + frecu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Factores del Mercado del trabajo afectan de manera no homogéne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la empleabilidad difiere por educación, ingreso, contactos familiares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trabajadores más pobres están más expuestos a estas incertidumb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+ trabajadores por cuenta propi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requieren ahorros líquidos en caso de necesida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92360" y="194760"/>
            <a:ext cx="698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2000" y="280080"/>
            <a:ext cx="6994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219640" y="1413000"/>
            <a:ext cx="39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gano natural de muchos trabajadores a cot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2. Mujeres, un caso especi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Comienzan a trabajar más tarde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Tienen más lagun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Ganan menos para igual calificación, (20%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Se retiran antes (edad legal de jubilación 60 años vs. 6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Viven más (87 vs 8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dos los ahorros, hay que financiar más años de vid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ecuencia: pensiones men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dicciones: la gente vive más…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o se retira 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 se siente mej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969920" y="11556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Dos problemas de diseño en competencia y concentració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Inelasticidad de la demand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conomías de escal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típico en el sector financiero, pero aquí exagerado por la necesidad del giro únic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49560" y="1332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anc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odelo Corbo/Schmidt-Hebb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1" idx="3"/>
            <a:endCxn id="64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3"/>
            <a:endCxn id="68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67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3"/>
            <a:endCxn id="66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4" idx="3"/>
            <a:endCxn id="65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3"/>
            <a:endCxn id="70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7" idx="3"/>
            <a:endCxn id="70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6" idx="3"/>
            <a:endCxn id="70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3"/>
            <a:endCxn id="70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61" idx="3"/>
            <a:endCxn id="63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1" idx="3"/>
            <a:endCxn id="62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9" idx="3"/>
            <a:endCxn id="64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FP Esta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 Unicode MS"/>
              </a:rPr>
              <a:t>2. Regulación a las inversiones compleja y poco flexibl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 de mayor rentabilidad en toda la vida significa más de 20% de mayor pensió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ructura de límites compleja (94 x fondo), induce cierta delegación de responsabilidad en la autorid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 se hubiera permitido optimizar en cada minuto, el fondo global sería más de 10% superio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existe metodología común de medición de riesgo y no conocemos el riesgo de las pension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5661000"/>
            <a:ext cx="69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3. Generar un primer pilar inteligent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GPM a 20 años no es incitati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Topping-up implica un gran impuesto a las contribuciones marginales una vez que se cumplió el requisito de 20 añ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40-50% de la gente no alcanzaría a tener acceso a GPM (algunos nunca habrían tenid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6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todos los ins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sector financi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 todos los in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692360" y="12276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Instrumentos corpo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9:24:17Z</dcterms:created>
  <dc:creator>safp</dc:creator>
  <dc:description/>
  <dc:language>en-US</dc:language>
  <cp:lastModifiedBy>SAFP</cp:lastModifiedBy>
  <dcterms:modified xsi:type="dcterms:W3CDTF">2005-08-05T15:47:18Z</dcterms:modified>
  <cp:revision>109</cp:revision>
  <dc:subject/>
  <dc:title>Cobertura, densidad y pensiones en Chile:  Proyecciones a 30 años plazo</dc:title>
</cp:coreProperties>
</file>