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0360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16120" y="167652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907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0360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16120" y="3826080"/>
            <a:ext cx="24879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880" y="26640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072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072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90720" y="3826080"/>
            <a:ext cx="77277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7652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"/>
          <p:cNvSpPr/>
          <p:nvPr/>
        </p:nvSpPr>
        <p:spPr>
          <a:xfrm>
            <a:off x="685800" y="41148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ESTIÓN FINANCI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042920" y="501336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fesor: Rodrigo La Fu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o de Recuperación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chas veces a las empresas les interesa  conocer el tiempo en que se recupera la inversión. La selección de un proyecto se hace en función de este período de recupe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 = I/B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Acepto proyectos cuyo período de recuperación sea menor a X añ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íodo de Recuperación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sidera el valor del diner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gna igual importancia a todos los fluj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oma en consideración los flujos al momento que se recupera el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 usarlo la empresa debe decidir un tope    que es arbitrario. Problemas en función de la duración del proy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unos autores utilizan el criterio descontando los fluj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tabilidad Con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considera el valor del dinero en el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esta basado en flujos de tesorerí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jo de tesorería y Beneficio contable son dife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 que comparamos la rentabilidad contab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e de Rentabilidad (I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 = BN/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 &gt; 0 acepto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pto el proyecto en que el valor actual es mayor que la inversión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e a la misma decisión que V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rve como mecanismo de decisión cuando los proyectos son excluy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tio Beneficio Cost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lternativamente: I = VAB/V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ntrega un indice de relación que es más difícil como herramienta de decis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quiere de mayores cálcu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o del Valor Actual Neto V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asa Interna de Retorno 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o de recuperación del Ca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UE y CA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zón Beneficio Co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tabilidad Contable (ROI-RO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riterio del Valor Actual Neto V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PN = -I +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FNt)/(1+r)^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P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FNt)/(1+r)^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 = tasa de des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a AT = I + A activo total de la empre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onde I = Ef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 = Otros ac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 del Valor Actual Neto VP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/proyecto    c/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-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ros Activ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yec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V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or empresa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+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+A+VP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royecto lo acepto si la situación con proyecto es mejor que la sin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486400" y="41911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iterio del Valor Actual Neto V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=&gt;  I + A &lt; A + V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=&gt;  -I + VP &g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=&gt;  VPN &gt; 0 Criterio de aceptación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riterio del Valor Actual Neto V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conoce el valor del dinero en el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pende únicamente de los flujos de tesorería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l proyecto y tasa de descu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Monotype Sort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mo son dólares de hoy son sumab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PN (A + B) = VPN (A) + VPN (B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Tasa Interna de Retorno 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corde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PN = -I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FNt)/(1+r)^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VPN &gt;0 acepto el proyec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IR es igual a la tasa r tal que VPN = 0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==&gt; 0 = -I +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(FNt)/(1+TIR)^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asa Interna de Retorno TI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 lo tanto el criterio de la TIR es aceptar el proyecto si TIR &gt; r y esto es equivalente al criterio del VP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133720" y="1980720"/>
            <a:ext cx="0" cy="167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33720" y="36576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06720" y="209880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V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90760" y="362268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2286000"/>
            <a:ext cx="2286000" cy="1752480"/>
          </a:xfrm>
          <a:custGeom>
            <a:avLst/>
            <a:gdLst/>
            <a:ahLst/>
            <a:rect l="l" t="t" r="r" b="b"/>
            <a:pathLst>
              <a:path w="1440" h="1104">
                <a:moveTo>
                  <a:pt x="0" y="0"/>
                </a:moveTo>
                <a:cubicBezTo>
                  <a:pt x="120" y="292"/>
                  <a:pt x="240" y="584"/>
                  <a:pt x="480" y="768"/>
                </a:cubicBezTo>
                <a:cubicBezTo>
                  <a:pt x="720" y="952"/>
                  <a:pt x="1080" y="1028"/>
                  <a:pt x="1440" y="1104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Tasa Interna de Retorno T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TIR depende de los flujos y por lo tanto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R &gt; r ==&gt; VPN &gt;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R múltiples cuando hay más de un cambio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sig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R no exi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ando comparamos TIR nos puede llevar 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as decisiones TIR1 &gt; TIR2 ==&gt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PN1&gt;VPN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ERIOS DE SELECCIÓN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INVER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24T15:19:40Z</dcterms:created>
  <dc:creator>Eduardo Contreras Villablanca</dc:creator>
  <dc:description/>
  <dc:language>en-US</dc:language>
  <cp:lastModifiedBy>cl144313585</cp:lastModifiedBy>
  <cp:lastPrinted>2000-08-10T13:24:25Z</cp:lastPrinted>
  <dcterms:modified xsi:type="dcterms:W3CDTF">2005-08-16T15:27:04Z</dcterms:modified>
  <cp:revision>20</cp:revision>
  <dc:subject>Planificación financiera</dc:subject>
  <dc:title>PLANIFICACION FINANCIERA</dc:title>
</cp:coreProperties>
</file>