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42920" y="501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: Rodrigo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15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=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4840" y="57564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=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1360" y="5334120"/>
            <a:ext cx="177840" cy="30456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6" y="192"/>
                </a:moveTo>
                <a:cubicBezTo>
                  <a:pt x="8" y="136"/>
                  <a:pt x="0" y="80"/>
                  <a:pt x="16" y="48"/>
                </a:cubicBezTo>
                <a:cubicBezTo>
                  <a:pt x="32" y="16"/>
                  <a:pt x="96" y="8"/>
                  <a:pt x="11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81480" y="51811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70920" y="49179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mercado de capitales permite transferencias de riqueza a través de tiemp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l mercado de capitales es un mercado en que la gente intercambia dólares presentes por dólares futu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representa la tasa de preferencia intertemporal del comsumo, tasa a la cual las personas intercambian consumo de hoy para maña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Máxima riqueza en t=0 (Wo) es el valor presente de las posibilidades de consu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Wo = Do + D1/(1+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Máxima riqueza en t=1 (W1) es el valor futuro de las posibilidades de consu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W1 = (1+r)Do + D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Notar  que Wo * (1+r) = W1 =&gt; Wo = W1/(1+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308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3440" y="575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35268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95680" y="4876920"/>
            <a:ext cx="0" cy="76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487692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92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8800" y="476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048120"/>
            <a:ext cx="3124080" cy="213336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9160" y="35812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 - Do = Deuda 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308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3440" y="575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3200400"/>
            <a:ext cx="297180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2920" y="5715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38080" y="3013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51460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29000" y="403812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38280" y="4038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976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8800" y="380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274320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8440" y="35812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 - Co = Depósito e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2: Co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NCEPT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mercado de capitales no crea riqueza, sólo transforma en el ti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 lo largo de la curva Wo W1 la riqueza es la mis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 tasa de interés en una sola, para prestar o pedir prest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unto en la recta de presupuesto depende de las preferencias de las personas (Curva de utilidad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mercado de capitales permite intercambiar fondos para realizar inver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uesto: Inversión tiene rendimiento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438280" y="228564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6280" y="2209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971800"/>
            <a:ext cx="2743200" cy="26668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19720" y="3429000"/>
            <a:ext cx="0" cy="2209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429000"/>
            <a:ext cx="1981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3123720"/>
            <a:ext cx="0" cy="2514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37920" y="312408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76920" y="3962520"/>
            <a:ext cx="0" cy="16761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38280" y="3962520"/>
            <a:ext cx="2438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2880" y="569916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200" y="44798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72160" y="571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20080" y="5715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6200" y="3048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6200" y="35053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828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638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5680" y="6095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628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429000"/>
            <a:ext cx="2514600" cy="22096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437920" y="426708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5000" y="5638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124080" y="4647960"/>
            <a:ext cx="0" cy="990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37920" y="464832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2160" y="4419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20600" y="5638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438280" y="2819160"/>
            <a:ext cx="51818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343400" y="3886200"/>
            <a:ext cx="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38280" y="388620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43520" y="5715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65520" y="36576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74240" y="563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38280" y="21337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638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5680" y="60958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26280" y="19810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429000"/>
            <a:ext cx="2514600" cy="220968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0" y="0"/>
                </a:moveTo>
                <a:cubicBezTo>
                  <a:pt x="552" y="52"/>
                  <a:pt x="1104" y="104"/>
                  <a:pt x="1392" y="384"/>
                </a:cubicBezTo>
                <a:cubicBezTo>
                  <a:pt x="1680" y="664"/>
                  <a:pt x="1704" y="1172"/>
                  <a:pt x="1728" y="168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437920" y="4267080"/>
            <a:ext cx="25146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5000" y="5638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840" y="40384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124080" y="4647960"/>
            <a:ext cx="0" cy="990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37920" y="464832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2160" y="4419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0600" y="56386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438280" y="2819160"/>
            <a:ext cx="518184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343400" y="3886200"/>
            <a:ext cx="0" cy="175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8280" y="3886200"/>
            <a:ext cx="1905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3520" y="5715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65520" y="36576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74240" y="56386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809880"/>
            <a:ext cx="2590920" cy="152424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2133720"/>
            <a:ext cx="2895480" cy="167616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 = K*o + K*1/(1+r) = W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 de la Inver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 = K*1/(1+r) = WI - K*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alor Presente Neto de la Inver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just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N = -Io + K*1/(1+r) = WI - W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empresas invierten en distintos activos re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s pueden ser de diferentes tip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tangibles o físicos (maquinaria, edific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intangibles (contratos de gestión, Pate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financieros (acciones, bon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 de la decisión de inversión es encontrar activos cuyo valor supere su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 lo anterior surge la necesidad de valorar adecuadament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xiste un buen mercado para un activo el valor será exactamente su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DECISIÓN ÓPTIMA DE INVER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Inversión Óptima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VPN = -Io + K*1/(1+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K*1 = f(Io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VPN = -Io + f(Io)/(1+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VPN/dIo = -1 + f ‘(Io)/(1+r) = 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f ‘(Io) = (1+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ntabilidad Marginal de la inversión es igual a la tasa de interés (hasta aquí invierto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Las decisiones de inversión son independientes de las decisiones de consumo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TEOREMA DE SEPARABILIDAD DE FIS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Decsiones de inversión se pueden separar de las decisiones de consum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versión óptima es independiente de las preferencias y de la riqueza de los inversionist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Lo anterior implica que las decisiones de inversión son delegab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Regla de oro para decidir una inversión es aquella que maximiza el VA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l calculo del VAN debe hacerse con la tasa a la cual se puede ahorrar y pedir prest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jo que el mundo real las tasas difieren y por lo tanto lo relevante es el costo de oportunida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ongamos invierto hoy $ 350.000 y que esa inversión al cabo de un año la podré vender en $ 400.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pregunta a  resolver es si esos $ 400.000 dentro de u año es mayor que los $ 350.000 que he invertido ho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 PRINCIPIO FINANCI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dólar hoy vale más que un dólar mañana bajo la premisa de que hoy puedo invertir ese dólar para generar interes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cuerdo a lo anterior los $ 400.000 dentro de un año son menos de $ 400.000 h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VALOR PRESENTE = FD * VALOR FUTU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= 1 / (1 + r) (Factor de Descuent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es menor que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FD = Tasa de rentabi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rentabilidad exigida por el inversionista por un pago aplaz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Valor Presente = Valor Futuro actualizado por la tas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de rentabilidad exigi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Tasa de descu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Tasa míni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 del ca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: Rentabilidad a la que se renuncia al invertir en un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SEGUNDO PRINCIPIO FINANCIER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 dólar seguro vale más que uno con riesg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todas las inversiones tienen el mismo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os del tes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ción de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ación de un pozo de petró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incipio a mayor riesgo mayor es la rentabilidad exigida y por lo tanto baja el precio o valor de un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blema del principio anterior es que asume que los flujos futuros son cierto lo cual no es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ás adelante se discutirá el problema del riesgo y como éste afecta el valor d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 DE OPORTUNIDAD DEL CAPI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 UN PROYECTO DE INVERSIÓN ES LA TASA ESPERADA DE RENTABILIDAD DEMANDADA POR LOS INVERSIONISTAS EN ACTIVOS SUJETOS AL MISMO RIESG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1160" y="228240"/>
            <a:ext cx="678168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ENTES HABITUALES DE CONFU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nociendo variación en los flujos se descuenta a la tasa libre de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umir que la tasa de descuento es equivalente a la tasa a la cual puedo endeudar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OS DEL V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ELECCIÓN INTERTEMPORAL DEL CONSUM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so 1: Sin Acceso al mercado de capi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56386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62000" y="575640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0680" y="2631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í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2895480"/>
            <a:ext cx="3124080" cy="2133720"/>
          </a:xfrm>
          <a:custGeom>
            <a:avLst/>
            <a:gdLst/>
            <a:ahLst/>
            <a:rect l="l" t="t" r="r" b="b"/>
            <a:pathLst>
              <a:path w="1968" h="1344">
                <a:moveTo>
                  <a:pt x="0" y="0"/>
                </a:moveTo>
                <a:cubicBezTo>
                  <a:pt x="172" y="392"/>
                  <a:pt x="344" y="784"/>
                  <a:pt x="672" y="1008"/>
                </a:cubicBezTo>
                <a:cubicBezTo>
                  <a:pt x="1000" y="1232"/>
                  <a:pt x="1752" y="1288"/>
                  <a:pt x="1968" y="13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4419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5280" y="4156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=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840" y="57564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=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4884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1720" y="3394080"/>
            <a:ext cx="20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(Co,C1) = 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cl144313585</cp:lastModifiedBy>
  <cp:lastPrinted>2000-08-10T13:24:25Z</cp:lastPrinted>
  <dcterms:modified xsi:type="dcterms:W3CDTF">2005-08-09T14:29:27Z</dcterms:modified>
  <cp:revision>19</cp:revision>
  <dc:subject>Planificación financiera</dc:subject>
  <dc:title>PLANIFICACION FINANCIERA</dc:title>
</cp:coreProperties>
</file>