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382608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5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0360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612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0360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612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797544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685800" y="41148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ESTIÓN FINANCI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042920" y="501336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fesor: Rodrigo La Fu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7120" y="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MATEMATICAS FINANCIER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nualidades si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89280" y="4537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09360" y="4754520"/>
            <a:ext cx="296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= F (1/(1+i)^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890720" y="2286000"/>
            <a:ext cx="3017160" cy="1983600"/>
            <a:chOff x="1890720" y="2286000"/>
            <a:chExt cx="3017160" cy="1983600"/>
          </a:xfrm>
        </p:grpSpPr>
        <p:sp>
          <p:nvSpPr>
            <p:cNvPr id="47" name=""/>
            <p:cNvSpPr/>
            <p:nvPr/>
          </p:nvSpPr>
          <p:spPr>
            <a:xfrm>
              <a:off x="1981080" y="315900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981080" y="24728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31590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119680" y="2286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5796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90720" y="335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0532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1752480" y="4648320"/>
            <a:ext cx="312444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ualidades  con cuotas igu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65760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523880" y="23623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57560" y="3774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48520" y="316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86160" y="2098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48640" y="438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256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6952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4132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81960" y="5054760"/>
            <a:ext cx="51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 = A * [{(1+i)^n-1}/{i*(1+i)^n}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4920" y="5805360"/>
            <a:ext cx="51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= P * [{i*(1+i)^n}/{(1+i)^n-1}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4952880"/>
            <a:ext cx="5257800" cy="152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6172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146720" y="5603760"/>
            <a:ext cx="195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 de R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1257120" y="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MATEMATICAS FINANCIER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ualidad de Gradiente uniforme (aumento unifor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338760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523880" y="20923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338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3387600"/>
            <a:ext cx="0" cy="87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3387600"/>
            <a:ext cx="0" cy="118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3387600"/>
            <a:ext cx="0" cy="164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5756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485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86160" y="1828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48640" y="411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02920" y="43434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69880" y="45720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2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40960" y="502920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(n-1)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6040" y="5729400"/>
            <a:ext cx="84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 = (A+G/i) * [{(1+i)^n-1}/{i*(1+i)^n}]-[G/i*n/(1+i)^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5638680"/>
            <a:ext cx="838188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257120" y="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MATEMATICAS FINANCIER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ualidad de crecimiento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338760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523880" y="20923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62320" y="338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3387600"/>
            <a:ext cx="0" cy="87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3387600"/>
            <a:ext cx="0" cy="118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3387600"/>
            <a:ext cx="0" cy="164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5756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485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86160" y="1828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48640" y="411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1840" y="4343400"/>
            <a:ext cx="10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(1+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68440" y="457200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(1+g)^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39880" y="502920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(1+g)^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67120" y="5729400"/>
            <a:ext cx="50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 = A * [(1+g)^n/(1+i)^n-1]/(g-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5638680"/>
            <a:ext cx="510552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257120" y="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MATEMATICAS FINANCIER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petu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365760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523880" y="23623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1520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57560" y="3774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86160" y="2098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48640" y="438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256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6952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4132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92680" y="505476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 = A /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05280" y="5805360"/>
            <a:ext cx="14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= P *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4952880"/>
            <a:ext cx="2133360" cy="152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553080" y="3429000"/>
            <a:ext cx="763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705360" y="3429000"/>
            <a:ext cx="759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5538600">
            <a:off x="7147080" y="3163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257120" y="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MATEMATICAS FINANCIER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ualidad de crecimiento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338760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523880" y="20923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338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3387600"/>
            <a:ext cx="0" cy="87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3387600"/>
            <a:ext cx="0" cy="118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15200" y="3387600"/>
            <a:ext cx="0" cy="164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5756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15000">
            <a:off x="7147080" y="289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86160" y="1828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48640" y="411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1840" y="4343400"/>
            <a:ext cx="10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(1+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68440" y="457200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(1+g)^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39880" y="502920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(1+g)^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49520" y="5729400"/>
            <a:ext cx="194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 = A / (i-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5638680"/>
            <a:ext cx="2361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486040" y="320040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638320" y="320040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257120" y="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MATEMATICAS FINANCIER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4T15:19:40Z</dcterms:created>
  <dc:creator>Eduardo Contreras Villablanca</dc:creator>
  <dc:description/>
  <dc:language>en-US</dc:language>
  <cp:lastModifiedBy>cl144313585</cp:lastModifiedBy>
  <cp:lastPrinted>1997-04-16T17:24:08Z</cp:lastPrinted>
  <dcterms:modified xsi:type="dcterms:W3CDTF">2005-08-02T15:12:54Z</dcterms:modified>
  <cp:revision>11</cp:revision>
  <dc:subject>Planificación financiera</dc:subject>
  <dc:title>PLANIFICACION FINANCIERA</dc:title>
</cp:coreProperties>
</file>