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990720" y="167652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9907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60360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2161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9907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60360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2161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66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8000"/>
          </a:xfrm>
          <a:prstGeom prst="rect">
            <a:avLst/>
          </a:prstGeom>
          <a:ln w="0">
            <a:noFill/>
          </a:ln>
        </p:spPr>
      </p:pic>
      <p:sp>
        <p:nvSpPr>
          <p:cNvPr id="40" name=""/>
          <p:cNvSpPr/>
          <p:nvPr/>
        </p:nvSpPr>
        <p:spPr>
          <a:xfrm>
            <a:off x="685800" y="41148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ÓN FINANCIERA</a:t>
            </a:r>
            <a:endParaRPr b="0" lang="en-US" sz="4000" spc="-1" strike="noStrike">
              <a:solidFill>
                <a:srgbClr val="000000"/>
              </a:solidFill>
              <a:latin typeface="Times New Roman"/>
            </a:endParaRPr>
          </a:p>
        </p:txBody>
      </p:sp>
      <p:sp>
        <p:nvSpPr>
          <p:cNvPr id="41" name=""/>
          <p:cNvSpPr/>
          <p:nvPr/>
        </p:nvSpPr>
        <p:spPr>
          <a:xfrm>
            <a:off x="1042920" y="5013360"/>
            <a:ext cx="698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or: Rodrigo La Fu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sideraciones</a:t>
            </a:r>
            <a:endParaRPr b="0" lang="en-US" sz="3200" spc="-1" strike="noStrike">
              <a:solidFill>
                <a:srgbClr val="000000"/>
              </a:solidFill>
              <a:latin typeface="Times New Roman"/>
            </a:endParaRPr>
          </a:p>
          <a:p>
            <a:pPr lvl="1" marL="735480" indent="-28296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La diferencia en el corto plazo es muy poca por lo que existe la convención que en el corto plazo (menos de un año) se utiliza la tasa de interés simple.</a:t>
            </a:r>
            <a:endParaRPr b="0" lang="en-US" sz="2200" spc="-1" strike="noStrike">
              <a:solidFill>
                <a:srgbClr val="000000"/>
              </a:solidFill>
              <a:latin typeface="Times New Roman"/>
            </a:endParaRPr>
          </a:p>
          <a:p>
            <a:pPr lvl="1" marL="735480" indent="-28296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n el largo plazo ya vimos que las diferencias son grandes por lo que existe la convención de utilizar la tasa de interés compuesto.</a:t>
            </a:r>
            <a:endParaRPr b="0" lang="en-US" sz="2200" spc="-1" strike="noStrike">
              <a:solidFill>
                <a:srgbClr val="000000"/>
              </a:solidFill>
              <a:latin typeface="Times New Roman"/>
            </a:endParaRPr>
          </a:p>
          <a:p>
            <a:pPr lvl="1" marL="735480" indent="-28296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Continuo </a:t>
            </a:r>
            <a:endParaRPr b="0" lang="en-US" sz="2200" spc="-1" strike="noStrike">
              <a:solidFill>
                <a:srgbClr val="000000"/>
              </a:solidFill>
              <a:latin typeface="Times New Roman"/>
            </a:endParaRPr>
          </a:p>
          <a:p>
            <a:pPr lvl="2" marL="1131480" indent="-22608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os mismos conceptos anteriores los utilizamos pero esta vez se asume que la acumulación de intereses es continua en el tiempo obtenemos:</a:t>
            </a:r>
            <a:endParaRPr b="0" lang="en-US" sz="2000" spc="-1" strike="noStrike">
              <a:solidFill>
                <a:srgbClr val="000000"/>
              </a:solidFill>
              <a:latin typeface="Times New Roman"/>
            </a:endParaRPr>
          </a:p>
          <a:p>
            <a:pPr lvl="2" marL="113148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2036520" indent="-226080" algn="just">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 = Po * EXP ( r * n)</a:t>
            </a:r>
            <a:endParaRPr b="0" lang="en-US" sz="1800" spc="-1" strike="noStrike">
              <a:solidFill>
                <a:srgbClr val="000000"/>
              </a:solidFill>
              <a:latin typeface="Times New Roman"/>
            </a:endParaRPr>
          </a:p>
        </p:txBody>
      </p:sp>
      <p:sp>
        <p:nvSpPr>
          <p:cNvPr id="80"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nominal v/s Tasa efectiva</a:t>
            </a:r>
            <a:endParaRPr b="0" lang="en-US" sz="3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rmalmente cuando se invierte o se pide prestado lo habitual es que se entregue el valor de una tasa anual.</a:t>
            </a:r>
            <a:endParaRPr b="0" lang="en-US" sz="2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ando una inversión acumula interés más de una vez al año la tasa que se obtiene al final del año es un poco mayor que la tasa que informa el banco. (Tasa efectiva)</a:t>
            </a:r>
            <a:endParaRPr b="0" lang="en-US" sz="2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r ejemplo si tenemos una tasa nominal es del 8% y acumula interés cada 6 meses e invierto $ 100.</a:t>
            </a:r>
            <a:endParaRPr b="0" lang="en-US" sz="2200" spc="-1" strike="noStrike">
              <a:solidFill>
                <a:srgbClr val="000000"/>
              </a:solidFill>
              <a:latin typeface="Times New Roman"/>
            </a:endParaRPr>
          </a:p>
          <a:p>
            <a:pPr lvl="2" marL="1119960" indent="-22392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 cabo de seis meses obtengo:</a:t>
            </a:r>
            <a:endParaRPr b="0" lang="en-US" sz="2000" spc="-1" strike="noStrike">
              <a:solidFill>
                <a:srgbClr val="000000"/>
              </a:solidFill>
              <a:latin typeface="Times New Roman"/>
            </a:endParaRPr>
          </a:p>
          <a:p>
            <a:pPr lvl="3" marL="1568160" indent="-22392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 ( 1 + 8%/2) = 104</a:t>
            </a:r>
            <a:endParaRPr b="0" lang="en-US" sz="1800" spc="-1" strike="noStrike">
              <a:solidFill>
                <a:srgbClr val="000000"/>
              </a:solidFill>
              <a:latin typeface="Times New Roman"/>
            </a:endParaRPr>
          </a:p>
          <a:p>
            <a:pPr lvl="2" marL="1119960" indent="-22392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 final del año se obtiene</a:t>
            </a:r>
            <a:endParaRPr b="0" lang="en-US" sz="2000" spc="-1" strike="noStrike">
              <a:solidFill>
                <a:srgbClr val="000000"/>
              </a:solidFill>
              <a:latin typeface="Times New Roman"/>
            </a:endParaRPr>
          </a:p>
          <a:p>
            <a:pPr lvl="3" marL="1568160" indent="-22392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4 * (1 + 8%/2) = 108.16</a:t>
            </a:r>
            <a:endParaRPr b="0" lang="en-US" sz="1800" spc="-1" strike="noStrike">
              <a:solidFill>
                <a:srgbClr val="000000"/>
              </a:solidFill>
              <a:latin typeface="Times New Roman"/>
            </a:endParaRPr>
          </a:p>
          <a:p>
            <a:pPr lvl="2" marL="1119960" indent="-22392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 lo tanto la tasa efectiva es de 8,16%.</a:t>
            </a:r>
            <a:endParaRPr b="0" lang="en-US" sz="2000" spc="-1" strike="noStrike">
              <a:solidFill>
                <a:srgbClr val="000000"/>
              </a:solidFill>
              <a:latin typeface="Times New Roman"/>
            </a:endParaRPr>
          </a:p>
          <a:p>
            <a:pPr lvl="2" marL="111996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flación</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La inflación es el aumento sostenido y generalizado del nivel de preci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Que las papas suban un 10% significa necesariamente que hubo inflación?</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r lo tanto la variación del IPC no significa que todos los bienes y servicios de esta canasta varíe en el mismo porcentaje.</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r otro lado el IPC no es el precio de la canasta. </a:t>
            </a:r>
            <a:endParaRPr b="0" lang="en-US" sz="2200" spc="-1" strike="noStrike">
              <a:solidFill>
                <a:srgbClr val="000000"/>
              </a:solidFill>
              <a:latin typeface="Times New Roman"/>
            </a:endParaRPr>
          </a:p>
        </p:txBody>
      </p:sp>
      <p:sp>
        <p:nvSpPr>
          <p:cNvPr id="84"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flación y poder adquisitivo del dinero</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Si existe inflación los pesos de hoy no comprarán las mismas cosas que en un año más.</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1000/ Po = Cantidad física = Xo</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1000/P1 = Cantidad física = X1</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057400" indent="-228600" algn="just">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Xo &gt; X1</a:t>
            </a:r>
            <a:endParaRPr b="0" lang="en-US" sz="1800" spc="-1" strike="noStrike">
              <a:solidFill>
                <a:srgbClr val="000000"/>
              </a:solidFill>
              <a:latin typeface="Times New Roman"/>
            </a:endParaRPr>
          </a:p>
          <a:p>
            <a:pPr lvl="4" marL="205740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sos $ 1000 nominalmente son iguales, en términos reales no lo son. No tienen el mismo poder adquisitivo</a:t>
            </a:r>
            <a:endParaRPr b="0" lang="en-US" sz="2200" spc="-1" strike="noStrike">
              <a:solidFill>
                <a:srgbClr val="000000"/>
              </a:solidFill>
              <a:latin typeface="Times New Roman"/>
            </a:endParaRPr>
          </a:p>
        </p:txBody>
      </p:sp>
      <p:sp>
        <p:nvSpPr>
          <p:cNvPr id="86"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lujos reales vs Flujos Nominales</a:t>
            </a:r>
            <a:endParaRPr b="0" lang="en-US" sz="3200" spc="-1" strike="noStrike">
              <a:solidFill>
                <a:srgbClr val="000000"/>
              </a:solidFill>
              <a:latin typeface="Times New Roman"/>
            </a:endParaRPr>
          </a:p>
          <a:p>
            <a:pPr lvl="1" marL="720720" indent="-277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s importante considerar la inflación cuando deseamos comparar flujos de dinero.</a:t>
            </a:r>
            <a:endParaRPr b="0" lang="en-US" sz="2200" spc="-1" strike="noStrike">
              <a:solidFill>
                <a:srgbClr val="000000"/>
              </a:solidFill>
              <a:latin typeface="Times New Roman"/>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20720" indent="-277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r ejemplo $ 1000 en diciembre de 1990 representaban más poder adquisitivo que $ 1500 en diciembre de 1997, si el IPC de diciembre de 1990 era 120 y el de diciembre de 1997 de 192.</a:t>
            </a:r>
            <a:endParaRPr b="0" lang="en-US" sz="2200" spc="-1" strike="noStrike">
              <a:solidFill>
                <a:srgbClr val="000000"/>
              </a:solidFill>
              <a:latin typeface="Times New Roman"/>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20720" indent="-277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Así para comparar dos flujos en dinero de diferente poder adquisitivo es necesario ajustar la moneda para llevarla al mismo poder adquisitivo. A este ajuste se llama comparar en “moneda homogénea” o en “moneda dura”</a:t>
            </a:r>
            <a:endParaRPr b="0" lang="en-US" sz="2200" spc="-1" strike="noStrike">
              <a:solidFill>
                <a:srgbClr val="000000"/>
              </a:solidFill>
              <a:latin typeface="Times New Roman"/>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de interés real</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ejemplo clásico es el de las tasas en UF + X% o tasas reflejadas como IPC + X%.</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o significa que al cabo de una año el dinero debiera tener el mismo poder adquisitivo que el dinero que invertí.</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0"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de interés nominal</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a tasa de interés nominal es aquella que denota un crecimiento en el monto de dinero, sin ajustar por inflación. Así la tasa de interés nominal no necesariamente significa un incremento en el poder adquisitivo</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ejemplo típico son los depósitos a 30 días de los bancos o los créditos en pesos.</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 uno toma una deuda por $ 1000 al 15% de interés anual en una año debiera recibir $ 1.150 Significa esto que estoy pagando más riqueza al cabo de un año?</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2"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de interés real v/s nominal</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Así surge la teoría de Fisher: “ Un cambio en la tasa esperada de inflación da lugar al mismo cambio en la tasa de interés nominal”</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r lo cual se obtiene la siguiente ecuacíon:</a:t>
            </a:r>
            <a:endParaRPr b="0" lang="en-US" sz="2200" spc="-1" strike="noStrike">
              <a:solidFill>
                <a:srgbClr val="000000"/>
              </a:solidFill>
              <a:latin typeface="Times New Roman"/>
            </a:endParaRPr>
          </a:p>
          <a:p>
            <a:pPr lvl="3" marL="1600200" indent="-22860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 + i) = (1 + r) * (1 + Inflación)</a:t>
            </a:r>
            <a:endParaRPr b="0" lang="en-US" sz="1800" spc="-1" strike="noStrike">
              <a:solidFill>
                <a:srgbClr val="000000"/>
              </a:solidFill>
              <a:latin typeface="Times New Roman"/>
            </a:endParaRPr>
          </a:p>
          <a:p>
            <a:pPr lvl="3" marL="1600200" indent="-22860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onde: i = tasa de interés nominal</a:t>
            </a:r>
            <a:endParaRPr b="0" lang="en-US" sz="1800" spc="-1" strike="noStrike">
              <a:solidFill>
                <a:srgbClr val="000000"/>
              </a:solidFill>
              <a:latin typeface="Times New Roman"/>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 = tasa de interés real</a:t>
            </a:r>
            <a:endParaRPr b="0" lang="en-US" sz="18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s equivalentes</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simple</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3" marL="1600200" indent="-22860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 = n * i1</a:t>
            </a:r>
            <a:endParaRPr b="0" lang="en-US" sz="1800" spc="-1" strike="noStrike">
              <a:solidFill>
                <a:srgbClr val="000000"/>
              </a:solidFill>
              <a:latin typeface="Times New Roman"/>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Compuesto</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3" marL="1600200" indent="-22860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1 + i ) = ( 1 + ieq ) ^ n</a:t>
            </a:r>
            <a:endParaRPr b="0" lang="en-US" sz="1800" spc="-1" strike="noStrike">
              <a:solidFill>
                <a:srgbClr val="000000"/>
              </a:solidFill>
              <a:latin typeface="Times New Roman"/>
            </a:endParaRPr>
          </a:p>
        </p:txBody>
      </p:sp>
      <p:sp>
        <p:nvSpPr>
          <p:cNvPr id="96"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
        <p:nvSpPr>
          <p:cNvPr id="43"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Perfil de una inversión y Perfil de un Crédito.</a:t>
            </a:r>
            <a:endParaRPr b="0" lang="en-US" sz="3200" spc="-1" strike="noStrike">
              <a:solidFill>
                <a:srgbClr val="000000"/>
              </a:solidFill>
              <a:latin typeface="Times New Roman"/>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Tipos de interés (Simple y compuesto)</a:t>
            </a:r>
            <a:endParaRPr b="0" lang="en-US" sz="3200" spc="-1" strike="noStrike">
              <a:solidFill>
                <a:srgbClr val="000000"/>
              </a:solidFill>
              <a:latin typeface="Times New Roman"/>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Tasa nominal y efectiva</a:t>
            </a:r>
            <a:endParaRPr b="0" lang="en-US" sz="3200" spc="-1" strike="noStrike">
              <a:solidFill>
                <a:srgbClr val="000000"/>
              </a:solidFill>
              <a:latin typeface="Times New Roman"/>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Igualdad de Fisher y el efecto de la inflación</a:t>
            </a:r>
            <a:endParaRPr b="0" lang="en-US" sz="3200" spc="-1" strike="noStrike">
              <a:solidFill>
                <a:srgbClr val="000000"/>
              </a:solidFill>
              <a:latin typeface="Times New Roman"/>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5.Tasas equivalente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Perfil de un crédit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édito: Significa obtener un flujo de dinero hoy, que será pagado en cuotas en el futur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acterísticas:</a:t>
            </a:r>
            <a:endParaRPr b="0" lang="en-US" sz="28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a de interés</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zo</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otas</a:t>
            </a:r>
            <a:endParaRPr b="0" lang="en-US" sz="2000" spc="-1" strike="noStrike">
              <a:solidFill>
                <a:srgbClr val="000000"/>
              </a:solidFill>
              <a:latin typeface="Times New Roman"/>
            </a:endParaRPr>
          </a:p>
        </p:txBody>
      </p:sp>
      <p:grpSp>
        <p:nvGrpSpPr>
          <p:cNvPr id="45" name=""/>
          <p:cNvGrpSpPr/>
          <p:nvPr/>
        </p:nvGrpSpPr>
        <p:grpSpPr>
          <a:xfrm>
            <a:off x="1752480" y="4759200"/>
            <a:ext cx="5991120" cy="1262880"/>
            <a:chOff x="1752480" y="4759200"/>
            <a:chExt cx="5991120" cy="1262880"/>
          </a:xfrm>
        </p:grpSpPr>
        <p:sp>
          <p:nvSpPr>
            <p:cNvPr id="46"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48"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Perfil de una Invers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rsión: Desembolsar hoy una suma de dinero, esperando retornos futur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acterísticas:</a:t>
            </a:r>
            <a:endParaRPr b="0" lang="en-US" sz="28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a de descuento</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ación del proyecto</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ujos</a:t>
            </a:r>
            <a:endParaRPr b="0" lang="en-US" sz="2000" spc="-1" strike="noStrike">
              <a:solidFill>
                <a:srgbClr val="000000"/>
              </a:solidFill>
              <a:latin typeface="Times New Roman"/>
            </a:endParaRPr>
          </a:p>
        </p:txBody>
      </p:sp>
      <p:sp>
        <p:nvSpPr>
          <p:cNvPr id="57"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59"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or tiempo del dinero</a:t>
            </a:r>
            <a:endParaRPr b="0" lang="en-US" sz="3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ongamos que estamos en un mundo donde no existe inflación y se nos plantea la posibilidad de elegir $ 100 hoy o $ 100 mañana ¿Qué preferimos?</a:t>
            </a:r>
            <a:endParaRPr b="0" lang="en-US" sz="2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ongamos la tasa es del 10%. Dos alternativas:</a:t>
            </a:r>
            <a:endParaRPr b="0" lang="en-US" sz="2200" spc="-1" strike="noStrike">
              <a:solidFill>
                <a:srgbClr val="000000"/>
              </a:solidFill>
              <a:latin typeface="Times New Roman"/>
            </a:endParaRPr>
          </a:p>
          <a:p>
            <a:pPr lvl="2" marL="1119960" indent="-22392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ardar los 100 en una caja fuerte al cabo de 1 año tengo los mismos 100.</a:t>
            </a:r>
            <a:endParaRPr b="0" lang="en-US" sz="2000" spc="-1" strike="noStrike">
              <a:solidFill>
                <a:srgbClr val="000000"/>
              </a:solidFill>
              <a:latin typeface="Times New Roman"/>
            </a:endParaRPr>
          </a:p>
          <a:p>
            <a:pPr lvl="2" marL="1119960" indent="-22392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ositar los 100 al cabo de un año tengo 110.</a:t>
            </a:r>
            <a:endParaRPr b="0" lang="en-US" sz="2000" spc="-1" strike="noStrike">
              <a:solidFill>
                <a:srgbClr val="000000"/>
              </a:solidFill>
              <a:latin typeface="Times New Roman"/>
            </a:endParaRPr>
          </a:p>
        </p:txBody>
      </p:sp>
      <p:sp>
        <p:nvSpPr>
          <p:cNvPr id="68"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 tiempo del dinero</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Valor Futuro: Es el valor alcanzado por un capital o principal al final del período analizado.</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Es el rendimiento o costo de un capital colocado o prestado a un tiempo determinado.</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Si definimos:</a:t>
            </a:r>
            <a:endParaRPr b="0" lang="en-US" sz="22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 = tasa de ineterés</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Monto invertido</a:t>
            </a:r>
            <a:endParaRPr b="0" lang="en-US" sz="20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vierto Po hoy</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Al cabo de un año obtengo:</a:t>
            </a:r>
            <a:endParaRPr b="0" lang="en-US" sz="22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 = Po + r * Po</a:t>
            </a:r>
            <a:endParaRPr b="0" lang="en-US" sz="20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Qué pasa si esto lo queremos invertir a más de un período?</a:t>
            </a:r>
            <a:endParaRPr b="0" lang="en-US" sz="2200" spc="-1" strike="noStrike">
              <a:solidFill>
                <a:srgbClr val="000000"/>
              </a:solidFill>
              <a:latin typeface="Times New Roman"/>
            </a:endParaRPr>
          </a:p>
        </p:txBody>
      </p:sp>
      <p:sp>
        <p:nvSpPr>
          <p:cNvPr id="70"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terés simple</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simple: Es el ine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Supongamos que Po = $100 y r = 10%</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1 =  Po + r * Po = 110</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2 = P1 + r * Po Observemos que sólo calculamos intereses sobre el principal.</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2 = Po + r * Po + r * Po = Po + 2 * r * Po = 120</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ara n períod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n = Po + n * r * Po ==&gt;   Pn = Po * (1 + n * r)</a:t>
            </a:r>
            <a:endParaRPr b="0" lang="en-US" sz="2200" spc="-1" strike="noStrike">
              <a:solidFill>
                <a:srgbClr val="000000"/>
              </a:solidFill>
              <a:latin typeface="Times New Roman"/>
            </a:endParaRPr>
          </a:p>
        </p:txBody>
      </p:sp>
      <p:sp>
        <p:nvSpPr>
          <p:cNvPr id="72"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terés Compuesto</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Compuesto: Significa que el interés ganado sobre el capital invertido se añade al principal. Se gana interés sobre el interés. De otra forma se asume reinversión de los intereses obtenidos en periodos intermedi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Supongamos que Po = $100 y r = 10%</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1 =  Po + r * Po = 110</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2 = P1 + r * P1 Observemos ahora calculamos intereses sobre todo el capital.</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2 = Po + r * Po + r * Po + r ^2 * Po = 121</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ara n períod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n = Pn-1 + r * Pn-1 ==&gt;   Pn = Po * (1 + r)^n</a:t>
            </a:r>
            <a:endParaRPr b="0" lang="en-US" sz="2200" spc="-1" strike="noStrike">
              <a:solidFill>
                <a:srgbClr val="000000"/>
              </a:solidFill>
              <a:latin typeface="Times New Roman"/>
            </a:endParaRPr>
          </a:p>
        </p:txBody>
      </p:sp>
      <p:sp>
        <p:nvSpPr>
          <p:cNvPr id="75"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terés Simple vs Interes compuesto</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Veamos que se obtiene para un período más largo y diferentes tasas de interé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 = 100, r = 10% y n = 40 años:</a:t>
            </a:r>
            <a:endParaRPr b="0" lang="en-US" sz="22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Simple ==&gt;  Pn = $ 500</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Compuesto ==&gt; Pn = $ 4.525,93 (9,05 vec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 = 100, r = 5% y n = 40 año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Simple ==&gt;  Pn = $ 300</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Compuesto ==&gt; Pn = $ 704 (2,35 vec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 = 100, r = 15% y n = 40 año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Simple ==&gt;  Pn = $ 700</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Compuesto ==&gt; Pn = $ 26.786,35 (28,27 veces)</a:t>
            </a:r>
            <a:endParaRPr b="0" lang="en-US" sz="2000" spc="-1" strike="noStrike">
              <a:solidFill>
                <a:srgbClr val="000000"/>
              </a:solidFill>
              <a:latin typeface="Times New Roman"/>
            </a:endParaRPr>
          </a:p>
        </p:txBody>
      </p:sp>
      <p:sp>
        <p:nvSpPr>
          <p:cNvPr id="78"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dc:language>en-US</dc:language>
  <cp:lastModifiedBy>cl144313585</cp:lastModifiedBy>
  <cp:lastPrinted>1997-04-16T17:24:08Z</cp:lastPrinted>
  <dcterms:modified xsi:type="dcterms:W3CDTF">2005-07-26T14:38:30Z</dcterms:modified>
  <cp:revision>10</cp:revision>
  <dc:subject>Planificación financiera</dc:subject>
  <dc:title>PLANIFICACION FINANCIERA</dc:title>
</cp:coreProperties>
</file>