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9652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965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965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965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965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965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965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965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9652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29d"/>
            </a:gs>
            <a:gs pos="100000">
              <a:srgbClr val="eae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82440" y="1747800"/>
            <a:ext cx="8372520" cy="287280"/>
            <a:chOff x="82440" y="1747800"/>
            <a:chExt cx="8372520" cy="287280"/>
          </a:xfrm>
        </p:grpSpPr>
        <p:grpSp>
          <p:nvGrpSpPr>
            <p:cNvPr id="3" name=""/>
            <p:cNvGrpSpPr/>
            <p:nvPr/>
          </p:nvGrpSpPr>
          <p:grpSpPr>
            <a:xfrm>
              <a:off x="8271000" y="1747800"/>
              <a:ext cx="183960" cy="287280"/>
              <a:chOff x="8271000" y="1747800"/>
              <a:chExt cx="183960" cy="287280"/>
            </a:xfrm>
          </p:grpSpPr>
          <p:sp>
            <p:nvSpPr>
              <p:cNvPr id="4" name=""/>
              <p:cNvSpPr/>
              <p:nvPr/>
            </p:nvSpPr>
            <p:spPr>
              <a:xfrm>
                <a:off x="8420040" y="1747800"/>
                <a:ext cx="34920" cy="287280"/>
              </a:xfrm>
              <a:prstGeom prst="rect">
                <a:avLst/>
              </a:prstGeom>
              <a:solidFill>
                <a:srgbClr val="c0c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71000" y="1747800"/>
                <a:ext cx="82440" cy="287280"/>
              </a:xfrm>
              <a:prstGeom prst="rect">
                <a:avLst/>
              </a:prstGeom>
              <a:solidFill>
                <a:srgbClr val="c0c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7778880" y="1747800"/>
              <a:ext cx="404640" cy="287280"/>
              <a:chOff x="7778880" y="1747800"/>
              <a:chExt cx="404640" cy="287280"/>
            </a:xfrm>
          </p:grpSpPr>
          <p:sp>
            <p:nvSpPr>
              <p:cNvPr id="7" name=""/>
              <p:cNvSpPr/>
              <p:nvPr/>
            </p:nvSpPr>
            <p:spPr>
              <a:xfrm>
                <a:off x="8048520" y="1747800"/>
                <a:ext cx="135000" cy="287280"/>
              </a:xfrm>
              <a:prstGeom prst="rect">
                <a:avLst/>
              </a:prstGeom>
              <a:solidFill>
                <a:srgbClr val="808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778880" y="1747800"/>
                <a:ext cx="187200" cy="287280"/>
              </a:xfrm>
              <a:prstGeom prst="rect">
                <a:avLst/>
              </a:prstGeom>
              <a:solidFill>
                <a:srgbClr val="808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7095960" y="1747800"/>
              <a:ext cx="600120" cy="287280"/>
              <a:chOff x="7095960" y="1747800"/>
              <a:chExt cx="600120" cy="287280"/>
            </a:xfrm>
          </p:grpSpPr>
          <p:sp>
            <p:nvSpPr>
              <p:cNvPr id="10" name=""/>
              <p:cNvSpPr/>
              <p:nvPr/>
            </p:nvSpPr>
            <p:spPr>
              <a:xfrm>
                <a:off x="7464600" y="1747800"/>
                <a:ext cx="231480" cy="287280"/>
              </a:xfrm>
              <a:prstGeom prst="rect">
                <a:avLst/>
              </a:prstGeom>
              <a:solidFill>
                <a:srgbClr val="404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095960" y="1747800"/>
                <a:ext cx="287640" cy="287280"/>
              </a:xfrm>
              <a:prstGeom prst="rect">
                <a:avLst/>
              </a:prstGeom>
              <a:solidFill>
                <a:srgbClr val="404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5135400" y="1747800"/>
              <a:ext cx="1878120" cy="287280"/>
              <a:chOff x="5135400" y="1747800"/>
              <a:chExt cx="1878120" cy="287280"/>
            </a:xfrm>
          </p:grpSpPr>
          <p:sp>
            <p:nvSpPr>
              <p:cNvPr id="13" name=""/>
              <p:cNvSpPr/>
              <p:nvPr/>
            </p:nvSpPr>
            <p:spPr>
              <a:xfrm>
                <a:off x="5730840" y="1747800"/>
                <a:ext cx="384120" cy="287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680160" y="1747800"/>
                <a:ext cx="333360" cy="287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216480" y="1747800"/>
                <a:ext cx="384480" cy="287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135400" y="1747800"/>
                <a:ext cx="486000" cy="287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" name=""/>
            <p:cNvGrpSpPr/>
            <p:nvPr/>
          </p:nvGrpSpPr>
          <p:grpSpPr>
            <a:xfrm>
              <a:off x="82440" y="1747800"/>
              <a:ext cx="4977000" cy="287280"/>
              <a:chOff x="82440" y="1747800"/>
              <a:chExt cx="4977000" cy="287280"/>
            </a:xfrm>
          </p:grpSpPr>
          <p:sp>
            <p:nvSpPr>
              <p:cNvPr id="18" name=""/>
              <p:cNvSpPr/>
              <p:nvPr/>
            </p:nvSpPr>
            <p:spPr>
              <a:xfrm>
                <a:off x="4524480" y="1747800"/>
                <a:ext cx="534960" cy="287280"/>
              </a:xfrm>
              <a:prstGeom prst="rect">
                <a:avLst/>
              </a:prstGeom>
              <a:solidFill>
                <a:srgbClr val="0000e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440" y="1747800"/>
                <a:ext cx="4362480" cy="287280"/>
              </a:xfrm>
              <a:prstGeom prst="rect">
                <a:avLst/>
              </a:prstGeom>
              <a:solidFill>
                <a:srgbClr val="0000e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"/>
          <p:cNvSpPr/>
          <p:nvPr/>
        </p:nvSpPr>
        <p:spPr>
          <a:xfrm>
            <a:off x="168120" y="6423120"/>
            <a:ext cx="153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buClr>
                <a:srgbClr val="000000"/>
              </a:buClr>
              <a:buFont typeface="Times New Roman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VERTEC I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29d"/>
            </a:gs>
            <a:gs pos="100000">
              <a:srgbClr val="eae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JORAMIENTO CONTINUO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 O  CALIDAD,  TQM, CALIDAD TOTAL, CALIDAD GLOBAL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477120" y="0"/>
          <a:ext cx="19810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0"/>
                    <a:ext cx="19810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29d"/>
            </a:gs>
            <a:gs pos="100000">
              <a:srgbClr val="eae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ORGANIZACIÓN PARA EL MEJORAMIENTO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ONTINUO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os interdisciplinarios de mejoramiento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 de remuneraciones asociadas a desempeñ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ios y reconocimiento público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ursos de proyectos de innovación e iniciativas de mejoramiento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29d"/>
            </a:gs>
            <a:gs pos="100000">
              <a:srgbClr val="eae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CESO DE TOMA DE DECISIO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RENTE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ITÉ EJECU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CUTIVOS DE LÍ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 DE MEJOR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-374400" y="4120560"/>
            <a:ext cx="3035160" cy="1054080"/>
          </a:xfrm>
          <a:prstGeom prst="rightArrow">
            <a:avLst>
              <a:gd name="adj1" fmla="val 50000"/>
              <a:gd name="adj2" fmla="val 14398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rot="16200000">
            <a:off x="6445080" y="3396960"/>
            <a:ext cx="3111480" cy="1054080"/>
          </a:xfrm>
          <a:prstGeom prst="rightArrow">
            <a:avLst>
              <a:gd name="adj1" fmla="val 50000"/>
              <a:gd name="adj2" fmla="val 147606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2760" y="2622600"/>
            <a:ext cx="1838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PRO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27960" y="5518080"/>
            <a:ext cx="134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DEC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29d"/>
            </a:gs>
            <a:gs pos="100000">
              <a:srgbClr val="eae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ÉCNICAS DE MEJORAMIENTO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agrama de Paret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agrama de Ishikaw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cuestas de satisfacción de clien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ción de costos de la mala calida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estadístico de proces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29d"/>
            </a:gs>
            <a:gs pos="100000">
              <a:srgbClr val="eae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 DE TRABAJO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óstico (calidad y cost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ción y compromiso del Comité Ejecu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ón de áreas piloto de mejoramient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ción de metas de mejoramiento,  definición de Estándares de Calidad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ño de mecanismos de incentivos y participación del persona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29d"/>
            </a:gs>
            <a:gs pos="100000">
              <a:srgbClr val="eae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 DE TRABAJO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ción y entrenamiento de equipos de mejoramiento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bajo en equipos: diagnóstico, medición, mejoramiento, medició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gnación de apoyo profesional a los equipos de  mejoramiento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usión de resultados y ampliación de la cobertura de participació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29d"/>
            </a:gs>
            <a:gs pos="100000">
              <a:srgbClr val="eae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S CONCEPTUALES Y METODOLÓGICA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ACIÓN PARA EL MEJORAMIENTO CONTINUO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ÉCNICAS DE MEJORAMIENTO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29d"/>
            </a:gs>
            <a:gs pos="100000">
              <a:srgbClr val="eae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JORAMIENTO CONTINUO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ECNOLOGÍA DE GEST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LA CUAL SE CONSIGUE L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TICIPACIÓN ACTI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TODO EL PERSONAL EN EL MEJORAMIENTO CONTINUO Y VERIFICADO DE L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ALID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OS SERVICIOS, PRODUCTOS Y PROCESO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29d"/>
            </a:gs>
            <a:gs pos="100000">
              <a:srgbClr val="eae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SES CONCEPTUALES..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alidad es satisfacer los requerimientos de los clientes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a ventaja competitiva sostenible, especialmente de una empresa de servicios, está en el mejoramiento continuo de las habilidades del personal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os resultados que benefician a la empresa y cada uno de sus miembros son los que generan el compromiso. Es por ello importante, asociar el mejoramiento, con incen-tivos para el personal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29d"/>
            </a:gs>
            <a:gs pos="100000">
              <a:srgbClr val="eae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 METODOLÓGICAS..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 mejoramiento debe ser verificado. 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dos los gerentes lideran el mejoramiento hacia los objetivos estratégicos de la compañía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del método científico de resolución de problema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r por los ámbitos de mayor impacto relativo en la satisfacción de los usuarios, los costos, la productividad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29d"/>
            </a:gs>
            <a:gs pos="100000">
              <a:srgbClr val="eae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ULTADOS ESPERADO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so 1: manufactura de muebl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entury Gothic"/>
              </a:rPr>
              <a:t>Caso Mad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52320" y="2666880"/>
          <a:ext cx="8307360" cy="33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2666880"/>
                    <a:ext cx="830736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29d"/>
            </a:gs>
            <a:gs pos="100000">
              <a:srgbClr val="eae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ULTADOS ESPERADOS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so 2: clínica  hospitalaria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2209680"/>
          <a:ext cx="8763120" cy="43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09680"/>
                    <a:ext cx="8763120" cy="43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29d"/>
            </a:gs>
            <a:gs pos="100000">
              <a:srgbClr val="eae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el problem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alizar sus causa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oner y ejecutar una solució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itorear sus resultado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..aplicando el método científico de resolución de problema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 SE LOGRA 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29d"/>
            </a:gs>
            <a:gs pos="100000">
              <a:srgbClr val="eae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ORGANIZACIÓN PARA EL MEJORAMIENTO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ONTINUO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organización virtual por proyecto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jecutivo responsable de la gestión de las mejora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ción, evaluación y gestión de una cartera de proyectos de mejoramient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1T12:48:00Z</dcterms:created>
  <dc:creator>AL, IV </dc:creator>
  <dc:description/>
  <dc:language>en-US</dc:language>
  <cp:lastModifiedBy>mwaissbluth</cp:lastModifiedBy>
  <cp:lastPrinted>1996-11-12T10:34:10Z</cp:lastPrinted>
  <dcterms:modified xsi:type="dcterms:W3CDTF">2005-11-14T02:19:28Z</dcterms:modified>
  <cp:revision>4</cp:revision>
  <dc:subject>Mejoramiento continuo de la calidad </dc:subject>
  <dc:title>MCC1.ppt</dc:title>
</cp:coreProperties>
</file>