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99840" y="4093920"/>
            <a:ext cx="7156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9984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6680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19400" y="190476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960" y="190476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99840" y="409392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19400" y="409392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960" y="409392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9984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6680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99840" y="4093920"/>
            <a:ext cx="7156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974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a3f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0066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499"/>
              </a:spcBef>
              <a:buClr>
                <a:srgbClr val="0066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"/>
          <p:cNvSpPr/>
          <p:nvPr/>
        </p:nvSpPr>
        <p:spPr>
          <a:xfrm>
            <a:off x="1276200" y="6558120"/>
            <a:ext cx="7867800" cy="2919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6200" y="6558120"/>
            <a:ext cx="78552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3200400" y="6557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86120" y="654840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ámina </a:t>
            </a:r>
            <a:fld id="{7EF6762A-B6C9-4C96-9C1E-4A6BF328CC4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6926400" y="6552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76200" y="6553080"/>
            <a:ext cx="785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85800" y="6586560"/>
            <a:ext cx="1217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808080"/>
                </a:solidFill>
                <a:latin typeface="Century Gothic"/>
              </a:rPr>
              <a:t>INVERTEC I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34.xml"/><Relationship Id="rId3" Type="http://schemas.openxmlformats.org/officeDocument/2006/relationships/slide" Target="slide22.xml"/><Relationship Id="rId4" Type="http://schemas.openxmlformats.org/officeDocument/2006/relationships/slide" Target="slide29.xml"/><Relationship Id="rId5" Type="http://schemas.openxmlformats.org/officeDocument/2006/relationships/slide" Target="slide41.xml"/><Relationship Id="rId6" Type="http://schemas.openxmlformats.org/officeDocument/2006/relationships/slide" Target="slide40.xml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Modelo IDEF0</a:t>
            </a:r>
            <a:br>
              <a:rPr sz="4000"/>
            </a:b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Planta Polipropileno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3962520" y="358128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ceso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ubproceso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3886200"/>
            <a:ext cx="54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nt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8" idx="3"/>
            <a:endCxn id="47" idx="1"/>
          </p:cNvCxnSpPr>
          <p:nvPr/>
        </p:nvCxnSpPr>
        <p:spPr>
          <a:xfrm flipV="1">
            <a:off x="2602080" y="3962160"/>
            <a:ext cx="1360800" cy="720"/>
          </a:xfrm>
          <a:prstGeom prst="bentConnector3">
            <a:avLst>
              <a:gd name="adj1" fmla="val 49457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780960" y="3886200"/>
            <a:ext cx="43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ali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7" idx="3"/>
            <a:endCxn id="50" idx="1"/>
          </p:cNvCxnSpPr>
          <p:nvPr/>
        </p:nvCxnSpPr>
        <p:spPr>
          <a:xfrm>
            <a:off x="5105520" y="3962160"/>
            <a:ext cx="1675800" cy="720"/>
          </a:xfrm>
          <a:prstGeom prst="bentConnector3">
            <a:avLst>
              <a:gd name="adj1" fmla="val 5040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162680" y="5486400"/>
            <a:ext cx="712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ecanis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(Recurs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0"/>
            <a:endCxn id="47" idx="2"/>
          </p:cNvCxnSpPr>
          <p:nvPr/>
        </p:nvCxnSpPr>
        <p:spPr>
          <a:xfrm flipH="1" flipV="1" rot="5400000">
            <a:off x="3954600" y="4907160"/>
            <a:ext cx="1143360" cy="15480"/>
          </a:xfrm>
          <a:prstGeom prst="bentConnector3">
            <a:avLst>
              <a:gd name="adj1" fmla="val 49385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3986640" y="205740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t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(Reglas, restriccion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2"/>
            <a:endCxn id="47" idx="0"/>
          </p:cNvCxnSpPr>
          <p:nvPr/>
        </p:nvCxnSpPr>
        <p:spPr>
          <a:xfrm rot="5400000">
            <a:off x="3948840" y="2947320"/>
            <a:ext cx="1219320" cy="49320"/>
          </a:xfrm>
          <a:prstGeom prst="bentConnector3">
            <a:avLst>
              <a:gd name="adj1" fmla="val 49497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grpSp>
        <p:nvGrpSpPr>
          <p:cNvPr id="56" name=""/>
          <p:cNvGrpSpPr/>
          <p:nvPr/>
        </p:nvGrpSpPr>
        <p:grpSpPr>
          <a:xfrm>
            <a:off x="1295280" y="6095880"/>
            <a:ext cx="6477120" cy="381240"/>
            <a:chOff x="1295280" y="6095880"/>
            <a:chExt cx="6477120" cy="381240"/>
          </a:xfrm>
        </p:grpSpPr>
        <p:sp>
          <p:nvSpPr>
            <p:cNvPr id="57" name=""/>
            <p:cNvSpPr/>
            <p:nvPr/>
          </p:nvSpPr>
          <p:spPr>
            <a:xfrm>
              <a:off x="1295280" y="6095880"/>
              <a:ext cx="533520" cy="38124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30220" h="21600">
                  <a:moveTo>
                    <a:pt x="0" y="0"/>
                  </a:moveTo>
                  <a:lnTo>
                    <a:pt x="30220" y="0"/>
                  </a:lnTo>
                  <a:lnTo>
                    <a:pt x="30220" y="21600"/>
                  </a:lnTo>
                  <a:lnTo>
                    <a:pt x="0" y="21600"/>
                  </a:lnTo>
                  <a:close/>
                </a:path>
                <a:path fill="lightenLess" w="30220" h="21600">
                  <a:moveTo>
                    <a:pt x="0" y="0"/>
                  </a:moveTo>
                  <a:lnTo>
                    <a:pt x="30220" y="0"/>
                  </a:lnTo>
                  <a:lnTo>
                    <a:pt x="28820" y="1400"/>
                  </a:lnTo>
                  <a:lnTo>
                    <a:pt x="1400" y="1400"/>
                  </a:lnTo>
                  <a:close/>
                </a:path>
                <a:path fill="darken" w="30220" h="21600">
                  <a:moveTo>
                    <a:pt x="30220" y="0"/>
                  </a:moveTo>
                  <a:lnTo>
                    <a:pt x="30220" y="21600"/>
                  </a:lnTo>
                  <a:lnTo>
                    <a:pt x="28820" y="20200"/>
                  </a:lnTo>
                  <a:lnTo>
                    <a:pt x="28820" y="1400"/>
                  </a:lnTo>
                  <a:close/>
                </a:path>
                <a:path fill="darkenLess" w="30220" h="21600">
                  <a:moveTo>
                    <a:pt x="302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20" y="20200"/>
                  </a:lnTo>
                  <a:close/>
                </a:path>
                <a:path fill="lighten" w="302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20" h="21600">
                  <a:moveTo>
                    <a:pt x="15110" y="3794"/>
                  </a:moveTo>
                  <a:arcTo wR="7006" hR="7006" stAng="16200000" swAng="-5400000"/>
                  <a:arcTo wR="7006" hR="7006" stAng="10800000" swAng="-5400000"/>
                  <a:arcTo wR="7006" hR="7006" stAng="5400000" swAng="-5400000"/>
                  <a:arcTo wR="7006" hR="7006" stAng="0" swAng="-5400000"/>
                  <a:close/>
                </a:path>
                <a:path fill="lighten" w="30220" h="21600">
                  <a:moveTo>
                    <a:pt x="15110" y="4168"/>
                  </a:moveTo>
                  <a:arcTo wR="1793" hR="1793" stAng="16200000" swAng="-5400000"/>
                  <a:arcTo wR="1793" hR="1793" stAng="10800000" swAng="-5400000"/>
                  <a:arcTo wR="1793" hR="1793" stAng="5400000" swAng="-5400000"/>
                  <a:arcTo wR="1793" hR="1793" stAng="0" swAng="-5400000"/>
                  <a:close/>
                </a:path>
                <a:path fill="lighten" w="30220" h="21600">
                  <a:moveTo>
                    <a:pt x="12534" y="8224"/>
                  </a:moveTo>
                  <a:lnTo>
                    <a:pt x="16398" y="8224"/>
                  </a:lnTo>
                  <a:lnTo>
                    <a:pt x="16398" y="15221"/>
                  </a:lnTo>
                  <a:lnTo>
                    <a:pt x="17686" y="15221"/>
                  </a:lnTo>
                  <a:lnTo>
                    <a:pt x="17686" y="16144"/>
                  </a:lnTo>
                  <a:lnTo>
                    <a:pt x="12534" y="16144"/>
                  </a:lnTo>
                  <a:lnTo>
                    <a:pt x="12534" y="15221"/>
                  </a:lnTo>
                  <a:lnTo>
                    <a:pt x="13822" y="15221"/>
                  </a:lnTo>
                  <a:lnTo>
                    <a:pt x="13822" y="9129"/>
                  </a:lnTo>
                  <a:lnTo>
                    <a:pt x="12534" y="91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6095880"/>
              <a:ext cx="5791320" cy="365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Ver en modo presentación. Las cajas de color amarillo tienen apertura; haciendo click en ellas se navega por el modelo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spcBef>
                <a:spcPts val="451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Book Antiqua"/>
              </a:rPr>
              <a:t>Area Planificación y Control de la Producción (PCP) crea nueva Orden de Producción en Sistema, de acuerdo a programa de Extrusión, resultado del proceso de planificación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marL="376920" indent="-376920">
              <a:spcBef>
                <a:spcPts val="451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Book Antiqua"/>
              </a:rPr>
              <a:t>PCP completa producto a producir (Rafia), cantidad, línea de extrusión, turno e indica fórmula del producto (sugerida por Sistema)... de acuerdo a programa de producción (según requerimientos de Tejedurías)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marL="376920" indent="-376920">
              <a:spcBef>
                <a:spcPts val="451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Book Antiqua"/>
              </a:rPr>
              <a:t>PCP efectúa operación de lanzamiento de Orden de Producción en Sistema, lo que generará automáticamente el requerimiento de MP e insumos a Bodega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867640" cy="41893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Control de Planta, seleccionar funcionalidad Mantenimiento / Entrada de Órdenes de Fabr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790960" cy="4003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5638680"/>
            <a:ext cx="4724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brir Menú “Arch” y seleccionar opción “Crea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19920" cy="41608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590076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la ventana “Agregar Orden de Fabricación”; presionar botón OK sin escribir 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6095880" cy="4213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5900760"/>
            <a:ext cx="4724640" cy="5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la cabecera de la Orden de Fabricación. Ingresar código del producto, Código Almacén, Cantidad a producir, fecha lanzamiento (en general fecha actual). Pasar a segunda vent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828800" y="1371600"/>
            <a:ext cx="6019920" cy="4495680"/>
            <a:chOff x="1828800" y="1371600"/>
            <a:chExt cx="6019920" cy="44956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1828800" y="1371600"/>
              <a:ext cx="60199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477320" y="3647880"/>
              <a:ext cx="361080" cy="12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5943600"/>
            <a:ext cx="5334120" cy="5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lista de materiales (en general con el mismo código del produ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ruta (en general con el mismo código del produ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botón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6172200" cy="44067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5943600"/>
            <a:ext cx="533376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Módulo Control de Planta, seleccionar funcionalidad “Lanzamiento de órdenes de fabricació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209680" y="1679400"/>
            <a:ext cx="5419800" cy="3695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3200040" y="1371600"/>
            <a:ext cx="7621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5943600"/>
            <a:ext cx="533376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campo “Situar en Pedido”, ingresar número de Orden de Fabricación. Luego presionar botón “Situar en” de la barra de herramient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66800" y="1420920"/>
            <a:ext cx="6029280" cy="41115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5715000"/>
            <a:ext cx="5333760" cy="5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el registro de la Orden de Fabricació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línea completa con el mouse (quedará marcada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r a menú “Arch” y seleccionar opción “Selec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600200" y="1424160"/>
            <a:ext cx="6477120" cy="441468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916600"/>
            <a:ext cx="53337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a Orden de Fabricación quedará marcada con el estado “Selec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00400" y="64004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0a3f"/>
                </a:solidFill>
                <a:latin typeface="Book Antiqua"/>
              </a:rPr>
              <a:t>0. Modelo Planta Polipropileno</a:t>
            </a:r>
            <a:endParaRPr b="0" lang="en-US" sz="1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3581280" y="68580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lanificar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1066680" y="266688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baste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429000" y="342900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45720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spac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1" idx="3"/>
            <a:endCxn id="62" idx="1"/>
          </p:cNvCxnSpPr>
          <p:nvPr/>
        </p:nvCxnSpPr>
        <p:spPr>
          <a:xfrm>
            <a:off x="2223720" y="3048120"/>
            <a:ext cx="1191240" cy="762480"/>
          </a:xfrm>
          <a:prstGeom prst="bentConnector3">
            <a:avLst>
              <a:gd name="adj1" fmla="val 6970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3"/>
            <a:endCxn id="63" idx="1"/>
          </p:cNvCxnSpPr>
          <p:nvPr/>
        </p:nvCxnSpPr>
        <p:spPr>
          <a:xfrm>
            <a:off x="4586040" y="3809520"/>
            <a:ext cx="1053000" cy="1143720"/>
          </a:xfrm>
          <a:prstGeom prst="bentConnector3">
            <a:avLst>
              <a:gd name="adj1" fmla="val 4931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0" idx="3"/>
            <a:endCxn id="61" idx="0"/>
          </p:cNvCxnSpPr>
          <p:nvPr/>
        </p:nvCxnSpPr>
        <p:spPr>
          <a:xfrm flipH="1">
            <a:off x="1638000" y="1066680"/>
            <a:ext cx="3101040" cy="1586880"/>
          </a:xfrm>
          <a:prstGeom prst="bentConnector4">
            <a:avLst>
              <a:gd name="adj1" fmla="val -6908"/>
              <a:gd name="adj2" fmla="val 6244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0" idx="3"/>
            <a:endCxn id="62" idx="0"/>
          </p:cNvCxnSpPr>
          <p:nvPr/>
        </p:nvCxnSpPr>
        <p:spPr>
          <a:xfrm flipH="1">
            <a:off x="4000320" y="1066680"/>
            <a:ext cx="738720" cy="2348640"/>
          </a:xfrm>
          <a:prstGeom prst="bentConnector4">
            <a:avLst>
              <a:gd name="adj1" fmla="val -44271"/>
              <a:gd name="adj2" fmla="val 8138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0" idx="3"/>
            <a:endCxn id="69" idx="0"/>
          </p:cNvCxnSpPr>
          <p:nvPr/>
        </p:nvCxnSpPr>
        <p:spPr>
          <a:xfrm>
            <a:off x="4738680" y="1066320"/>
            <a:ext cx="1853280" cy="22932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493360" y="0"/>
            <a:ext cx="112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2"/>
            <a:endCxn id="60" idx="0"/>
          </p:cNvCxnSpPr>
          <p:nvPr/>
        </p:nvCxnSpPr>
        <p:spPr>
          <a:xfrm flipH="1" rot="16200000">
            <a:off x="3344040" y="-136800"/>
            <a:ext cx="519840" cy="1097640"/>
          </a:xfrm>
          <a:prstGeom prst="bentConnector3">
            <a:avLst>
              <a:gd name="adj1" fmla="val 51351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1677600" y="2057400"/>
            <a:ext cx="11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comp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560" y="3048120"/>
            <a:ext cx="1312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4114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olicitudes de despa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00" y="3581280"/>
            <a:ext cx="95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42670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77320" y="5638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s Entregados a cli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63" idx="3"/>
            <a:endCxn id="77" idx="1"/>
          </p:cNvCxnSpPr>
          <p:nvPr/>
        </p:nvCxnSpPr>
        <p:spPr>
          <a:xfrm>
            <a:off x="6781320" y="4952880"/>
            <a:ext cx="1296360" cy="91512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77400" y="4495680"/>
            <a:ext cx="83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bastec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160" y="525780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áqui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89280" y="5257800"/>
            <a:ext cx="6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0" idx="0"/>
            <a:endCxn id="62" idx="2"/>
          </p:cNvCxnSpPr>
          <p:nvPr/>
        </p:nvCxnSpPr>
        <p:spPr>
          <a:xfrm flipH="1" flipV="1" rot="5400000">
            <a:off x="3018960" y="4276080"/>
            <a:ext cx="1053360" cy="910440"/>
          </a:xfrm>
          <a:prstGeom prst="bentConnector3">
            <a:avLst>
              <a:gd name="adj1" fmla="val 5066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1" idx="0"/>
            <a:endCxn id="62" idx="2"/>
          </p:cNvCxnSpPr>
          <p:nvPr/>
        </p:nvCxnSpPr>
        <p:spPr>
          <a:xfrm flipV="1">
            <a:off x="4000320" y="4204800"/>
            <a:ext cx="1080" cy="105336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012720" y="6172200"/>
            <a:ext cx="40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17220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4" idx="0"/>
            <a:endCxn id="63" idx="2"/>
          </p:cNvCxnSpPr>
          <p:nvPr/>
        </p:nvCxnSpPr>
        <p:spPr>
          <a:xfrm flipV="1" rot="16200000">
            <a:off x="5793120" y="5750280"/>
            <a:ext cx="838800" cy="5400"/>
          </a:xfrm>
          <a:prstGeom prst="bentConnector3">
            <a:avLst>
              <a:gd name="adj1" fmla="val 4997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0"/>
            <a:endCxn id="63" idx="2"/>
          </p:cNvCxnSpPr>
          <p:nvPr/>
        </p:nvCxnSpPr>
        <p:spPr>
          <a:xfrm flipV="1" rot="16200000">
            <a:off x="6123960" y="5420160"/>
            <a:ext cx="838800" cy="665640"/>
          </a:xfrm>
          <a:prstGeom prst="bentConnector3">
            <a:avLst>
              <a:gd name="adj1" fmla="val 4997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9" idx="0"/>
            <a:endCxn id="61" idx="2"/>
          </p:cNvCxnSpPr>
          <p:nvPr/>
        </p:nvCxnSpPr>
        <p:spPr>
          <a:xfrm flipH="1" flipV="1" rot="5400000">
            <a:off x="541080" y="3398040"/>
            <a:ext cx="1053000" cy="114228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991800" y="4495680"/>
            <a:ext cx="75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0"/>
            <a:endCxn id="61" idx="2"/>
          </p:cNvCxnSpPr>
          <p:nvPr/>
        </p:nvCxnSpPr>
        <p:spPr>
          <a:xfrm flipH="1" flipV="1" rot="5400000">
            <a:off x="978120" y="3835800"/>
            <a:ext cx="1053000" cy="26712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827960" y="62485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1" idx="0"/>
            <a:endCxn id="63" idx="2"/>
          </p:cNvCxnSpPr>
          <p:nvPr/>
        </p:nvCxnSpPr>
        <p:spPr>
          <a:xfrm flipH="1" flipV="1" rot="5400000">
            <a:off x="5167800" y="5205960"/>
            <a:ext cx="915120" cy="1170720"/>
          </a:xfrm>
          <a:prstGeom prst="bentConnector3">
            <a:avLst>
              <a:gd name="adj1" fmla="val 4998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510440" y="52578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0"/>
            <a:endCxn id="62" idx="2"/>
          </p:cNvCxnSpPr>
          <p:nvPr/>
        </p:nvCxnSpPr>
        <p:spPr>
          <a:xfrm flipV="1" rot="16200000">
            <a:off x="3835440" y="4370040"/>
            <a:ext cx="1053360" cy="722520"/>
          </a:xfrm>
          <a:prstGeom prst="bentConnector3">
            <a:avLst>
              <a:gd name="adj1" fmla="val 5066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1779840" y="449568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0"/>
            <a:endCxn id="61" idx="2"/>
          </p:cNvCxnSpPr>
          <p:nvPr/>
        </p:nvCxnSpPr>
        <p:spPr>
          <a:xfrm flipV="1" rot="16200000">
            <a:off x="1288440" y="3791880"/>
            <a:ext cx="1053000" cy="35460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0"/>
          </p:cNvCxnSpPr>
          <p:nvPr/>
        </p:nvCxnSpPr>
        <p:spPr>
          <a:xfrm flipH="1" flipV="1" rot="5400000">
            <a:off x="574200" y="3102840"/>
            <a:ext cx="381600" cy="57564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6019920" y="129528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69" idx="3"/>
            <a:endCxn id="63" idx="0"/>
          </p:cNvCxnSpPr>
          <p:nvPr/>
        </p:nvCxnSpPr>
        <p:spPr>
          <a:xfrm flipH="1">
            <a:off x="6210000" y="1676160"/>
            <a:ext cx="953280" cy="2896200"/>
          </a:xfrm>
          <a:prstGeom prst="bentConnector4">
            <a:avLst>
              <a:gd name="adj1" fmla="val -38156"/>
              <a:gd name="adj2" fmla="val 5657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H="1" rot="16200000">
            <a:off x="4442400" y="-1044360"/>
            <a:ext cx="1143720" cy="3535920"/>
          </a:xfrm>
          <a:prstGeom prst="bentConnector3">
            <a:avLst>
              <a:gd name="adj1" fmla="val 133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H="1" flipV="1">
            <a:off x="3566880" y="1142280"/>
            <a:ext cx="3596400" cy="610200"/>
          </a:xfrm>
          <a:prstGeom prst="bentConnector5">
            <a:avLst>
              <a:gd name="adj1" fmla="val -6346"/>
              <a:gd name="adj2" fmla="val -168476"/>
              <a:gd name="adj3" fmla="val 105956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2868480" y="914400"/>
            <a:ext cx="789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rdenes de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666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7696080" y="3505320"/>
            <a:ext cx="114300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st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62" idx="3"/>
            <a:endCxn id="103" idx="1"/>
          </p:cNvCxnSpPr>
          <p:nvPr/>
        </p:nvCxnSpPr>
        <p:spPr>
          <a:xfrm>
            <a:off x="4586040" y="3809880"/>
            <a:ext cx="3096360" cy="7668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334120" y="6095880"/>
            <a:ext cx="50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Log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0"/>
            <a:endCxn id="63" idx="2"/>
          </p:cNvCxnSpPr>
          <p:nvPr/>
        </p:nvCxnSpPr>
        <p:spPr>
          <a:xfrm flipH="1" flipV="1" rot="5400000">
            <a:off x="5517720" y="5403240"/>
            <a:ext cx="762480" cy="623160"/>
          </a:xfrm>
          <a:prstGeom prst="bentConnector3">
            <a:avLst>
              <a:gd name="adj1" fmla="val 4997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286360" y="449568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0"/>
            <a:endCxn id="61" idx="2"/>
          </p:cNvCxnSpPr>
          <p:nvPr/>
        </p:nvCxnSpPr>
        <p:spPr>
          <a:xfrm flipV="1" rot="16200000">
            <a:off x="1634760" y="3445560"/>
            <a:ext cx="1053000" cy="104688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308480" y="38088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Planif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3080" y="83808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Comer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35812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formació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3049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Compra a 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/>
          <p:nvPr/>
        </p:nvCxnSpPr>
        <p:spPr>
          <a:xfrm flipV="1">
            <a:off x="4738320" y="456840"/>
            <a:ext cx="2958120" cy="534240"/>
          </a:xfrm>
          <a:prstGeom prst="bentConnector3">
            <a:avLst>
              <a:gd name="adj1" fmla="val 49756"/>
            </a:avLst>
          </a:prstGeom>
          <a:ln w="936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570800" y="4648320"/>
            <a:ext cx="50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Cos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409240" y="48769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4" idx="0"/>
            <a:endCxn id="103" idx="2"/>
          </p:cNvCxnSpPr>
          <p:nvPr/>
        </p:nvCxnSpPr>
        <p:spPr>
          <a:xfrm flipH="1" flipV="1" rot="5400000">
            <a:off x="7862760" y="4242960"/>
            <a:ext cx="367560" cy="44352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0"/>
            <a:endCxn id="103" idx="2"/>
          </p:cNvCxnSpPr>
          <p:nvPr/>
        </p:nvCxnSpPr>
        <p:spPr>
          <a:xfrm flipV="1" rot="16200000">
            <a:off x="8146440" y="4401720"/>
            <a:ext cx="596160" cy="354600"/>
          </a:xfrm>
          <a:prstGeom prst="bentConnector3">
            <a:avLst>
              <a:gd name="adj1" fmla="val 5117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943600" y="236232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Comer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2040" y="23623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8" idx="0"/>
            <a:endCxn id="69" idx="2"/>
          </p:cNvCxnSpPr>
          <p:nvPr/>
        </p:nvCxnSpPr>
        <p:spPr>
          <a:xfrm flipH="1" flipV="1" rot="5400000">
            <a:off x="6267240" y="2037960"/>
            <a:ext cx="305640" cy="34344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9" idx="0"/>
            <a:endCxn id="69" idx="2"/>
          </p:cNvCxnSpPr>
          <p:nvPr/>
        </p:nvCxnSpPr>
        <p:spPr>
          <a:xfrm flipV="1" rot="16200000">
            <a:off x="6639840" y="2007360"/>
            <a:ext cx="305640" cy="40392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24680" y="2666880"/>
            <a:ext cx="8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Cost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2"/>
            <a:endCxn id="103" idx="0"/>
          </p:cNvCxnSpPr>
          <p:nvPr/>
        </p:nvCxnSpPr>
        <p:spPr>
          <a:xfrm rot="5400000">
            <a:off x="8054280" y="3184560"/>
            <a:ext cx="519840" cy="94320"/>
          </a:xfrm>
          <a:prstGeom prst="bentConnector3">
            <a:avLst>
              <a:gd name="adj1" fmla="val 5135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334840" y="1066680"/>
            <a:ext cx="11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nóstico de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1880" y="182880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ste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3" idx="3"/>
            <a:endCxn id="125" idx="2"/>
          </p:cNvCxnSpPr>
          <p:nvPr/>
        </p:nvCxnSpPr>
        <p:spPr>
          <a:xfrm flipH="1" flipV="1">
            <a:off x="8686440" y="2133360"/>
            <a:ext cx="167040" cy="1753200"/>
          </a:xfrm>
          <a:prstGeom prst="bentConnector4">
            <a:avLst>
              <a:gd name="adj1" fmla="val -128725"/>
              <a:gd name="adj2" fmla="val 60854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429000" y="1828800"/>
            <a:ext cx="99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ferentes Are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0"/>
            <a:endCxn id="60" idx="2"/>
          </p:cNvCxnSpPr>
          <p:nvPr/>
        </p:nvCxnSpPr>
        <p:spPr>
          <a:xfrm flipH="1" flipV="1" rot="5400000">
            <a:off x="3854880" y="1530360"/>
            <a:ext cx="367560" cy="22932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4448520" y="18288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0"/>
            <a:endCxn id="60" idx="2"/>
          </p:cNvCxnSpPr>
          <p:nvPr/>
        </p:nvCxnSpPr>
        <p:spPr>
          <a:xfrm flipV="1" rot="16200000">
            <a:off x="4222800" y="1390680"/>
            <a:ext cx="367560" cy="50868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447920" y="1409760"/>
            <a:ext cx="6629400" cy="451944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6129360"/>
            <a:ext cx="53337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r a menú “Funciones” y seleccionar opción “Lanzar / Imprim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05120" y="1401840"/>
            <a:ext cx="6172200" cy="42084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295280" y="3352680"/>
            <a:ext cx="10670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8954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5791320"/>
            <a:ext cx="5333760" cy="7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la ventana “Impresión documentos planta”. Marcar la opción “Asignar orden de fabricación” (con lo que se producirá la reserva de los materiales en Bodega) y seleccionar el parámetro de ejecución “Interactiva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botón “O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1523880" y="1447920"/>
            <a:ext cx="114300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ir 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27432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ir T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4191120"/>
            <a:ext cx="1143000" cy="7617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Ter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5" idx="1"/>
          </p:cNvCxnSpPr>
          <p:nvPr/>
        </p:nvCxnSpPr>
        <p:spPr>
          <a:xfrm>
            <a:off x="2681280" y="1828800"/>
            <a:ext cx="1053360" cy="1296000"/>
          </a:xfrm>
          <a:prstGeom prst="bentConnector3">
            <a:avLst>
              <a:gd name="adj1" fmla="val 4929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5" idx="3"/>
            <a:endCxn id="276" idx="1"/>
          </p:cNvCxnSpPr>
          <p:nvPr/>
        </p:nvCxnSpPr>
        <p:spPr>
          <a:xfrm>
            <a:off x="4876560" y="3124080"/>
            <a:ext cx="991080" cy="144864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6" idx="3"/>
            <a:endCxn id="280" idx="1"/>
          </p:cNvCxnSpPr>
          <p:nvPr/>
        </p:nvCxnSpPr>
        <p:spPr>
          <a:xfrm flipV="1">
            <a:off x="7010280" y="3123720"/>
            <a:ext cx="1524960" cy="1448640"/>
          </a:xfrm>
          <a:prstGeom prst="bentConnector3">
            <a:avLst>
              <a:gd name="adj1" fmla="val 4998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8534520" y="2971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 Termi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213372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a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342900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la para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5" idx="3"/>
            <a:endCxn id="280" idx="1"/>
          </p:cNvCxnSpPr>
          <p:nvPr/>
        </p:nvCxnSpPr>
        <p:spPr>
          <a:xfrm>
            <a:off x="4876920" y="3123720"/>
            <a:ext cx="365832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5943600" y="2895480"/>
            <a:ext cx="11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la para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9152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 a Planta Recuperado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/>
          <p:nvPr/>
        </p:nvCxnSpPr>
        <p:spPr>
          <a:xfrm flipV="1">
            <a:off x="2681280" y="609120"/>
            <a:ext cx="4710960" cy="1067760"/>
          </a:xfrm>
          <a:prstGeom prst="bentConnector3">
            <a:avLst>
              <a:gd name="adj1" fmla="val 49843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endCxn id="274" idx="1"/>
          </p:cNvCxnSpPr>
          <p:nvPr/>
        </p:nvCxnSpPr>
        <p:spPr>
          <a:xfrm flipH="1" rot="16200000">
            <a:off x="799920" y="1119600"/>
            <a:ext cx="686520" cy="73260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533160" y="3200400"/>
            <a:ext cx="53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ínea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2960" y="3200400"/>
            <a:ext cx="53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76960" y="32004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920" y="480060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l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10680" y="4800600"/>
            <a:ext cx="58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32560" y="48006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3240" y="5791320"/>
            <a:ext cx="905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amin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mpres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form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nfard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68000" y="5791320"/>
            <a:ext cx="69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8400" y="57913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8" idx="0"/>
            <a:endCxn id="274" idx="2"/>
          </p:cNvCxnSpPr>
          <p:nvPr/>
        </p:nvCxnSpPr>
        <p:spPr>
          <a:xfrm flipH="1" flipV="1" rot="5400000">
            <a:off x="960120" y="2064960"/>
            <a:ext cx="977040" cy="129456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9" idx="0"/>
            <a:endCxn id="274" idx="2"/>
          </p:cNvCxnSpPr>
          <p:nvPr/>
        </p:nvCxnSpPr>
        <p:spPr>
          <a:xfrm flipV="1" rot="16200000">
            <a:off x="1645560" y="2673720"/>
            <a:ext cx="977040" cy="7668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0" idx="0"/>
            <a:endCxn id="274" idx="2"/>
          </p:cNvCxnSpPr>
          <p:nvPr/>
        </p:nvCxnSpPr>
        <p:spPr>
          <a:xfrm flipV="1" rot="16200000">
            <a:off x="2003760" y="2314800"/>
            <a:ext cx="977040" cy="79452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3" idx="0"/>
            <a:endCxn id="275" idx="2"/>
          </p:cNvCxnSpPr>
          <p:nvPr/>
        </p:nvCxnSpPr>
        <p:spPr>
          <a:xfrm flipV="1" rot="16200000">
            <a:off x="3976920" y="3832560"/>
            <a:ext cx="1296000" cy="64044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2" idx="0"/>
            <a:endCxn id="275" idx="2"/>
          </p:cNvCxnSpPr>
          <p:nvPr/>
        </p:nvCxnSpPr>
        <p:spPr>
          <a:xfrm flipH="1" flipV="1" rot="5400000">
            <a:off x="3606480" y="4101840"/>
            <a:ext cx="1296000" cy="10224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91" idx="0"/>
            <a:endCxn id="275" idx="2"/>
          </p:cNvCxnSpPr>
          <p:nvPr/>
        </p:nvCxnSpPr>
        <p:spPr>
          <a:xfrm flipH="1" flipV="1" rot="5400000">
            <a:off x="2976480" y="3472560"/>
            <a:ext cx="1296000" cy="136080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4" idx="0"/>
            <a:endCxn id="276" idx="2"/>
          </p:cNvCxnSpPr>
          <p:nvPr/>
        </p:nvCxnSpPr>
        <p:spPr>
          <a:xfrm flipH="1" flipV="1" rot="5400000">
            <a:off x="5503680" y="4855680"/>
            <a:ext cx="839160" cy="10324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295" idx="0"/>
            <a:endCxn id="276" idx="2"/>
          </p:cNvCxnSpPr>
          <p:nvPr/>
        </p:nvCxnSpPr>
        <p:spPr>
          <a:xfrm flipV="1" rot="16200000">
            <a:off x="6357960" y="5032440"/>
            <a:ext cx="839160" cy="67860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6" idx="0"/>
            <a:endCxn id="276" idx="2"/>
          </p:cNvCxnSpPr>
          <p:nvPr/>
        </p:nvCxnSpPr>
        <p:spPr>
          <a:xfrm flipV="1" rot="16200000">
            <a:off x="6720120" y="4670280"/>
            <a:ext cx="839160" cy="140256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676520" y="7621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33526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20574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6" idx="2"/>
            <a:endCxn id="274" idx="0"/>
          </p:cNvCxnSpPr>
          <p:nvPr/>
        </p:nvCxnSpPr>
        <p:spPr>
          <a:xfrm rot="5400000">
            <a:off x="2044800" y="1116720"/>
            <a:ext cx="367560" cy="26712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2"/>
            <a:endCxn id="275" idx="0"/>
          </p:cNvCxnSpPr>
          <p:nvPr/>
        </p:nvCxnSpPr>
        <p:spPr>
          <a:xfrm rot="5400000">
            <a:off x="4323600" y="2343240"/>
            <a:ext cx="381600" cy="419760"/>
          </a:xfrm>
          <a:prstGeom prst="bentConnector3">
            <a:avLst>
              <a:gd name="adj1" fmla="val 4995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7" idx="2"/>
            <a:endCxn id="276" idx="0"/>
          </p:cNvCxnSpPr>
          <p:nvPr/>
        </p:nvCxnSpPr>
        <p:spPr>
          <a:xfrm rot="5400000">
            <a:off x="6438240" y="3657600"/>
            <a:ext cx="534240" cy="534240"/>
          </a:xfrm>
          <a:prstGeom prst="bentConnector3">
            <a:avLst>
              <a:gd name="adj1" fmla="val 4996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152280" y="7621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00400" y="6477120"/>
            <a:ext cx="3733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0a3f"/>
                </a:solidFill>
                <a:latin typeface="Book Antiqua"/>
              </a:rPr>
              <a:t>3. Producir</a:t>
            </a:r>
            <a:endParaRPr b="0" lang="en-US" sz="18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15" name=""/>
          <p:cNvSpPr/>
          <p:nvPr/>
        </p:nvSpPr>
        <p:spPr>
          <a:xfrm>
            <a:off x="1219680" y="32004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15" idx="0"/>
            <a:endCxn id="274" idx="2"/>
          </p:cNvCxnSpPr>
          <p:nvPr/>
        </p:nvCxnSpPr>
        <p:spPr>
          <a:xfrm flipH="1" flipV="1" rot="5400000">
            <a:off x="1302840" y="2407680"/>
            <a:ext cx="977040" cy="60876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3232800" y="4800600"/>
            <a:ext cx="5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7" idx="0"/>
            <a:endCxn id="275" idx="2"/>
          </p:cNvCxnSpPr>
          <p:nvPr/>
        </p:nvCxnSpPr>
        <p:spPr>
          <a:xfrm flipH="1" flipV="1" rot="5400000">
            <a:off x="3265920" y="3761280"/>
            <a:ext cx="1296000" cy="78336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5942880" y="5791320"/>
            <a:ext cx="5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19" idx="0"/>
            <a:endCxn id="276" idx="2"/>
          </p:cNvCxnSpPr>
          <p:nvPr/>
        </p:nvCxnSpPr>
        <p:spPr>
          <a:xfrm flipH="1" flipV="1" rot="5400000">
            <a:off x="5916240" y="5268240"/>
            <a:ext cx="839160" cy="20700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7620120" y="12952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formació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274" idx="3"/>
            <a:endCxn id="321" idx="1"/>
          </p:cNvCxnSpPr>
          <p:nvPr/>
        </p:nvCxnSpPr>
        <p:spPr>
          <a:xfrm flipV="1">
            <a:off x="2680920" y="1447560"/>
            <a:ext cx="4939560" cy="381600"/>
          </a:xfrm>
          <a:prstGeom prst="bentConnector3">
            <a:avLst>
              <a:gd name="adj1" fmla="val 49854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3" name=""/>
          <p:cNvCxnSpPr/>
          <p:nvPr/>
        </p:nvCxnSpPr>
        <p:spPr>
          <a:xfrm flipV="1">
            <a:off x="4876920" y="1599840"/>
            <a:ext cx="2743920" cy="1448640"/>
          </a:xfrm>
          <a:prstGeom prst="bentConnector3">
            <a:avLst>
              <a:gd name="adj1" fmla="val 2684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4" name=""/>
          <p:cNvCxnSpPr/>
          <p:nvPr/>
        </p:nvCxnSpPr>
        <p:spPr>
          <a:xfrm flipV="1">
            <a:off x="7009920" y="1751760"/>
            <a:ext cx="1181880" cy="297252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3429000" y="763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306" idx="0"/>
          </p:cNvCxnSpPr>
          <p:nvPr/>
        </p:nvCxnSpPr>
        <p:spPr>
          <a:xfrm rot="5400000">
            <a:off x="3047400" y="-304920"/>
            <a:ext cx="381960" cy="175320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25" idx="2"/>
            <a:endCxn id="308" idx="0"/>
          </p:cNvCxnSpPr>
          <p:nvPr/>
        </p:nvCxnSpPr>
        <p:spPr>
          <a:xfrm flipH="1" rot="16200000">
            <a:off x="3580200" y="914040"/>
            <a:ext cx="1677240" cy="61020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5" idx="2"/>
            <a:endCxn id="307" idx="0"/>
          </p:cNvCxnSpPr>
          <p:nvPr/>
        </p:nvCxnSpPr>
        <p:spPr>
          <a:xfrm flipH="1" rot="16200000">
            <a:off x="4057560" y="437400"/>
            <a:ext cx="2972520" cy="2858400"/>
          </a:xfrm>
          <a:prstGeom prst="bentConnector3">
            <a:avLst>
              <a:gd name="adj1" fmla="val 127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609480"/>
            <a:ext cx="838080" cy="5335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etir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Materia Prim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 insum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81080" y="2133720"/>
            <a:ext cx="838440" cy="5331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Fabric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819520"/>
            <a:ext cx="838080" cy="5331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ontro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alidad 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4579920" y="3505320"/>
            <a:ext cx="8380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Almacen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05320" y="1219320"/>
            <a:ext cx="838080" cy="5331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ontro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xtru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7162920" y="2286000"/>
            <a:ext cx="838080" cy="533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errar Or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3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26720" y="2057400"/>
            <a:ext cx="29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4" action="ppaction://hlinksldjump"/>
          </p:cNvPr>
          <p:cNvSpPr/>
          <p:nvPr/>
        </p:nvSpPr>
        <p:spPr>
          <a:xfrm>
            <a:off x="4572000" y="5181480"/>
            <a:ext cx="838080" cy="533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Almacen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71800" y="525780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2133720"/>
            <a:ext cx="12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0080" y="525780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1752480"/>
            <a:ext cx="11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Gráficos d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28195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FE (reasign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6720" y="4876920"/>
            <a:ext cx="49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F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(scra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rId5" action="ppaction://hlinksldjump"/>
          </p:cNvPr>
          <p:cNvSpPr/>
          <p:nvPr/>
        </p:nvSpPr>
        <p:spPr>
          <a:xfrm>
            <a:off x="5791320" y="5791320"/>
            <a:ext cx="8380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ntreg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6" action="ppaction://hlinksldjump"/>
          </p:cNvPr>
          <p:cNvSpPr/>
          <p:nvPr/>
        </p:nvSpPr>
        <p:spPr>
          <a:xfrm>
            <a:off x="5799240" y="4191120"/>
            <a:ext cx="8380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ntreg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153280" y="42670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a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53280" y="52578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 a Planta Recuperado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39" idx="1"/>
            <a:endCxn id="329" idx="1"/>
          </p:cNvCxnSpPr>
          <p:nvPr/>
        </p:nvCxnSpPr>
        <p:spPr>
          <a:xfrm flipH="1" rot="10800000">
            <a:off x="151200" y="875520"/>
            <a:ext cx="381960" cy="1410480"/>
          </a:xfrm>
          <a:prstGeom prst="bentConnector3">
            <a:avLst>
              <a:gd name="adj1" fmla="val -1075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30" idx="3"/>
            <a:endCxn id="331" idx="1"/>
          </p:cNvCxnSpPr>
          <p:nvPr/>
        </p:nvCxnSpPr>
        <p:spPr>
          <a:xfrm>
            <a:off x="2819520" y="2400120"/>
            <a:ext cx="457920" cy="686520"/>
          </a:xfrm>
          <a:prstGeom prst="bentConnector3">
            <a:avLst>
              <a:gd name="adj1" fmla="val 4996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31" idx="3"/>
            <a:endCxn id="332" idx="1"/>
          </p:cNvCxnSpPr>
          <p:nvPr/>
        </p:nvCxnSpPr>
        <p:spPr>
          <a:xfrm>
            <a:off x="4114800" y="3085920"/>
            <a:ext cx="451440" cy="686520"/>
          </a:xfrm>
          <a:prstGeom prst="bentConnector3">
            <a:avLst>
              <a:gd name="adj1" fmla="val 2952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2" name=""/>
          <p:cNvCxnSpPr/>
          <p:nvPr/>
        </p:nvCxnSpPr>
        <p:spPr>
          <a:xfrm>
            <a:off x="5432040" y="3809520"/>
            <a:ext cx="353160" cy="68652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46" idx="3"/>
            <a:endCxn id="347" idx="1"/>
          </p:cNvCxnSpPr>
          <p:nvPr/>
        </p:nvCxnSpPr>
        <p:spPr>
          <a:xfrm flipV="1">
            <a:off x="6651360" y="4419360"/>
            <a:ext cx="1502280" cy="38880"/>
          </a:xfrm>
          <a:prstGeom prst="bentConnector3">
            <a:avLst>
              <a:gd name="adj1" fmla="val 4944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31" idx="3"/>
            <a:endCxn id="337" idx="1"/>
          </p:cNvCxnSpPr>
          <p:nvPr/>
        </p:nvCxnSpPr>
        <p:spPr>
          <a:xfrm>
            <a:off x="4114800" y="3085920"/>
            <a:ext cx="443520" cy="2362680"/>
          </a:xfrm>
          <a:prstGeom prst="bentConnector3">
            <a:avLst>
              <a:gd name="adj1" fmla="val 2071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30" idx="3"/>
            <a:endCxn id="337" idx="1"/>
          </p:cNvCxnSpPr>
          <p:nvPr/>
        </p:nvCxnSpPr>
        <p:spPr>
          <a:xfrm>
            <a:off x="2819520" y="2400480"/>
            <a:ext cx="1738800" cy="3048480"/>
          </a:xfrm>
          <a:prstGeom prst="bentConnector3">
            <a:avLst>
              <a:gd name="adj1" fmla="val 637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37" idx="3"/>
            <a:endCxn id="345" idx="1"/>
          </p:cNvCxnSpPr>
          <p:nvPr/>
        </p:nvCxnSpPr>
        <p:spPr>
          <a:xfrm>
            <a:off x="5424120" y="5448240"/>
            <a:ext cx="353160" cy="61056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45" idx="3"/>
            <a:endCxn id="348" idx="1"/>
          </p:cNvCxnSpPr>
          <p:nvPr/>
        </p:nvCxnSpPr>
        <p:spPr>
          <a:xfrm flipV="1">
            <a:off x="6643440" y="5486040"/>
            <a:ext cx="1510200" cy="572400"/>
          </a:xfrm>
          <a:prstGeom prst="bentConnector3">
            <a:avLst>
              <a:gd name="adj1" fmla="val 49523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29" idx="3"/>
            <a:endCxn id="330" idx="1"/>
          </p:cNvCxnSpPr>
          <p:nvPr/>
        </p:nvCxnSpPr>
        <p:spPr>
          <a:xfrm>
            <a:off x="1371240" y="876240"/>
            <a:ext cx="610200" cy="152496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1449000" y="685800"/>
            <a:ext cx="75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44" idx="2"/>
            <a:endCxn id="329" idx="0"/>
          </p:cNvCxnSpPr>
          <p:nvPr/>
        </p:nvCxnSpPr>
        <p:spPr>
          <a:xfrm rot="5400000">
            <a:off x="2266200" y="-1009800"/>
            <a:ext cx="305280" cy="2934360"/>
          </a:xfrm>
          <a:prstGeom prst="bentConnector3">
            <a:avLst>
              <a:gd name="adj1" fmla="val 2916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4" idx="2"/>
            <a:endCxn id="330" idx="0"/>
          </p:cNvCxnSpPr>
          <p:nvPr/>
        </p:nvCxnSpPr>
        <p:spPr>
          <a:xfrm rot="5400000">
            <a:off x="2228040" y="476280"/>
            <a:ext cx="1829520" cy="1486440"/>
          </a:xfrm>
          <a:prstGeom prst="bentConnector3">
            <a:avLst>
              <a:gd name="adj1" fmla="val 1613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4" idx="2"/>
            <a:endCxn id="332" idx="0"/>
          </p:cNvCxnSpPr>
          <p:nvPr/>
        </p:nvCxnSpPr>
        <p:spPr>
          <a:xfrm flipH="1" rot="16200000">
            <a:off x="2848320" y="1341360"/>
            <a:ext cx="3186720" cy="1113120"/>
          </a:xfrm>
          <a:prstGeom prst="bentConnector3">
            <a:avLst>
              <a:gd name="adj1" fmla="val 8767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 flipH="1">
            <a:off x="2552400" y="1409400"/>
            <a:ext cx="1791360" cy="724680"/>
          </a:xfrm>
          <a:prstGeom prst="bentConnector4">
            <a:avLst>
              <a:gd name="adj1" fmla="val -12763"/>
              <a:gd name="adj2" fmla="val 6838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44" idx="2"/>
            <a:endCxn id="334" idx="0"/>
          </p:cNvCxnSpPr>
          <p:nvPr/>
        </p:nvCxnSpPr>
        <p:spPr>
          <a:xfrm flipH="1" rot="16200000">
            <a:off x="4750560" y="-560160"/>
            <a:ext cx="1967400" cy="3696480"/>
          </a:xfrm>
          <a:prstGeom prst="bentConnector3">
            <a:avLst>
              <a:gd name="adj1" fmla="val 1434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32" idx="3"/>
            <a:endCxn id="334" idx="1"/>
          </p:cNvCxnSpPr>
          <p:nvPr/>
        </p:nvCxnSpPr>
        <p:spPr>
          <a:xfrm flipV="1">
            <a:off x="5432040" y="2552040"/>
            <a:ext cx="1716840" cy="1220040"/>
          </a:xfrm>
          <a:prstGeom prst="bentConnector3">
            <a:avLst>
              <a:gd name="adj1" fmla="val 2606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5638320" y="3809880"/>
            <a:ext cx="29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85240" y="2209680"/>
            <a:ext cx="8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cepcion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05920" y="32004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formació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34" idx="3"/>
            <a:endCxn id="368" idx="1"/>
          </p:cNvCxnSpPr>
          <p:nvPr/>
        </p:nvCxnSpPr>
        <p:spPr>
          <a:xfrm>
            <a:off x="8015040" y="2552760"/>
            <a:ext cx="291240" cy="800640"/>
          </a:xfrm>
          <a:prstGeom prst="bentConnector3">
            <a:avLst>
              <a:gd name="adj1" fmla="val 4752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4647240" y="4267080"/>
            <a:ext cx="73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66560" y="4952880"/>
            <a:ext cx="73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71" idx="0"/>
            <a:endCxn id="346" idx="2"/>
          </p:cNvCxnSpPr>
          <p:nvPr/>
        </p:nvCxnSpPr>
        <p:spPr>
          <a:xfrm flipV="1" rot="16200000">
            <a:off x="6117840" y="4837680"/>
            <a:ext cx="214920" cy="15120"/>
          </a:xfrm>
          <a:prstGeom prst="bentConnector3">
            <a:avLst>
              <a:gd name="adj1" fmla="val 53187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70" idx="0"/>
            <a:endCxn id="332" idx="2"/>
          </p:cNvCxnSpPr>
          <p:nvPr/>
        </p:nvCxnSpPr>
        <p:spPr>
          <a:xfrm flipV="1" rot="16200000">
            <a:off x="4898520" y="4151880"/>
            <a:ext cx="214920" cy="15120"/>
          </a:xfrm>
          <a:prstGeom prst="bentConnector3">
            <a:avLst>
              <a:gd name="adj1" fmla="val 53187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4418640" y="6019920"/>
            <a:ext cx="73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74" idx="0"/>
            <a:endCxn id="337" idx="2"/>
          </p:cNvCxnSpPr>
          <p:nvPr/>
        </p:nvCxnSpPr>
        <p:spPr>
          <a:xfrm flipH="1" flipV="1" rot="5400000">
            <a:off x="4742280" y="5770800"/>
            <a:ext cx="291240" cy="207000"/>
          </a:xfrm>
          <a:prstGeom prst="bentConnector3">
            <a:avLst>
              <a:gd name="adj1" fmla="val 5235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2"/>
            <a:endCxn id="345" idx="2"/>
          </p:cNvCxnSpPr>
          <p:nvPr/>
        </p:nvCxnSpPr>
        <p:spPr>
          <a:xfrm flipH="1" flipV="1" rot="5400000">
            <a:off x="5428080" y="5694840"/>
            <a:ext cx="138960" cy="1426320"/>
          </a:xfrm>
          <a:prstGeom prst="bentConnector3">
            <a:avLst>
              <a:gd name="adj1" fmla="val -14805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304920" y="1447920"/>
            <a:ext cx="104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0"/>
            <a:endCxn id="329" idx="2"/>
          </p:cNvCxnSpPr>
          <p:nvPr/>
        </p:nvCxnSpPr>
        <p:spPr>
          <a:xfrm flipH="1" flipV="1" rot="5400000">
            <a:off x="736200" y="1231200"/>
            <a:ext cx="305640" cy="12780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1143000" y="3048120"/>
            <a:ext cx="10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íneas de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0"/>
            <a:endCxn id="330" idx="2"/>
          </p:cNvCxnSpPr>
          <p:nvPr/>
        </p:nvCxnSpPr>
        <p:spPr>
          <a:xfrm flipH="1" flipV="1" rot="5400000">
            <a:off x="1852200" y="2499480"/>
            <a:ext cx="381960" cy="71532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275640" y="3657600"/>
            <a:ext cx="88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p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trol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81" idx="0"/>
            <a:endCxn id="331" idx="2"/>
          </p:cNvCxnSpPr>
          <p:nvPr/>
        </p:nvCxnSpPr>
        <p:spPr>
          <a:xfrm flipV="1" rot="16200000">
            <a:off x="3554640" y="3492360"/>
            <a:ext cx="305640" cy="2448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00400" y="65527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0a3f"/>
                </a:solidFill>
                <a:latin typeface="Book Antiqua"/>
              </a:rPr>
              <a:t>3.1 Producir Rafia</a:t>
            </a:r>
            <a:endParaRPr b="0" lang="en-US" sz="18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84" name=""/>
          <p:cNvSpPr/>
          <p:nvPr/>
        </p:nvSpPr>
        <p:spPr>
          <a:xfrm>
            <a:off x="7238880" y="3886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P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84" idx="0"/>
            <a:endCxn id="334" idx="2"/>
          </p:cNvCxnSpPr>
          <p:nvPr/>
        </p:nvCxnSpPr>
        <p:spPr>
          <a:xfrm flipV="1">
            <a:off x="7581600" y="2833200"/>
            <a:ext cx="1080" cy="1053360"/>
          </a:xfrm>
          <a:prstGeom prst="bentConnector2">
            <a:avLst/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3276720" y="762120"/>
            <a:ext cx="11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Variables d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86" idx="2"/>
            <a:endCxn id="333" idx="0"/>
          </p:cNvCxnSpPr>
          <p:nvPr/>
        </p:nvCxnSpPr>
        <p:spPr>
          <a:xfrm flipH="1" rot="16200000">
            <a:off x="3733560" y="1028520"/>
            <a:ext cx="305640" cy="7668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2438280" y="1219320"/>
            <a:ext cx="762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22096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specificaciones Raf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89" idx="2"/>
            <a:endCxn id="331" idx="0"/>
          </p:cNvCxnSpPr>
          <p:nvPr/>
        </p:nvCxnSpPr>
        <p:spPr>
          <a:xfrm rot="5400000">
            <a:off x="3771360" y="2438280"/>
            <a:ext cx="305640" cy="45792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37" idx="3"/>
            <a:endCxn id="334" idx="1"/>
          </p:cNvCxnSpPr>
          <p:nvPr/>
        </p:nvCxnSpPr>
        <p:spPr>
          <a:xfrm flipV="1">
            <a:off x="5424120" y="2552040"/>
            <a:ext cx="1724760" cy="2896200"/>
          </a:xfrm>
          <a:prstGeom prst="bentConnector3">
            <a:avLst>
              <a:gd name="adj1" fmla="val 8212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5943600" y="3581280"/>
            <a:ext cx="68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q.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2" idx="2"/>
            <a:endCxn id="346" idx="0"/>
          </p:cNvCxnSpPr>
          <p:nvPr/>
        </p:nvCxnSpPr>
        <p:spPr>
          <a:xfrm rot="5400000">
            <a:off x="6030360" y="3921120"/>
            <a:ext cx="443520" cy="69120"/>
          </a:xfrm>
          <a:prstGeom prst="bentConnector3">
            <a:avLst>
              <a:gd name="adj1" fmla="val 5158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1564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roducción entrega Rafia indicando Orden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(PCP) pesa rafia (present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aliza movimiento de entrada a Bodega Rafia en Sistema, asignando la rafia recibida a Orden de Producción (Recepción contra OP, movimiento tipo R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imprime comprobante de ingreso, el que debe ser firmado por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438280" y="1817640"/>
            <a:ext cx="4800600" cy="3608280"/>
          </a:xfrm>
          <a:prstGeom prst="rect">
            <a:avLst/>
          </a:prstGeom>
          <a:ln w="0">
            <a:noFill/>
          </a:ln>
        </p:spPr>
      </p:pic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01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Inventario, seleccionar funcionalidad Transaccione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267600" cy="398808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18520" y="5824440"/>
            <a:ext cx="23353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código de transacción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267160" cy="393228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11" name=""/>
          <p:cNvSpPr/>
          <p:nvPr/>
        </p:nvSpPr>
        <p:spPr>
          <a:xfrm>
            <a:off x="3271320" y="5410080"/>
            <a:ext cx="3508920" cy="109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artícu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lmacén donde se está recepcionando (Bodega Raf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 recepcionada (en 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Orde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umero de documento de ingr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209680" y="1393920"/>
            <a:ext cx="5257800" cy="3927240"/>
          </a:xfrm>
          <a:prstGeom prst="rect">
            <a:avLst/>
          </a:prstGeom>
          <a:ln w="0">
            <a:noFill/>
          </a:ln>
        </p:spPr>
      </p:pic>
      <p:sp>
        <p:nvSpPr>
          <p:cNvPr id="413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16" name=""/>
          <p:cNvSpPr/>
          <p:nvPr/>
        </p:nvSpPr>
        <p:spPr>
          <a:xfrm>
            <a:off x="3894120" y="5410080"/>
            <a:ext cx="189036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causa (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echa de la trans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r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1564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roducción entrega scrap de Extrusión indicando Orden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(PCP) pesa scrap (present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aliza movimiento de entrada a Bodega Scrap Rafia en Sistema, asignando el scrap recibido a Orden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imprime comprobante de ingreso, el que debe ser firmado por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00400" y="65527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d60a3f"/>
                </a:solidFill>
                <a:latin typeface="Book Antiqua"/>
              </a:rPr>
              <a:t>2. Abastecer</a:t>
            </a:r>
            <a:endParaRPr b="0" lang="en-US" sz="2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152388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mprar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lmace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(a desarroll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495680" y="335268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tregar 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 insu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35812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3" idx="3"/>
            <a:endCxn id="134" idx="1"/>
          </p:cNvCxnSpPr>
          <p:nvPr/>
        </p:nvCxnSpPr>
        <p:spPr>
          <a:xfrm>
            <a:off x="5652720" y="3733560"/>
            <a:ext cx="128160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343400" y="510552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51814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0"/>
            <a:endCxn id="133" idx="2"/>
          </p:cNvCxnSpPr>
          <p:nvPr/>
        </p:nvCxnSpPr>
        <p:spPr>
          <a:xfrm flipH="1" flipV="1" rot="5400000">
            <a:off x="4407120" y="4445280"/>
            <a:ext cx="977040" cy="34380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7" idx="0"/>
            <a:endCxn id="133" idx="2"/>
          </p:cNvCxnSpPr>
          <p:nvPr/>
        </p:nvCxnSpPr>
        <p:spPr>
          <a:xfrm flipV="1" rot="16200000">
            <a:off x="4864320" y="4330800"/>
            <a:ext cx="1053000" cy="64836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4650120" y="190512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querimiento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 des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2"/>
            <a:endCxn id="133" idx="0"/>
          </p:cNvCxnSpPr>
          <p:nvPr/>
        </p:nvCxnSpPr>
        <p:spPr>
          <a:xfrm rot="5400000">
            <a:off x="4729680" y="2546280"/>
            <a:ext cx="1129680" cy="456120"/>
          </a:xfrm>
          <a:prstGeom prst="bentConnector3">
            <a:avLst>
              <a:gd name="adj1" fmla="val 50621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2" idx="3"/>
            <a:endCxn id="133" idx="1"/>
          </p:cNvCxnSpPr>
          <p:nvPr/>
        </p:nvCxnSpPr>
        <p:spPr>
          <a:xfrm>
            <a:off x="2895480" y="1905120"/>
            <a:ext cx="1586880" cy="1829520"/>
          </a:xfrm>
          <a:prstGeom prst="bentConnector3">
            <a:avLst>
              <a:gd name="adj1" fmla="val 5044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971800" y="152388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lmacen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61920" y="228600"/>
            <a:ext cx="11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comp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440" y="1752480"/>
            <a:ext cx="95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4600" y="3962520"/>
            <a:ext cx="83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bastec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9000" y="3962520"/>
            <a:ext cx="75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37040" y="39625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560" y="396252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5" idx="2"/>
            <a:endCxn id="132" idx="0"/>
          </p:cNvCxnSpPr>
          <p:nvPr/>
        </p:nvCxnSpPr>
        <p:spPr>
          <a:xfrm rot="5400000">
            <a:off x="1874520" y="982440"/>
            <a:ext cx="991080" cy="928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6" idx="3"/>
            <a:endCxn id="132" idx="1"/>
          </p:cNvCxnSpPr>
          <p:nvPr/>
        </p:nvCxnSpPr>
        <p:spPr>
          <a:xfrm>
            <a:off x="1106640" y="1904760"/>
            <a:ext cx="64656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7" idx="0"/>
            <a:endCxn id="132" idx="2"/>
          </p:cNvCxnSpPr>
          <p:nvPr/>
        </p:nvCxnSpPr>
        <p:spPr>
          <a:xfrm flipH="1" flipV="1" rot="5400000">
            <a:off x="800640" y="2438640"/>
            <a:ext cx="1677240" cy="13708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0"/>
            <a:endCxn id="132" idx="2"/>
          </p:cNvCxnSpPr>
          <p:nvPr/>
        </p:nvCxnSpPr>
        <p:spPr>
          <a:xfrm flipH="1" flipV="1" rot="5400000">
            <a:off x="1238040" y="2876040"/>
            <a:ext cx="1677240" cy="4960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9" idx="0"/>
            <a:endCxn id="132" idx="2"/>
          </p:cNvCxnSpPr>
          <p:nvPr/>
        </p:nvCxnSpPr>
        <p:spPr>
          <a:xfrm flipV="1" rot="16200000">
            <a:off x="1548000" y="3060720"/>
            <a:ext cx="1677240" cy="12600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0" idx="0"/>
            <a:endCxn id="132" idx="2"/>
          </p:cNvCxnSpPr>
          <p:nvPr/>
        </p:nvCxnSpPr>
        <p:spPr>
          <a:xfrm flipV="1" rot="16200000">
            <a:off x="1893960" y="2714760"/>
            <a:ext cx="1677240" cy="8182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438280" y="1817640"/>
            <a:ext cx="4800600" cy="3608280"/>
          </a:xfrm>
          <a:prstGeom prst="rect">
            <a:avLst/>
          </a:prstGeom>
          <a:ln w="0">
            <a:noFill/>
          </a:ln>
        </p:spPr>
      </p:pic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Inventario, seleccionar funcionalidad Transaccione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267600" cy="398808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18520" y="5824440"/>
            <a:ext cx="23353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código de transacción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267160" cy="3932280"/>
          </a:xfrm>
          <a:prstGeom prst="rect">
            <a:avLst/>
          </a:prstGeom>
          <a:ln w="0">
            <a:noFill/>
          </a:ln>
        </p:spPr>
      </p:pic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34" name=""/>
          <p:cNvSpPr/>
          <p:nvPr/>
        </p:nvSpPr>
        <p:spPr>
          <a:xfrm>
            <a:off x="3271320" y="5410080"/>
            <a:ext cx="3508920" cy="109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artícu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lmacén donde se está recepcionando (Bodega Raf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 recepcionada (en 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Orde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umero de documento de ingr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209680" y="1393920"/>
            <a:ext cx="5257800" cy="3927240"/>
          </a:xfrm>
          <a:prstGeom prst="rect">
            <a:avLst/>
          </a:prstGeom>
          <a:ln w="0">
            <a:noFill/>
          </a:ln>
        </p:spPr>
      </p:pic>
      <p:sp>
        <p:nvSpPr>
          <p:cNvPr id="436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39" name=""/>
          <p:cNvSpPr/>
          <p:nvPr/>
        </p:nvSpPr>
        <p:spPr>
          <a:xfrm>
            <a:off x="3894120" y="5410080"/>
            <a:ext cx="189036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causa (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echa de la trans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r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CP monitorea cumplimiento de OP y recepciones en Bodega Rafi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Una vez cumplidas las cantidades programadas, o bien, por comunicación del Jefe de Turno de Extrusión se determina el cierre de la OP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CP ubica Orden de Producción en BPCS y realiza operación de cierre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42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057400" y="1393920"/>
            <a:ext cx="5486400" cy="39178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46" name=""/>
          <p:cNvSpPr/>
          <p:nvPr/>
        </p:nvSpPr>
        <p:spPr>
          <a:xfrm>
            <a:off x="2057400" y="5489640"/>
            <a:ext cx="541008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módulo Control de Planta, seleccionar funcionalidad Mantenimiento / Entrada deÓrdenes de Fabr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905120" y="1531800"/>
            <a:ext cx="5800680" cy="3954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 flipH="1">
            <a:off x="2895480" y="1157400"/>
            <a:ext cx="106704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51" name=""/>
          <p:cNvSpPr/>
          <p:nvPr/>
        </p:nvSpPr>
        <p:spPr>
          <a:xfrm>
            <a:off x="2057400" y="5657760"/>
            <a:ext cx="5410080" cy="7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el campo Situar en Pedid, anotar el número de la Orden 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el botón “Situar en” de la barra de herramientas (indicado con la flec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Sistema ubicará la Orden de Producción dese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486400" cy="38973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5489640"/>
            <a:ext cx="54100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r a Menúa Archivo y seleccionar opción “Cer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133720" y="1454040"/>
            <a:ext cx="5410080" cy="38433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 flipH="1">
            <a:off x="6857640" y="2286000"/>
            <a:ext cx="15238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62" name=""/>
          <p:cNvSpPr/>
          <p:nvPr/>
        </p:nvSpPr>
        <p:spPr>
          <a:xfrm>
            <a:off x="2057400" y="5489640"/>
            <a:ext cx="54100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botón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276640" y="1432080"/>
            <a:ext cx="5114880" cy="36334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 flipH="1">
            <a:off x="6705360" y="2286000"/>
            <a:ext cx="14475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5489640"/>
            <a:ext cx="54100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presentará un mensaje solicitando la confirmación; presionar botón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 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cibe requerimiento de Producción vía Sistema (que identifica Orden d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prepara MP e insumos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pesa MP e insumos a entregar al momento de la entrega (presente receptor d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gistra peso y cantidades reales en Sistema 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aliza movimiento de salida en Sistema , asignando las MP e insumos a Orden de Producción solicitante (consumo contra Orden de Producción, movimiento I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imprime comprobante de salida, el que debe ser firmado por receptor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4267080" y="57150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8 Entreg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cibe requerimiento de Tejedurías vía Sistema (que identifica Orden d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prepara rafias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pesa rafias a entregar al momento de la entrega (presente receptor de Tejedurías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real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aliza movimiento de salida en Sistema, asignando las rafias a Orden de Producción solicitante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imprime comprobante de salida, el que debe ser firmado por receptor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9 Entreg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comunica presencia de scrap a Planta Recuperador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pesa scrap a entregar al momento de la entrega (presente receptor de Planta Recuperadora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real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aliza movimiento de salida en Sistema, asignando el scrap a ubicación Bodega Entrada Planta Recuperador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imprime comprobante de salida, el que debe ser firmado por receptor de Planta Recuperador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76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6. Costear Product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(En proceso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79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09680" y="1628640"/>
            <a:ext cx="5181840" cy="3895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Inventario, seleccionar funcionalidad Transaccione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791320" cy="3709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67" name=""/>
          <p:cNvSpPr/>
          <p:nvPr/>
        </p:nvSpPr>
        <p:spPr>
          <a:xfrm>
            <a:off x="3589560" y="5791320"/>
            <a:ext cx="2285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código de transacción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24000" y="1523880"/>
            <a:ext cx="5343480" cy="38228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72" name=""/>
          <p:cNvSpPr/>
          <p:nvPr/>
        </p:nvSpPr>
        <p:spPr>
          <a:xfrm>
            <a:off x="2600280" y="5410080"/>
            <a:ext cx="4356360" cy="109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artícu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lmacén donde de donde se está consumieno (Bodega MP e Insum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 entregada (en 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Orde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documento de salida (Guía de Consum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562720" cy="3981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3894120" y="5595840"/>
            <a:ext cx="189036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causa (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echa de la trans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r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90720" y="9144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lanificar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(a desarroll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6019920" y="411480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enerar 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Extru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0574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enerar 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Termi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048120"/>
            <a:ext cx="1143000" cy="7617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enerar 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Tejedu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0" idx="3"/>
            <a:endCxn id="182" idx="0"/>
          </p:cNvCxnSpPr>
          <p:nvPr/>
        </p:nvCxnSpPr>
        <p:spPr>
          <a:xfrm>
            <a:off x="2133360" y="1294920"/>
            <a:ext cx="1181880" cy="76284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81" idx="3"/>
            <a:endCxn id="186" idx="1"/>
          </p:cNvCxnSpPr>
          <p:nvPr/>
        </p:nvCxnSpPr>
        <p:spPr>
          <a:xfrm>
            <a:off x="7176600" y="4495320"/>
            <a:ext cx="901080" cy="1220040"/>
          </a:xfrm>
          <a:prstGeom prst="bentConnector3">
            <a:avLst>
              <a:gd name="adj1" fmla="val 492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8077320" y="56386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2" idx="3"/>
          </p:cNvCxnSpPr>
          <p:nvPr/>
        </p:nvCxnSpPr>
        <p:spPr>
          <a:xfrm>
            <a:off x="3886200" y="2437920"/>
            <a:ext cx="403920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3" idx="3"/>
          </p:cNvCxnSpPr>
          <p:nvPr/>
        </p:nvCxnSpPr>
        <p:spPr>
          <a:xfrm>
            <a:off x="5562360" y="3428640"/>
            <a:ext cx="243900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8001000" y="236232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01000" y="33526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57150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Programación y Control de l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1" idx="0"/>
            <a:endCxn id="181" idx="2"/>
          </p:cNvCxnSpPr>
          <p:nvPr/>
        </p:nvCxnSpPr>
        <p:spPr>
          <a:xfrm flipH="1" flipV="1" rot="5400000">
            <a:off x="4597920" y="3721320"/>
            <a:ext cx="824760" cy="3162960"/>
          </a:xfrm>
          <a:prstGeom prst="bentConnector3">
            <a:avLst>
              <a:gd name="adj1" fmla="val 5082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91" idx="0"/>
            <a:endCxn id="183" idx="2"/>
          </p:cNvCxnSpPr>
          <p:nvPr/>
        </p:nvCxnSpPr>
        <p:spPr>
          <a:xfrm flipH="1" flipV="1" rot="5400000">
            <a:off x="3256920" y="3980880"/>
            <a:ext cx="1905840" cy="1562760"/>
          </a:xfrm>
          <a:prstGeom prst="bentConnector3">
            <a:avLst>
              <a:gd name="adj1" fmla="val 4999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91" idx="0"/>
            <a:endCxn id="182" idx="2"/>
          </p:cNvCxnSpPr>
          <p:nvPr/>
        </p:nvCxnSpPr>
        <p:spPr>
          <a:xfrm flipV="1" rot="16200000">
            <a:off x="1923480" y="4209480"/>
            <a:ext cx="2896200" cy="11484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0"/>
            <a:endCxn id="180" idx="2"/>
          </p:cNvCxnSpPr>
          <p:nvPr/>
        </p:nvCxnSpPr>
        <p:spPr>
          <a:xfrm flipV="1" rot="16200000">
            <a:off x="475920" y="2761560"/>
            <a:ext cx="4039200" cy="1867680"/>
          </a:xfrm>
          <a:prstGeom prst="bentConnector3">
            <a:avLst>
              <a:gd name="adj1" fmla="val 30733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85800" y="57150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Planficación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/>
          <p:nvPr/>
        </p:nvCxnSpPr>
        <p:spPr>
          <a:xfrm flipH="1" flipV="1" rot="5400000">
            <a:off x="-895680" y="3485880"/>
            <a:ext cx="4039200" cy="419760"/>
          </a:xfrm>
          <a:prstGeom prst="bentConnector3">
            <a:avLst>
              <a:gd name="adj1" fmla="val 49995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00400" y="647712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0a3f"/>
                </a:solidFill>
                <a:latin typeface="Book Antiqua"/>
              </a:rPr>
              <a:t>1. Planificar y Programar Operaciones</a:t>
            </a:r>
            <a:endParaRPr b="0" lang="en-US" sz="1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99" name=""/>
          <p:cNvSpPr/>
          <p:nvPr/>
        </p:nvSpPr>
        <p:spPr>
          <a:xfrm>
            <a:off x="153000" y="457200"/>
            <a:ext cx="50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rde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9" idx="2"/>
            <a:endCxn id="180" idx="1"/>
          </p:cNvCxnSpPr>
          <p:nvPr/>
        </p:nvCxnSpPr>
        <p:spPr>
          <a:xfrm flipH="1" rot="16200000">
            <a:off x="430920" y="736200"/>
            <a:ext cx="533880" cy="58500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2247120" y="1295280"/>
            <a:ext cx="85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Planif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0840" y="838080"/>
            <a:ext cx="11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nóstico de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3" idx="2"/>
            <a:endCxn id="180" idx="0"/>
          </p:cNvCxnSpPr>
          <p:nvPr/>
        </p:nvCxnSpPr>
        <p:spPr>
          <a:xfrm rot="5400000">
            <a:off x="2217960" y="-351720"/>
            <a:ext cx="610200" cy="192312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06" name=""/>
          <p:cNvCxnSpPr/>
          <p:nvPr/>
        </p:nvCxnSpPr>
        <p:spPr>
          <a:xfrm flipV="1">
            <a:off x="2133720" y="913680"/>
            <a:ext cx="5487120" cy="229320"/>
          </a:xfrm>
          <a:prstGeom prst="bentConnector3">
            <a:avLst>
              <a:gd name="adj1" fmla="val 4999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80" idx="3"/>
            <a:endCxn id="183" idx="0"/>
          </p:cNvCxnSpPr>
          <p:nvPr/>
        </p:nvCxnSpPr>
        <p:spPr>
          <a:xfrm>
            <a:off x="2133360" y="1294920"/>
            <a:ext cx="2858040" cy="175356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80" idx="3"/>
            <a:endCxn id="181" idx="0"/>
          </p:cNvCxnSpPr>
          <p:nvPr/>
        </p:nvCxnSpPr>
        <p:spPr>
          <a:xfrm>
            <a:off x="2133720" y="1295280"/>
            <a:ext cx="4457880" cy="280584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4153680" y="1295280"/>
            <a:ext cx="74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57840" y="1295280"/>
            <a:ext cx="69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Pablo Gimeno Vogel</dc:creator>
  <dc:description/>
  <dc:language>en-US</dc:language>
  <cp:lastModifiedBy>mwaissbluth</cp:lastModifiedBy>
  <dcterms:modified xsi:type="dcterms:W3CDTF">2005-08-08T14:03:24Z</dcterms:modified>
  <cp:revision>581</cp:revision>
  <dc:subject/>
  <dc:title>Idef Extrusión</dc:title>
</cp:coreProperties>
</file>