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77F-1BFD-44FF-AB40-737B6F12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AF1-298B-42B3-8CD6-26CBE65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C74-3CAC-4343-8F19-E08B0D30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252-DA3C-4598-9D9D-BE0F01B0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74A-27B3-49A4-A600-B29C595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EEC-FC85-40DC-9CCE-A6A34E30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B30-CDCD-4568-89F0-5E1F1DE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D3D-06E9-4AF7-81EF-C509E8E8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857-1E33-436C-B18E-A09A1B9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D5F-D748-4957-833A-5B0776C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B99-AE06-4A21-B7F6-CFCC4CE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056-39F6-45D2-9EB6-3D8E626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9EE-0396-48F9-BD46-42F32AFF2A3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hyperlink" Target="https://palena.sii.cl/cvc/dte/menu.html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s://palena.sii.cl/cvc/dte/menu.html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2.wmf"/><Relationship Id="rId8" Type="http://schemas.openxmlformats.org/officeDocument/2006/relationships/hyperlink" Target="https://palena.sii.cl/cvc/dte/menu.html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whoosh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27302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ura Electrónica Legal 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352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3048120"/>
            <a:ext cx="1371240" cy="918000"/>
            <a:chOff x="2514600" y="3048120"/>
            <a:chExt cx="1371240" cy="91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514600" y="3048120"/>
              <a:ext cx="1371240" cy="6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59320" y="368964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Emi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81480" y="3124080"/>
            <a:ext cx="1371240" cy="879480"/>
            <a:chOff x="5181480" y="3124080"/>
            <a:chExt cx="1371240" cy="8794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81480" y="3124080"/>
              <a:ext cx="1371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286600" y="37270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38480" y="4724280"/>
            <a:ext cx="1295280" cy="1228680"/>
            <a:chOff x="4038480" y="4724280"/>
            <a:chExt cx="1295280" cy="1228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038480" y="472428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438440" y="571500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5720" y="2133720"/>
            <a:ext cx="7827840" cy="1294920"/>
            <a:chOff x="585720" y="2133720"/>
            <a:chExt cx="7827840" cy="1294920"/>
          </a:xfrm>
        </p:grpSpPr>
        <p:grpSp>
          <p:nvGrpSpPr>
            <p:cNvPr id="55" name=""/>
            <p:cNvGrpSpPr/>
            <p:nvPr/>
          </p:nvGrpSpPr>
          <p:grpSpPr>
            <a:xfrm>
              <a:off x="585720" y="2133720"/>
              <a:ext cx="1928520" cy="1066680"/>
              <a:chOff x="585720" y="2133720"/>
              <a:chExt cx="1928520" cy="106668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1752120" y="2743200"/>
                <a:ext cx="76212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585720" y="2133720"/>
                <a:ext cx="1241280" cy="962280"/>
                <a:chOff x="585720" y="2133720"/>
                <a:chExt cx="1241280" cy="96228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685800" y="213372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85720" y="2819520"/>
                  <a:ext cx="1241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V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6553080" y="2209680"/>
              <a:ext cx="1860480" cy="1218960"/>
              <a:chOff x="6553080" y="2209680"/>
              <a:chExt cx="1860480" cy="12189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012080" y="2209680"/>
                <a:ext cx="1401480" cy="962280"/>
                <a:chOff x="7012080" y="2209680"/>
                <a:chExt cx="1401480" cy="96228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162560" y="220968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7012080" y="2895480"/>
                  <a:ext cx="14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Comp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 flipV="1">
                <a:off x="6553080" y="3123720"/>
                <a:ext cx="533520" cy="304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33520" y="3581280"/>
            <a:ext cx="2138400" cy="982800"/>
            <a:chOff x="533520" y="3581280"/>
            <a:chExt cx="2138400" cy="98280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3581280"/>
              <a:ext cx="1675800" cy="982800"/>
              <a:chOff x="533520" y="3581280"/>
              <a:chExt cx="1675800" cy="9828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33520" y="3581280"/>
                <a:ext cx="990360" cy="982800"/>
                <a:chOff x="533520" y="3581280"/>
                <a:chExt cx="990360" cy="98280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520" y="3581280"/>
                  <a:ext cx="99036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621000" y="4287600"/>
                  <a:ext cx="825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Impr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1599840" y="3733560"/>
                <a:ext cx="60948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522080" y="3886200"/>
              <a:ext cx="1149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Fact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Pre-impre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57600" y="3809880"/>
            <a:ext cx="1471320" cy="838440"/>
            <a:chOff x="3657600" y="3809880"/>
            <a:chExt cx="1471320" cy="838440"/>
          </a:xfrm>
        </p:grpSpPr>
        <p:sp>
          <p:nvSpPr>
            <p:cNvPr id="73" name=""/>
            <p:cNvSpPr/>
            <p:nvPr/>
          </p:nvSpPr>
          <p:spPr>
            <a:xfrm>
              <a:off x="3657600" y="3809880"/>
              <a:ext cx="53352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1320" y="39625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Timbre de cu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90720" y="3962520"/>
            <a:ext cx="7269840" cy="2092320"/>
            <a:chOff x="990720" y="3962520"/>
            <a:chExt cx="7269840" cy="209232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99072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685800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2133720" y="4038480"/>
              <a:ext cx="761760" cy="1067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962520"/>
              <a:ext cx="68580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5181480"/>
              <a:ext cx="1523880" cy="4572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320" y="518112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7680" y="4572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7640" y="43434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371600"/>
            <a:ext cx="3981600" cy="1600200"/>
            <a:chOff x="2438280" y="1371600"/>
            <a:chExt cx="3981600" cy="1600200"/>
          </a:xfrm>
        </p:grpSpPr>
        <p:grpSp>
          <p:nvGrpSpPr>
            <p:cNvPr id="85" name=""/>
            <p:cNvGrpSpPr/>
            <p:nvPr/>
          </p:nvGrpSpPr>
          <p:grpSpPr>
            <a:xfrm>
              <a:off x="2438280" y="1828800"/>
              <a:ext cx="3981600" cy="1143000"/>
              <a:chOff x="2438280" y="1828800"/>
              <a:chExt cx="3981600" cy="1143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438280" y="1828800"/>
                <a:ext cx="552600" cy="1066680"/>
                <a:chOff x="2438280" y="1828800"/>
                <a:chExt cx="552600" cy="1066680"/>
              </a:xfrm>
            </p:grpSpPr>
            <p:graphicFrame>
              <p:nvGraphicFramePr>
                <p:cNvPr id="87" name=""/>
                <p:cNvGraphicFramePr/>
                <p:nvPr/>
              </p:nvGraphicFramePr>
              <p:xfrm>
                <a:off x="2438280" y="1828800"/>
                <a:ext cx="552600" cy="426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" name=""/>
                <p:cNvSpPr/>
                <p:nvPr/>
              </p:nvSpPr>
              <p:spPr>
                <a:xfrm flipH="1" flipV="1">
                  <a:off x="2742840" y="2438280"/>
                  <a:ext cx="152280" cy="457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124080" y="1828800"/>
                <a:ext cx="3295800" cy="1143000"/>
                <a:chOff x="3124080" y="1828800"/>
                <a:chExt cx="3295800" cy="1143000"/>
              </a:xfrm>
            </p:grpSpPr>
            <p:graphicFrame>
              <p:nvGraphicFramePr>
                <p:cNvPr id="91" name=""/>
                <p:cNvGraphicFramePr/>
                <p:nvPr/>
              </p:nvGraphicFramePr>
              <p:xfrm>
                <a:off x="5867280" y="1828800"/>
                <a:ext cx="552600" cy="426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867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" name=""/>
                <p:cNvSpPr/>
                <p:nvPr/>
              </p:nvSpPr>
              <p:spPr>
                <a:xfrm>
                  <a:off x="3124080" y="2133720"/>
                  <a:ext cx="251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019560" y="2438280"/>
                  <a:ext cx="152280" cy="5335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3657600" y="13716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Documento impreso con timbre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-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38480" y="4978440"/>
            <a:ext cx="1295280" cy="1228680"/>
            <a:chOff x="4038480" y="4978440"/>
            <a:chExt cx="1295280" cy="1228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038480" y="497844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438440" y="596916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082960"/>
            <a:ext cx="1410840" cy="879480"/>
            <a:chOff x="6858000" y="2082960"/>
            <a:chExt cx="1410840" cy="879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858000" y="2082960"/>
              <a:ext cx="1371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360" y="268596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 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98880" y="3355920"/>
            <a:ext cx="2946240" cy="655560"/>
            <a:chOff x="3098880" y="3355920"/>
            <a:chExt cx="2946240" cy="655560"/>
          </a:xfrm>
        </p:grpSpPr>
        <p:sp>
          <p:nvSpPr>
            <p:cNvPr id="104" name=""/>
            <p:cNvSpPr/>
            <p:nvPr/>
          </p:nvSpPr>
          <p:spPr>
            <a:xfrm>
              <a:off x="3098880" y="3355920"/>
              <a:ext cx="294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8880" y="3355920"/>
              <a:ext cx="2946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  </a:t>
              </a:r>
              <a:r>
                <a:rPr b="0" lang="es-ES" sz="3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683160"/>
            <a:ext cx="1432080" cy="918000"/>
            <a:chOff x="457200" y="3683160"/>
            <a:chExt cx="1432080" cy="918000"/>
          </a:xfrm>
        </p:grpSpPr>
        <p:grpSp>
          <p:nvGrpSpPr>
            <p:cNvPr id="107" name=""/>
            <p:cNvGrpSpPr/>
            <p:nvPr/>
          </p:nvGrpSpPr>
          <p:grpSpPr>
            <a:xfrm>
              <a:off x="457200" y="3683160"/>
              <a:ext cx="1371240" cy="918000"/>
              <a:chOff x="457200" y="3683160"/>
              <a:chExt cx="1371240" cy="918000"/>
            </a:xfrm>
          </p:grpSpPr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683160"/>
                <a:ext cx="1371240" cy="6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1920" y="432468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mi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Factura Electrónic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7753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105160" y="3378240"/>
            <a:ext cx="1716840" cy="879480"/>
            <a:chOff x="5105160" y="3378240"/>
            <a:chExt cx="1716840" cy="879480"/>
          </a:xfrm>
        </p:grpSpPr>
        <p:grpSp>
          <p:nvGrpSpPr>
            <p:cNvPr id="112" name=""/>
            <p:cNvGrpSpPr/>
            <p:nvPr/>
          </p:nvGrpSpPr>
          <p:grpSpPr>
            <a:xfrm>
              <a:off x="5105160" y="3378240"/>
              <a:ext cx="1716840" cy="879480"/>
              <a:chOff x="5105160" y="3378240"/>
              <a:chExt cx="1716840" cy="879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378240"/>
                <a:ext cx="137160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105160" y="3981240"/>
                <a:ext cx="171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Receptor Electró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" descr="Factura Electrónic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3454200"/>
              <a:ext cx="3654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38080" y="1756440"/>
            <a:ext cx="4304160" cy="4644360"/>
            <a:chOff x="838080" y="1756440"/>
            <a:chExt cx="4304160" cy="4644360"/>
          </a:xfrm>
        </p:grpSpPr>
        <p:sp>
          <p:nvSpPr>
            <p:cNvPr id="117" name=""/>
            <p:cNvSpPr/>
            <p:nvPr/>
          </p:nvSpPr>
          <p:spPr>
            <a:xfrm>
              <a:off x="838080" y="551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Enrolamiento al 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5245400">
              <a:off x="1153080" y="2554560"/>
              <a:ext cx="39607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0"/>
                  </a:moveTo>
                  <a:arcTo wR="10800" hR="10800" stAng="-5430657" swAng="5919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0"/>
                  </a:moveTo>
                  <a:arcTo wR="10800" hR="10800" stAng="-5430657" swAng="5919324"/>
                </a:path>
              </a:pathLst>
            </a:custGeom>
            <a:noFill/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44920"/>
            <a:ext cx="2133720" cy="1143000"/>
            <a:chOff x="1828800" y="4444920"/>
            <a:chExt cx="2133720" cy="1143000"/>
          </a:xfrm>
        </p:grpSpPr>
        <p:sp>
          <p:nvSpPr>
            <p:cNvPr id="120" name=""/>
            <p:cNvSpPr/>
            <p:nvPr/>
          </p:nvSpPr>
          <p:spPr>
            <a:xfrm>
              <a:off x="1828800" y="4444920"/>
              <a:ext cx="213372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0544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Rango de fol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6680" y="1244520"/>
            <a:ext cx="3429000" cy="2209680"/>
            <a:chOff x="1066680" y="1244520"/>
            <a:chExt cx="3429000" cy="220968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1066680" y="1993680"/>
              <a:ext cx="1568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743200" y="1244520"/>
              <a:ext cx="1752480" cy="761760"/>
            </a:xfrm>
            <a:prstGeom prst="wedgeRectCallout">
              <a:avLst>
                <a:gd name="adj1" fmla="val -83967"/>
                <a:gd name="adj2" fmla="val 8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actur@ Electrónica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timbre electró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y firm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0733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2844720"/>
            <a:ext cx="2743200" cy="1981080"/>
            <a:chOff x="2362320" y="2844720"/>
            <a:chExt cx="2743200" cy="1981080"/>
          </a:xfrm>
        </p:grpSpPr>
        <p:sp>
          <p:nvSpPr>
            <p:cNvPr id="127" name=""/>
            <p:cNvSpPr/>
            <p:nvPr/>
          </p:nvSpPr>
          <p:spPr>
            <a:xfrm flipH="1" flipV="1">
              <a:off x="2362320" y="2997000"/>
              <a:ext cx="1752480" cy="182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95480" y="3606480"/>
              <a:ext cx="990360" cy="609480"/>
              <a:chOff x="2895480" y="3606480"/>
              <a:chExt cx="990360" cy="609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895480" y="3606480"/>
                <a:ext cx="838080" cy="457200"/>
                <a:chOff x="2895480" y="3606480"/>
                <a:chExt cx="838080" cy="457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360648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94480" y="369072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971440" y="3682800"/>
                <a:ext cx="838080" cy="457200"/>
                <a:chOff x="2971440" y="3682800"/>
                <a:chExt cx="838080" cy="4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971440" y="368280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70440" y="37670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47760" y="3758760"/>
                <a:ext cx="838080" cy="457200"/>
                <a:chOff x="3047760" y="3758760"/>
                <a:chExt cx="838080" cy="457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47760" y="375876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46760" y="384300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 flipV="1">
              <a:off x="2666880" y="2844720"/>
              <a:ext cx="243864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05320" y="3073320"/>
              <a:ext cx="838080" cy="457200"/>
              <a:chOff x="3505320" y="3073320"/>
              <a:chExt cx="83808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073320"/>
                <a:ext cx="838080" cy="45720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04320" y="3157560"/>
                <a:ext cx="58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-f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742840" y="1244520"/>
            <a:ext cx="4131000" cy="2057040"/>
            <a:chOff x="2742840" y="1244520"/>
            <a:chExt cx="4131000" cy="2057040"/>
          </a:xfrm>
        </p:grpSpPr>
        <p:grpSp>
          <p:nvGrpSpPr>
            <p:cNvPr id="143" name=""/>
            <p:cNvGrpSpPr/>
            <p:nvPr/>
          </p:nvGrpSpPr>
          <p:grpSpPr>
            <a:xfrm>
              <a:off x="4191120" y="2463480"/>
              <a:ext cx="609480" cy="533520"/>
              <a:chOff x="4191120" y="2463480"/>
              <a:chExt cx="609480" cy="533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3400" y="2463480"/>
                <a:ext cx="393480" cy="533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91120" y="2463480"/>
                <a:ext cx="609480" cy="48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 flipH="1" flipV="1">
              <a:off x="2742840" y="2463120"/>
              <a:ext cx="2514600" cy="83844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95120" y="2234880"/>
              <a:ext cx="3886200" cy="763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76920" y="1701720"/>
              <a:ext cx="609480" cy="533160"/>
              <a:chOff x="4876920" y="1701720"/>
              <a:chExt cx="609480" cy="5331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29200" y="1701720"/>
                <a:ext cx="393480" cy="533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76920" y="1701720"/>
                <a:ext cx="609480" cy="48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5791320" y="1244520"/>
              <a:ext cx="1082520" cy="550800"/>
              <a:chOff x="5791320" y="1244520"/>
              <a:chExt cx="1082520" cy="5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791320" y="1260360"/>
                <a:ext cx="106668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1244520"/>
                <a:ext cx="1082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Ejemplar impreso del doc. electrón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5486400" y="185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76560" y="1930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04760" y="2743200"/>
            <a:ext cx="7237440" cy="2286000"/>
            <a:chOff x="1904760" y="2743200"/>
            <a:chExt cx="7237440" cy="2286000"/>
          </a:xfrm>
        </p:grpSpPr>
        <p:sp>
          <p:nvSpPr>
            <p:cNvPr id="157" name=""/>
            <p:cNvSpPr/>
            <p:nvPr/>
          </p:nvSpPr>
          <p:spPr>
            <a:xfrm flipH="1" flipV="1">
              <a:off x="1904760" y="3886200"/>
              <a:ext cx="205740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438280" y="4038480"/>
              <a:ext cx="838440" cy="497160"/>
              <a:chOff x="2438280" y="4038480"/>
              <a:chExt cx="838440" cy="49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4038480"/>
                <a:ext cx="838440" cy="457200"/>
              </a:xfrm>
              <a:prstGeom prst="flowChartOnlineStorage">
                <a:avLst/>
              </a:prstGeom>
              <a:solidFill>
                <a:srgbClr val="efaa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4038480"/>
                <a:ext cx="73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5410080" y="4038480"/>
              <a:ext cx="68580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537160" y="4230720"/>
              <a:ext cx="863640" cy="497160"/>
              <a:chOff x="5537160" y="4230720"/>
              <a:chExt cx="863640" cy="49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537160" y="4230720"/>
                <a:ext cx="838080" cy="457200"/>
              </a:xfrm>
              <a:prstGeom prst="flowChartOnlineStorage">
                <a:avLst/>
              </a:prstGeom>
              <a:solidFill>
                <a:srgbClr val="facc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62720" y="4230720"/>
                <a:ext cx="838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740720" y="3352680"/>
              <a:ext cx="1401480" cy="962280"/>
              <a:chOff x="7740720" y="3352680"/>
              <a:chExt cx="1401480" cy="962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891200" y="3352680"/>
                <a:ext cx="99072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7740720" y="4038480"/>
                <a:ext cx="140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de 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077320" y="2743200"/>
              <a:ext cx="2286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09720" y="3225960"/>
            <a:ext cx="2591280" cy="3006720"/>
            <a:chOff x="5409720" y="3225960"/>
            <a:chExt cx="2591280" cy="300672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6934320" y="543564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225960"/>
              <a:ext cx="76320" cy="2057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09720" y="551160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1640" y="15192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ción del sistema factura elect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nuevo modelo, los contribuyentes deben estar enrolados en el SII como emisores de documentos electró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obliga a generar todos sus documentos en forma electrónica pero sí a recibir DTEs de otros emisores y a emitir los libros de compra y venta en forma electr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lios se conseguirán a través del Web del S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TEs emitidos y recibidos deberán ser almacenados en forma electrónica, no será necesario almacenar dichos documentos en pa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DTE al SII a través de internet en format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representación en papel del DTE al receptor no enrolado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ción Actual vs Modelo 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drawingml/2006/table">
            <a:tbl>
              <a:tblPr/>
              <a:tblGrid>
                <a:gridCol w="2563920"/>
                <a:gridCol w="3038400"/>
                <a:gridCol w="354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CTRO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ción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impreso en l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do a través del Web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ado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oficinas del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u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papel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, durante 6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. SII ejemplar tributario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 para sus propósitos y par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es solicitudes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de Valid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de autorización en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ción, recepción y valide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ión del doc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autocopiativo, formulario continu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oliado, impresora matriz de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normal, hoja suelta, impresora lás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ducción de Costos 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impresión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mbraje, administración de folios y distribución en los puntos de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macenamiento durante 6 años de libros, documentos emitidos y recib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, ensobrado y cor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Indir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y almacenamiento de facturas en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ción de errores en la impresión y entrega d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en blanco (multas y trámi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impresos (Reemisiones, legalizaciones, reenvíos e incluso  pérdida del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eficiencia y control en los procesos de emisión y recepción de documentos tribu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joras en atención a cl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servicio ante respuesta de consultas sobre facturación, clientes y empleados con acceso en línea a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nvió inmediato de copias, ya que el original es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adjuntar detalles de facturación extensos ya sean guías de despacho  u ordenes de trabajo asociadas a un doc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waissbluth</cp:lastModifiedBy>
  <dcterms:modified xsi:type="dcterms:W3CDTF">2005-08-08T14:0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