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9AA98-5596-4690-B611-4B324CF5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116BE-AD98-4238-96A9-A89FF98D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A9854-AE32-476F-ADCE-BE937305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EFEF3-2B4A-4D80-A7F2-AEFFF337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9B1BE-1593-41FC-B75C-45E4E92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287D3-24D4-4C0D-95D4-1FB36DEC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F3D3E-1F84-4CC9-8ACD-127796D3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547F4-37D8-4E61-B538-8D5A89F9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3DF73-09F1-4AA7-876C-39A61BA6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349D9-5482-4BCC-9490-45E08C8A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4B058-6216-4E1C-9457-1464C119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911AC-32CE-4E90-A0A8-0855BAB9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3N, Tecnologías de Información II    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A362-754A-47A2-BB1C-896BC3761D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990720"/>
            <a:ext cx="842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l Impacto de las Tecnologías de Información</a:t>
            </a:r>
            <a:br>
              <a:rPr sz="3600"/>
            </a:b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(Basado en: “Three Measures for IT Impact” Brynjolfson (MIT)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8135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Gestión y Dirección de Empresas (MB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3N – Tecnologías de Información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 a Estudi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´s han incrementado la productivida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´s han mejorado la rentabilidad de los negoci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´s han creado valor a los consumid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1750680"/>
            <a:ext cx="38340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 produ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 las estrategias competi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l consumi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" y="5794200"/>
            <a:ext cx="68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o: Three measures for IT impact, Brynjolfson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reación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rea directa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ividad crea valor al mejorar la relación entre outputs e inpu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ntabilidad y excedente del consumidor redistribuyen val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riable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185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tock de TI´s: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 una medida de las tecnologías de información, compuesta po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Valor de Equipos: valor de los equipos (TI´s) de la empres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Mano de obra de TI´s: proporción del presupuesto de las TI´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Capital de Computadores + 3 Personal de 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Agregado: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ventas totales menos gastos no laborales (gastos totales menos interés, impuesto y depreciación, menos la mano de obra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ano de Ob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oría de Prod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66764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empresa posee un método para transformar varios inputs en outputs llamada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función de producción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050920" y="3068640"/>
            <a:ext cx="48974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oducto Marginal Ne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36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 marginal: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la cantidad de producto (output) adicional lograda por incrementar marginalmente una unidad de recurso (input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32000" y="4292640"/>
                <a:ext cx="23274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acion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nvertir en aquellos inputs que proporcionen mayor val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quilibrio: el producto marginal neto para cada input deberá ser cer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i es &gt; 0, debería invertir en aquellos inpu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952560" y="48690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7640" y="45813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s TI´s tienen un producto marginal net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itivo, la inversión en ellas generará valor, y por ende incrementará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idencia Empír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792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sando una función de producción del t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33880" y="33796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 agr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676520" y="31507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1418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 de las TI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89480" y="3319560"/>
            <a:ext cx="228600" cy="74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7080" y="3776760"/>
            <a:ext cx="176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 del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n TI´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495320" y="331956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4520" y="35701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5937120" y="337932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0200" y="4724280"/>
            <a:ext cx="242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1   0.088  (0.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2   0.212  (0.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3   0.663  (0.0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5520" y="4724280"/>
            <a:ext cx="13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2 = 0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= 1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66880" y="2637000"/>
                <a:ext cx="32734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periencia chile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os estudios realizados: análisis del SII (Carlos Martínez) tesis del MGPP, impacto de las TI en sectores construcción y plástico en Chile (Vargas y Recabaren) memorias de títu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indicios de un impacto positivo de las la TI, pero las conclusiones de Brynjolfson se mantien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estudió el SII desde el punto de vista de las declaraciones de renta y otras vía Internet para los años 1996 a 200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stos de declaración por Internet bajan desde US$ 1,10 en papel, US$ 0,40 en diskette a US$ 0,13 por Inter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estudió el impacto de excedente en los años 1990 a 2001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ced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4436640"/>
            <a:ext cx="841536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 posible observar que el ahorro de costos marginales (productividad) es positivo y esto gener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or excedente del consum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joras en produ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35040" y="1797120"/>
          <a:ext cx="7461360" cy="1958760"/>
        </p:xfrm>
        <a:graphic>
          <a:graphicData uri="http://schemas.openxmlformats.org/drawingml/2006/table">
            <a:tbl>
              <a:tblPr/>
              <a:tblGrid>
                <a:gridCol w="1233360"/>
                <a:gridCol w="889200"/>
                <a:gridCol w="684000"/>
                <a:gridCol w="1095480"/>
                <a:gridCol w="684360"/>
                <a:gridCol w="1095120"/>
                <a:gridCol w="685800"/>
                <a:gridCol w="10940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CMg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dente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dente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dente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ación 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ación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7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8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ación Jur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9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97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7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relación entre outputs e inpu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de med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Unidades físic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Unidades monetari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ursos productivos compartid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ervici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udio realizado en base a sectores de la actividad económica (plástico y construcció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desarrollaron encuestas, con un bajo número de ellas contestad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69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ctores de la incorporación de las T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03280" y="1628640"/>
          <a:ext cx="6553440" cy="469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628640"/>
                    <a:ext cx="655344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 generadas por las 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1655640"/>
            <a:ext cx="662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ncipales TI en las empre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985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do de Automat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92360" y="1773360"/>
          <a:ext cx="5616360" cy="437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773360"/>
                    <a:ext cx="561636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3068640"/>
            <a:ext cx="8280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l ajuste fue de 92% y las variables son representativas en un 60% o má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blemas de pocos datos en la muest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parecer los resultados obtenidos en EE.UU. se confirma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 necesario mejorar y sistematizar métodos de medidas de resultados en los diferentes sectores nacion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50960" y="1873080"/>
          <a:ext cx="4040280" cy="818640"/>
        </p:xfrm>
        <a:graphic>
          <a:graphicData uri="http://schemas.openxmlformats.org/drawingml/2006/table">
            <a:tbl>
              <a:tblPr/>
              <a:tblGrid>
                <a:gridCol w="4040280"/>
              </a:tblGrid>
              <a:tr h="81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r>
                        <a:rPr b="1" i="1" lang="es-ES_tradn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0.051 C</a:t>
                      </a:r>
                      <a:r>
                        <a:rPr b="1" i="1" lang="es-ES_tradnl" sz="1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25</a:t>
                      </a:r>
                      <a:r>
                        <a:rPr b="1" i="1" lang="es-ES_tradn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</a:t>
                      </a:r>
                      <a:r>
                        <a:rPr b="1" i="1" lang="es-ES_tradnl" sz="1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78</a:t>
                      </a:r>
                      <a:r>
                        <a:rPr b="1" i="1" lang="es-ES_tradn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</a:t>
                      </a:r>
                      <a:r>
                        <a:rPr b="1" i="1" lang="es-ES_tradnl" sz="1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334E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 inversión en TI´s ha tenido un importante efecto en el output de la empres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existe evidencia clara que las TI´s produzcan mayores rentabilidad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 una clara evidencia que el excedente del consumidor ha aumen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2360" y="547560"/>
            <a:ext cx="7667640" cy="9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238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438280" y="188604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1007600">
            <a:off x="2889000" y="-114120"/>
            <a:ext cx="868608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-456120" y="-858240"/>
            <a:ext cx="700920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-151920" y="-476640"/>
            <a:ext cx="700992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65840" y="16984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75680" y="4518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10640" y="512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67040" y="169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32432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55292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37920" y="4324320"/>
            <a:ext cx="2514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37920" y="4476600"/>
            <a:ext cx="3124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520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5680" y="520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66680" y="3984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66680" y="4289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4172040"/>
            <a:ext cx="30456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040" y="5516640"/>
            <a:ext cx="87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tir en TI´s permite que a las empresas mantener la PARIDAD competitiva, pero no necesariamente ganar venta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79292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radoja de la Productiv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lta inversión en TI´s y baja en la tasa de cambio de la productiv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4105440" cy="216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9280" y="5445000"/>
            <a:ext cx="842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Robert Solow: 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</a:rPr>
              <a:t>“vemos computadores por todas partes menos en las estadísticas de productiv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501336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recimiento de la Productividad entregado por el departamento de estadísticas de trabajo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xplic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al medición de factor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moras en obtener resultad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distribución de los benefici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ala Gestión (problema agente-principal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 busca de Evid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989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 de Administración y Ventas (CAV):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el costo de coordinar, controlar, guiar, motivar, entrenar y administrar personal, consumidores y proveedores para producir y distribuir bienes y servi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 de Bienes Vendidos (CBV):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el costo en materiales y mano de obra asociado a los bienes o servi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V es una “buena” aproximación de los costos de gestionar la inform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84608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a empresa gasta $100 MM en materiales y mano de ob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ecesita $40 MM en CAV (ventas y administración para gestionar la producción, distribución y venta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vierte en una nueva TI que requiere sólo $30 MM en CAV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275440"/>
            <a:ext cx="762120" cy="761760"/>
          </a:xfrm>
          <a:prstGeom prst="rightArrow">
            <a:avLst>
              <a:gd name="adj1" fmla="val 50000"/>
              <a:gd name="adj2" fmla="val 2501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4941720"/>
            <a:ext cx="61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productividad en la gestión de la información mejora la situac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idencia: Sector Indust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4941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TI´s ha mejorado los proces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s de gestión de la información han subi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4772160" cy="270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360" y="4508640"/>
            <a:ext cx="374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ductividad de los recursos de información en grandes corporaciones industriales en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idencia: Sector Banc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4597560"/>
            <a:ext cx="8001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perar disminuir el costo del staff por incorporar TI´s es razonab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l sector bancario ha invertido gran cantidad en TI´s pero no se ha observado tal mejor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4191120" cy="2827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2514600"/>
            <a:ext cx="28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ductividad del Staff para grandes corporaciones bancarias en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06160"/>
            <a:ext cx="77040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 no es Productividad, debe ser Benefi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5229000"/>
            <a:ext cx="8001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lación no es clara, en general no existe tal rel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33720" y="1814400"/>
            <a:ext cx="4271760" cy="2828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464832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torno para grandes corporaciones bancarias en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5-11-15T19:14:26Z</dcterms:modified>
  <cp:revision>153</cp:revision>
  <dc:subject/>
  <dc:title>Diapositiva 1</dc:title>
</cp:coreProperties>
</file>