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C6DA2-2CCE-43B4-B155-3F1AB35F3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80BD4-148F-42F6-8061-2D7D7ECCD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423A1-4ED9-4300-9BEF-9CC026D25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F964C-6186-4D93-98FC-29D971C30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9137F-5C13-4118-AADB-84ACB5195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F7C92-0AEB-4184-9990-C9120299B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F8C38-82B7-42B6-8A6B-D5BD0741C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F494D-BA4C-4AD8-8902-E2BE01A4D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0178D-953B-4944-B382-9A76E5E9E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C9E2F-6FD3-468B-93EF-97AA6C983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0A7C2-9980-4593-8FC1-CCFADCDB6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EC6E6-0D25-4F54-9974-DE261D7F4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3A8CD-D3D0-4A45-BEAE-FBF36BBBB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15581-E6FC-490E-8210-AC9173F18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ECF8E-2556-4CEB-BA11-CAA62700B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3B186-9163-44DE-AAF7-C68E22345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2062A-DB69-4C75-A692-7653023B0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67D77-D1C1-4130-95C3-9D2956F1B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FEFFB-B529-4C42-BA2C-2849268AF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E67D5-3C01-4406-A0E9-95C19144B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62D97-58A0-447E-819D-B3ED79919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3FEA-C280-4983-BFAC-CFA54A801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4C2DF-9D36-4D9D-AEF3-5B1A801C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14B6C-FE21-4522-8373-4CE7CBFA4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E8CF-8D64-4D30-AEF6-E7F4F950012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4EC7-6A5E-4EA0-925A-7472D854CED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4-07-21T23:56:11Z</dcterms:modified>
  <cp:revision>158</cp:revision>
  <dc:subject/>
  <dc:title>Evaluación de Proyectos</dc:title>
</cp:coreProperties>
</file>