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87883-05D1-4CAD-80AD-739CFA5B7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D7EA-21A3-43AE-A696-5478C561E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FC382-A8EC-41C4-BFC1-9DAC23D6E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D98A1-E7FD-491E-A551-86E37514D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61707-E302-42F8-8B64-C36F7E848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647EF-CB2D-42D4-99CA-7189BC82A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F1032-99DC-40D8-AB95-0FE79877C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DE2E3-C5AD-42F1-8C95-75EDA7445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68BF8-7C04-4550-A8C8-809331F11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28FDD-798D-44F0-9EDC-3D9F70721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1E26B-E5E1-4BE1-8DE2-85D8A179B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4DC0E-3259-4FEC-828D-B2EA79D1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D40DC-D13A-421A-9EE6-72092C7D8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F6BFD-773A-4AF3-9737-06B73070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91D8-FF5D-462D-BF06-2DA0271B4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1B860-4CCB-4FE3-8B63-B7FFD1ED9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FE4CB-97CD-4973-94C7-0E85D3B82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ABE8-118A-4E6D-B4C0-6DF9CB1E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6A3D2-51B0-4F29-BA20-3FE84835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370B-EDBE-453A-9366-8BC940750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D14A-0D9C-40CF-9258-EDE69848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5A495-4E77-4FA5-AF83-4AD3D8A0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046D6-6C8A-4ED3-8ECB-255C1D74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D4A7-249B-4214-B8D7-9E179AC25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7ADC-24B5-4174-9CD3-589C413136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A237-4CE7-4A74-9423-11753FE8700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ción</a:t>
            </a:r>
            <a:endParaRPr b="0" lang="en-US" sz="4000" spc="-1" strike="noStrike">
              <a:solidFill>
                <a:srgbClr val="000000"/>
              </a:solidFill>
              <a:latin typeface="Arial Black"/>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os Concept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esgo: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de naturaleza aleatórea, las probabilidades de ocurrencia de eventos son conocidas.</a:t>
            </a:r>
            <a:endParaRPr b="0" lang="en-US" sz="24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certidumbre:</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robabilidades de ocurrencia de un evento no son bien cuantificadas.</a:t>
            </a:r>
            <a:endParaRPr b="0" lang="en-US" sz="24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básica de Incertidumbre:</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incompleta inexacta, sesgada, falsa o contradictori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4"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jemplo:</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ahoma"/>
            </a:endParaRPr>
          </a:p>
        </p:txBody>
      </p:sp>
      <p:sp>
        <p:nvSpPr>
          <p:cNvPr id="135"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7"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costo de capital para la empresa es de un 20 % anual.</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alternativa de inversión en estudio será aceptada si su valor presente neto es positivo, con una probabilidad de al menos 90 %. </a:t>
            </a:r>
            <a:endParaRPr b="0" lang="en-US" sz="2800" spc="-1" strike="noStrike">
              <a:solidFill>
                <a:srgbClr val="000000"/>
              </a:solidFill>
              <a:latin typeface="Tahoma"/>
            </a:endParaRPr>
          </a:p>
        </p:txBody>
      </p:sp>
      <p:sp>
        <p:nvSpPr>
          <p:cNvPr id="138"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40"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demos obtener el comportamiento probabilístico del rendimiento económico:</a:t>
            </a:r>
            <a:endParaRPr b="0" lang="en-US" sz="2800" spc="-1" strike="noStrike">
              <a:solidFill>
                <a:srgbClr val="000000"/>
              </a:solidFill>
              <a:latin typeface="Tahoma"/>
            </a:endParaRPr>
          </a:p>
        </p:txBody>
      </p:sp>
      <p:grpSp>
        <p:nvGrpSpPr>
          <p:cNvPr id="141" name=""/>
          <p:cNvGrpSpPr/>
          <p:nvPr/>
        </p:nvGrpSpPr>
        <p:grpSpPr>
          <a:xfrm>
            <a:off x="2362320" y="2825640"/>
            <a:ext cx="4641840" cy="3194280"/>
            <a:chOff x="2362320" y="2825640"/>
            <a:chExt cx="4641840" cy="3194280"/>
          </a:xfrm>
        </p:grpSpPr>
        <p:sp>
          <p:nvSpPr>
            <p:cNvPr id="142"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46"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48"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49" name=""/>
          <p:cNvGrpSpPr/>
          <p:nvPr/>
        </p:nvGrpSpPr>
        <p:grpSpPr>
          <a:xfrm>
            <a:off x="1606680" y="1225800"/>
            <a:ext cx="5550840" cy="4602960"/>
            <a:chOff x="1606680" y="1225800"/>
            <a:chExt cx="5550840" cy="4602960"/>
          </a:xfrm>
        </p:grpSpPr>
        <p:sp>
          <p:nvSpPr>
            <p:cNvPr id="150"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5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e inversión elegir ?</a:t>
            </a:r>
            <a:endParaRPr b="0" lang="en-US" sz="3200" spc="-1" strike="noStrike">
              <a:solidFill>
                <a:srgbClr val="000000"/>
              </a:solidFill>
              <a:latin typeface="Tahoma"/>
            </a:endParaRPr>
          </a:p>
        </p:txBody>
      </p:sp>
      <p:grpSp>
        <p:nvGrpSpPr>
          <p:cNvPr id="157" name=""/>
          <p:cNvGrpSpPr/>
          <p:nvPr/>
        </p:nvGrpSpPr>
        <p:grpSpPr>
          <a:xfrm>
            <a:off x="2362320" y="2825640"/>
            <a:ext cx="4641840" cy="3194280"/>
            <a:chOff x="2362320" y="2825640"/>
            <a:chExt cx="4641840" cy="3194280"/>
          </a:xfrm>
        </p:grpSpPr>
        <p:sp>
          <p:nvSpPr>
            <p:cNvPr id="158"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1"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62"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64"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65" name=""/>
          <p:cNvGrpSpPr/>
          <p:nvPr/>
        </p:nvGrpSpPr>
        <p:grpSpPr>
          <a:xfrm>
            <a:off x="1606680" y="1225800"/>
            <a:ext cx="5550840" cy="4677840"/>
            <a:chOff x="1606680" y="1225800"/>
            <a:chExt cx="5550840" cy="4677840"/>
          </a:xfrm>
        </p:grpSpPr>
        <p:sp>
          <p:nvSpPr>
            <p:cNvPr id="166"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78"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a:t>
            </a:r>
            <a:endParaRPr b="0" lang="en-US" sz="2000" spc="-1" strike="noStrike">
              <a:solidFill>
                <a:srgbClr val="000000"/>
              </a:solidFill>
              <a:latin typeface="Times New Roman"/>
            </a:endParaRPr>
          </a:p>
        </p:txBody>
      </p:sp>
      <p:sp>
        <p:nvSpPr>
          <p:cNvPr id="179"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grpSp>
        <p:nvGrpSpPr>
          <p:cNvPr id="181" name=""/>
          <p:cNvGrpSpPr/>
          <p:nvPr/>
        </p:nvGrpSpPr>
        <p:grpSpPr>
          <a:xfrm>
            <a:off x="1560240" y="744840"/>
            <a:ext cx="5566680" cy="3171240"/>
            <a:chOff x="1560240" y="744840"/>
            <a:chExt cx="5566680" cy="3171240"/>
          </a:xfrm>
        </p:grpSpPr>
        <p:grpSp>
          <p:nvGrpSpPr>
            <p:cNvPr id="182" name=""/>
            <p:cNvGrpSpPr/>
            <p:nvPr/>
          </p:nvGrpSpPr>
          <p:grpSpPr>
            <a:xfrm>
              <a:off x="2651040" y="1704960"/>
              <a:ext cx="2782800" cy="1914480"/>
              <a:chOff x="2651040" y="1704960"/>
              <a:chExt cx="2782800" cy="1914480"/>
            </a:xfrm>
          </p:grpSpPr>
          <p:sp>
            <p:nvSpPr>
              <p:cNvPr id="183"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87"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89"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90" name=""/>
            <p:cNvGrpSpPr/>
            <p:nvPr/>
          </p:nvGrpSpPr>
          <p:grpSpPr>
            <a:xfrm>
              <a:off x="2200320" y="744840"/>
              <a:ext cx="3326760" cy="2806560"/>
              <a:chOff x="2200320" y="744840"/>
              <a:chExt cx="3326760" cy="2806560"/>
            </a:xfrm>
          </p:grpSpPr>
          <p:sp>
            <p:nvSpPr>
              <p:cNvPr id="191"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95"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201"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203" name=""/>
          <p:cNvGrpSpPr/>
          <p:nvPr/>
        </p:nvGrpSpPr>
        <p:grpSpPr>
          <a:xfrm>
            <a:off x="1600200" y="4294080"/>
            <a:ext cx="1974960" cy="520920"/>
            <a:chOff x="1600200" y="4294080"/>
            <a:chExt cx="1974960" cy="520920"/>
          </a:xfrm>
        </p:grpSpPr>
        <p:sp>
          <p:nvSpPr>
            <p:cNvPr id="204"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5"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6"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07" name=""/>
            <p:cNvSpPr/>
            <p:nvPr/>
          </p:nvSpPr>
          <p:spPr>
            <a:xfrm>
              <a:off x="3209760" y="4454640"/>
              <a:ext cx="365400" cy="360360"/>
            </a:xfrm>
            <a:prstGeom prst="rightArrow">
              <a:avLst>
                <a:gd name="adj1" fmla="val 50000"/>
                <a:gd name="adj2" fmla="val 5070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85080" y="4894200"/>
            <a:ext cx="1990080" cy="505080"/>
            <a:chOff x="1585080" y="4894200"/>
            <a:chExt cx="1990080" cy="505080"/>
          </a:xfrm>
        </p:grpSpPr>
        <p:sp>
          <p:nvSpPr>
            <p:cNvPr id="209"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0"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1"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12" name=""/>
            <p:cNvSpPr/>
            <p:nvPr/>
          </p:nvSpPr>
          <p:spPr>
            <a:xfrm>
              <a:off x="3206880" y="5035680"/>
              <a:ext cx="368280" cy="291960"/>
            </a:xfrm>
            <a:prstGeom prst="rightArrow">
              <a:avLst>
                <a:gd name="adj1" fmla="val 50000"/>
                <a:gd name="adj2" fmla="val 6307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214"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decisión depende del “comportamiento” del inversor frente al riesgo:</a:t>
            </a:r>
            <a:endParaRPr b="0" lang="en-US" sz="32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o</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n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o</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8"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o se define el comportamiento de un inversionista ante el riesgo?</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emos al inversionista a la siguiente pregunta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Por cuanto dinero estaría dispuesto a vender el boleto de la siguiente  lotería?</a:t>
            </a:r>
            <a:endParaRPr b="0" lang="en-US" sz="24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1.000.000</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500.000 </a:t>
            </a:r>
            <a:endParaRPr b="0" lang="en-US" sz="2000" spc="-1" strike="noStrike">
              <a:solidFill>
                <a:srgbClr val="000000"/>
              </a:solidFill>
              <a:latin typeface="Tahoma"/>
            </a:endParaRPr>
          </a:p>
          <a:p>
            <a:pPr lvl="4" marL="178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valor esperado (E) de la lotería es:</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0,5 * 1.000.000 + 0,5 * 500.000 = 750.000</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20"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para el precio (E’) que esta dispuesto a vender se cump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t; E               Adverso al rie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 E               Neutro al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gt; E               Amante del riesgo</a:t>
            </a:r>
            <a:endParaRPr b="0" lang="en-US" sz="2800" spc="-1" strike="noStrike">
              <a:solidFill>
                <a:srgbClr val="000000"/>
              </a:solidFill>
              <a:latin typeface="Tahoma"/>
            </a:endParaRPr>
          </a:p>
        </p:txBody>
      </p:sp>
      <p:sp>
        <p:nvSpPr>
          <p:cNvPr id="221" name=""/>
          <p:cNvSpPr/>
          <p:nvPr/>
        </p:nvSpPr>
        <p:spPr>
          <a:xfrm>
            <a:off x="2749680" y="29782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49680" y="34354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49680" y="38926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evaluada en una situación base</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terminan las variables mas significativas que afectan los indicadores de rentabilidad :</a:t>
            </a:r>
            <a:endParaRPr b="0" lang="en-US" sz="28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insum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s de producción</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capital</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úmene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eficientes tecnológic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rsión</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usca evaluar la sensibilidad de los indicadores de rentabilidad ante variaciones de las variables significativas  más inciertas:</a:t>
            </a:r>
            <a:endParaRPr b="0" lang="en-US" sz="2800" spc="-1" strike="noStrike">
              <a:solidFill>
                <a:srgbClr val="000000"/>
              </a:solidFill>
              <a:latin typeface="Tahoma"/>
            </a:endParaRPr>
          </a:p>
        </p:txBody>
      </p:sp>
      <p:sp>
        <p:nvSpPr>
          <p:cNvPr id="229"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232"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233"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235"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co conocimiento del merca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ci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an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stos y mo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de insum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3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impacto de una variable riesgosa en el VAN es importante, entonces el proyecto es RIESGOSO.</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nivel de riesgo se determina en la medida que el VAN se hace negativo para valores probables de la variable.</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te caso, se debe hacer una evaluación costo-beneficio de la pertinencia de comprar certidumbre.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0" name="PlaceHolder 2"/>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Aplicación</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de Entender</a:t>
            </a:r>
            <a:endParaRPr b="0" lang="en-US" sz="24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ólo permite analizar variaciones de un parámetro a la vez.</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tiliza información como las distribuciones de probabilidad del parámetro a sensibilizar.</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ntrega distribución de probabilidades de los indicadores de rentabilidad VAN y TIR.</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2"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scenario está determinado por los valores que supuestamente tomarían las variables riesgosas en estos.</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bitualmente se definen tres escenarios : optimista, medio y pesimista.</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4"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cenario optimista:</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producto sube un 2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los insumos se mantienen</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entas crecen en un 1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escenarios deben ser definidos por la alta gerencia de la empresa. </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s una actividad netamente interfuncional.</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4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ortamiento del Inversionista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a inversión mas riesgosa se le exige una mayor rentabilida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lo tanto se espera recibir un premio por asumir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forma de incorporar el riego es castigar la tasa de descuento :</a:t>
            </a:r>
            <a:endParaRPr b="0" lang="en-US" sz="2800" spc="-1" strike="noStrike">
              <a:solidFill>
                <a:srgbClr val="000000"/>
              </a:solidFill>
              <a:latin typeface="Tahoma"/>
            </a:endParaRPr>
          </a:p>
        </p:txBody>
      </p:sp>
      <p:sp>
        <p:nvSpPr>
          <p:cNvPr id="24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48" name=""/>
          <p:cNvGrpSpPr/>
          <p:nvPr/>
        </p:nvGrpSpPr>
        <p:grpSpPr>
          <a:xfrm>
            <a:off x="252720" y="5486400"/>
            <a:ext cx="4494600" cy="1003320"/>
            <a:chOff x="252720" y="5486400"/>
            <a:chExt cx="4494600" cy="1003320"/>
          </a:xfrm>
        </p:grpSpPr>
        <p:sp>
          <p:nvSpPr>
            <p:cNvPr id="24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5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5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grpSp>
        <p:nvGrpSpPr>
          <p:cNvPr id="255" name=""/>
          <p:cNvGrpSpPr/>
          <p:nvPr/>
        </p:nvGrpSpPr>
        <p:grpSpPr>
          <a:xfrm>
            <a:off x="907920" y="1606680"/>
            <a:ext cx="1919520" cy="930240"/>
            <a:chOff x="907920" y="1606680"/>
            <a:chExt cx="1919520" cy="930240"/>
          </a:xfrm>
        </p:grpSpPr>
        <p:sp>
          <p:nvSpPr>
            <p:cNvPr id="256"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64"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6" name=""/>
          <p:cNvGrpSpPr/>
          <p:nvPr/>
        </p:nvGrpSpPr>
        <p:grpSpPr>
          <a:xfrm>
            <a:off x="5834520" y="1486080"/>
            <a:ext cx="2523960" cy="1432800"/>
            <a:chOff x="5834520" y="1486080"/>
            <a:chExt cx="2523960" cy="1432800"/>
          </a:xfrm>
        </p:grpSpPr>
        <p:sp>
          <p:nvSpPr>
            <p:cNvPr id="267"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68"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69" name=""/>
            <p:cNvGrpSpPr/>
            <p:nvPr/>
          </p:nvGrpSpPr>
          <p:grpSpPr>
            <a:xfrm>
              <a:off x="5834520" y="1554120"/>
              <a:ext cx="2388600" cy="1364760"/>
              <a:chOff x="5834520" y="1554120"/>
              <a:chExt cx="2388600" cy="1364760"/>
            </a:xfrm>
          </p:grpSpPr>
          <p:sp>
            <p:nvSpPr>
              <p:cNvPr id="270"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74"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75"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7"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78"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81"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s del Méto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 fija arbitrariamente.</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 utiliza información valiosa como la distribución de probabilidades de los fluj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riesgo aumenta a medida que pasa el tiempo, cosa que no siempre es cierto.</a:t>
            </a:r>
            <a:endParaRPr b="0" lang="en-US" sz="2800" spc="-1" strike="noStrike">
              <a:solidFill>
                <a:srgbClr val="000000"/>
              </a:solidFill>
              <a:latin typeface="Tahoma"/>
            </a:endParaRPr>
          </a:p>
        </p:txBody>
      </p:sp>
      <p:sp>
        <p:nvSpPr>
          <p:cNvPr id="284"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imitaciones del modelo probabilístico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endimiento de probabilidad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ficil formulación matemática</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s relaciones entre flujo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 relaciones entre variable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osibilidad de llegar a una solución analític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lución : Simulación Computacional</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6000"/>
          </a:bodyPr>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ahoma"/>
            </a:endParaRPr>
          </a:p>
          <a:p>
            <a:pPr lvl="4" marL="1769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obtiene distribuciones de probabilidad de los criterios de evaluación seleccionados. </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90"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istribuciones de Probabilidad mas usadas :</a:t>
            </a:r>
            <a:endParaRPr b="0" lang="en-US" sz="3200" spc="-1" strike="noStrike">
              <a:solidFill>
                <a:srgbClr val="000000"/>
              </a:solidFill>
              <a:latin typeface="Tahoma"/>
            </a:endParaRPr>
          </a:p>
          <a:p>
            <a:pPr lvl="2" marL="891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forme</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iangular</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rmal</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inomial</a:t>
            </a:r>
            <a:endParaRPr b="0" lang="en-US" sz="2800" spc="-1" strike="noStrike">
              <a:solidFill>
                <a:srgbClr val="000000"/>
              </a:solidFill>
              <a:latin typeface="Tahoma"/>
            </a:endParaRPr>
          </a:p>
          <a:p>
            <a:pPr lvl="4" marL="1604520" indent="-178200">
              <a:spcBef>
                <a:spcPts val="499"/>
              </a:spcBef>
              <a:buClr>
                <a:srgbClr val="ffcc00"/>
              </a:buClr>
              <a:buFont typeface="Tahoma"/>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ad hoc”</a:t>
            </a:r>
            <a:endParaRPr b="0" lang="en-US" sz="2800" spc="-1" strike="noStrike">
              <a:solidFill>
                <a:srgbClr val="000000"/>
              </a:solidFill>
              <a:latin typeface="Tahoma"/>
            </a:endParaRPr>
          </a:p>
        </p:txBody>
      </p:sp>
      <p:sp>
        <p:nvSpPr>
          <p:cNvPr id="291"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54640" y="2209680"/>
            <a:ext cx="2502000" cy="381240"/>
            <a:chOff x="6254640" y="2209680"/>
            <a:chExt cx="2502000" cy="381240"/>
          </a:xfrm>
        </p:grpSpPr>
        <p:sp>
          <p:nvSpPr>
            <p:cNvPr id="294"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04"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305" name=""/>
          <p:cNvGrpSpPr/>
          <p:nvPr/>
        </p:nvGrpSpPr>
        <p:grpSpPr>
          <a:xfrm>
            <a:off x="6330960" y="4959360"/>
            <a:ext cx="2502000" cy="1365120"/>
            <a:chOff x="6330960" y="4959360"/>
            <a:chExt cx="2502000" cy="1365120"/>
          </a:xfrm>
        </p:grpSpPr>
        <p:sp>
          <p:nvSpPr>
            <p:cNvPr id="306"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8"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o de fuentes de información poco confiabl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námica de los mercad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de interpretación de dat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en la manipulación de información</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1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dimiento :</a:t>
            </a:r>
            <a:endParaRPr b="0" lang="en-US" sz="3200" spc="-1" strike="noStrike">
              <a:solidFill>
                <a:srgbClr val="000000"/>
              </a:solidFill>
              <a:latin typeface="Tahoma"/>
            </a:endParaRPr>
          </a:p>
        </p:txBody>
      </p:sp>
      <p:sp>
        <p:nvSpPr>
          <p:cNvPr id="31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750960" y="2139840"/>
            <a:ext cx="1796760" cy="1401480"/>
            <a:chOff x="750960" y="2139840"/>
            <a:chExt cx="1796760" cy="1401480"/>
          </a:xfrm>
        </p:grpSpPr>
        <p:sp>
          <p:nvSpPr>
            <p:cNvPr id="31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1" name=""/>
          <p:cNvGrpSpPr/>
          <p:nvPr/>
        </p:nvGrpSpPr>
        <p:grpSpPr>
          <a:xfrm>
            <a:off x="3206880" y="2292480"/>
            <a:ext cx="1206360" cy="977760"/>
            <a:chOff x="3206880" y="2292480"/>
            <a:chExt cx="1206360" cy="977760"/>
          </a:xfrm>
        </p:grpSpPr>
        <p:sp>
          <p:nvSpPr>
            <p:cNvPr id="32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32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325" name=""/>
          <p:cNvGrpSpPr/>
          <p:nvPr/>
        </p:nvGrpSpPr>
        <p:grpSpPr>
          <a:xfrm>
            <a:off x="3037320" y="5187960"/>
            <a:ext cx="1699200" cy="1036440"/>
            <a:chOff x="3037320" y="5187960"/>
            <a:chExt cx="1699200" cy="1036440"/>
          </a:xfrm>
        </p:grpSpPr>
        <p:sp>
          <p:nvSpPr>
            <p:cNvPr id="32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328" name=""/>
          <p:cNvGrpSpPr/>
          <p:nvPr/>
        </p:nvGrpSpPr>
        <p:grpSpPr>
          <a:xfrm>
            <a:off x="5340240" y="3740040"/>
            <a:ext cx="1219680" cy="978120"/>
            <a:chOff x="5340240" y="3740040"/>
            <a:chExt cx="1219680" cy="978120"/>
          </a:xfrm>
        </p:grpSpPr>
        <p:sp>
          <p:nvSpPr>
            <p:cNvPr id="32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33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33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38" name="PlaceHolder 2"/>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ado :</a:t>
            </a:r>
            <a:endParaRPr b="0" lang="en-US" sz="3200" spc="-1" strike="noStrike">
              <a:solidFill>
                <a:srgbClr val="000000"/>
              </a:solidFill>
              <a:latin typeface="Tahoma"/>
            </a:endParaRPr>
          </a:p>
          <a:p>
            <a:pPr lvl="2" marL="640080" indent="-1278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ción de Probabilidades del VAN</a:t>
            </a:r>
            <a:endParaRPr b="0" lang="en-US" sz="2400" spc="-1" strike="noStrike">
              <a:solidFill>
                <a:srgbClr val="000000"/>
              </a:solidFill>
              <a:latin typeface="Tahoma"/>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
          <p:cNvSpPr/>
          <p:nvPr/>
        </p:nvSpPr>
        <p:spPr>
          <a:xfrm>
            <a:off x="5264280" y="7473960"/>
            <a:ext cx="63360" cy="189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1225440" y="2063880"/>
            <a:ext cx="6540480" cy="4178160"/>
            <a:chOff x="1225440" y="2063880"/>
            <a:chExt cx="6540480" cy="4178160"/>
          </a:xfrm>
        </p:grpSpPr>
        <p:sp>
          <p:nvSpPr>
            <p:cNvPr id="341"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foques para la incorporación del Riesgo</a:t>
            </a:r>
            <a:endParaRPr b="0" lang="en-US" sz="4000" spc="-1" strike="noStrike">
              <a:solidFill>
                <a:srgbClr val="000000"/>
              </a:solidFill>
              <a:latin typeface="Arial Black"/>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 Análisis individual de una inversión</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1 Análisis probabilístic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 Análisis de Sensibilidad y de Escenario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3 Ajuste simple en la tasa de descuent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4 Simulación</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Análisis de portafolio</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1 Diversificación y modelo CAPM</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intos Niveles de Riesgo</a:t>
            </a:r>
            <a:endParaRPr b="0" lang="en-US" sz="4000" spc="-1" strike="noStrike">
              <a:solidFill>
                <a:srgbClr val="000000"/>
              </a:solidFill>
              <a:latin typeface="Arial Black"/>
            </a:endParaRPr>
          </a:p>
        </p:txBody>
      </p:sp>
      <p:sp>
        <p:nvSpPr>
          <p:cNvPr id="9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Paí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Sectorial </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 sectorial (del mercado objetivo y de insumos)</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de una Inversión</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camiento Operativo</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ncamiento Financiero</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 Análisis individual de una Inversión</a:t>
            </a:r>
            <a:endParaRPr b="0" lang="en-US" sz="4000" spc="-1" strike="noStrike">
              <a:solidFill>
                <a:srgbClr val="000000"/>
              </a:solidFill>
              <a:latin typeface="Arial Black"/>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 Análisis probabilístico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forma de Interpretar el Riesgo</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iabilidad de los flujos de caja, que implica la variabilidad del VAN</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os flujos de caja son variables Aleatorias</a:t>
            </a:r>
            <a:endParaRPr b="0" lang="en-US" sz="2000" spc="-1" strike="noStrike">
              <a:solidFill>
                <a:srgbClr val="000000"/>
              </a:solidFill>
              <a:latin typeface="Tahoma"/>
            </a:endParaRPr>
          </a:p>
        </p:txBody>
      </p:sp>
      <p:sp>
        <p:nvSpPr>
          <p:cNvPr id="9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0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10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0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11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11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11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11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1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ahoma"/>
              </a:rPr>
              <a:t>Desviación estándar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ahoma"/>
              </a:rPr>
              <a:t> </a:t>
            </a:r>
            <a:r>
              <a:rPr b="0" lang="en-US" sz="3200" spc="-1" strike="noStrike">
                <a:solidFill>
                  <a:srgbClr val="000000"/>
                </a:solidFill>
                <a:latin typeface="Tahoma"/>
              </a:rPr>
              <a:t>=Valor esperado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Esperado de la Inversión:</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p:txBody>
      </p:sp>
      <p:sp>
        <p:nvSpPr>
          <p:cNvPr id="11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1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33840" y="57117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12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32680" y="57117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2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viación estándar de una Inversió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1: Flujos de caja independien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2 : Flujos de caja 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v(F</a:t>
            </a:r>
            <a:r>
              <a:rPr b="0" lang="es-ES_tradnl" sz="2000" spc="-1" strike="noStrike" baseline="-25000">
                <a:solidFill>
                  <a:srgbClr val="000000"/>
                </a:solidFill>
                <a:latin typeface="Tahoma"/>
              </a:rPr>
              <a:t>i</a:t>
            </a:r>
            <a:r>
              <a:rPr b="0" lang="es-ES_tradnl" sz="2000" spc="-1" strike="noStrike">
                <a:solidFill>
                  <a:srgbClr val="000000"/>
                </a:solidFill>
                <a:latin typeface="Tahoma"/>
              </a:rPr>
              <a:t> , F</a:t>
            </a:r>
            <a:r>
              <a:rPr b="0" lang="es-ES_tradnl" sz="2000" spc="-1" strike="noStrike" baseline="-25000">
                <a:solidFill>
                  <a:srgbClr val="000000"/>
                </a:solidFill>
                <a:latin typeface="Tahoma"/>
              </a:rPr>
              <a:t>j</a:t>
            </a:r>
            <a:r>
              <a:rPr b="0" lang="es-ES_tradnl" sz="2000" spc="-1" strike="noStrike">
                <a:solidFill>
                  <a:srgbClr val="000000"/>
                </a:solidFill>
                <a:latin typeface="Tahoma"/>
              </a:rPr>
              <a:t>) = 1 = Coeficiente de correlación</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3: Flujos de caja im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p:txBody>
      </p:sp>
      <p:sp>
        <p:nvSpPr>
          <p:cNvPr id="127"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28"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buena noticia: Teorema del Límite Central</a:t>
            </a:r>
            <a:endParaRPr b="0" lang="en-US" sz="2800" spc="-1" strike="noStrike">
              <a:solidFill>
                <a:srgbClr val="000000"/>
              </a:solidFill>
              <a:latin typeface="Tahoma"/>
            </a:endParaRPr>
          </a:p>
          <a:p>
            <a:pPr lvl="2" marL="1143000" indent="-228600" algn="ctr">
              <a:spcBef>
                <a:spcPts val="601"/>
              </a:spcBef>
              <a:buClr>
                <a:srgbClr val="ffcc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ahoma"/>
            </a:endParaRPr>
          </a:p>
        </p:txBody>
      </p:sp>
      <p:sp>
        <p:nvSpPr>
          <p:cNvPr id="132"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Eduardo Contreras</dc:creator>
  <dc:description/>
  <dc:language>en-US</dc:language>
  <cp:lastModifiedBy>Eduardo Contreras</cp:lastModifiedBy>
  <dcterms:modified xsi:type="dcterms:W3CDTF">2004-05-11T15:17:39Z</dcterms:modified>
  <cp:revision>9</cp:revision>
  <dc:subject>Análisis de Riesgo</dc:subject>
  <dc:title>Gestión Financiera-Tema 6</dc:title>
</cp:coreProperties>
</file>