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59F23-4F3F-425B-B5D0-44F2BB141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5DA7D-AF88-4256-AC46-C5A08FB92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A1B76-8D21-4708-8814-1A3C4D886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B83C9-F1B6-43C5-B8EA-C3FD49694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EA36A-4DCF-49DF-8FD0-FC35DF33A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61525-AEF7-48EE-96B3-EFA6C8639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B4270-1DE9-4277-8EBF-6617E48EE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7CDB4-BE90-4870-917A-A67499EAB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1CB4D-500D-49D4-86A9-7339B622C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3692F-12E6-4AE9-B04F-27814CE41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95F32-78E0-45F3-9DF1-D3AE27920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83D67-6628-494F-9EC2-33E794969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927DD-8F01-45A2-8704-D066D0FC3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23EDD-B721-464F-A3F2-DA688852B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93C19-80E4-458C-BE87-200E32EBA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BDF69-D197-4508-967C-D3F34A967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1361A-C1C5-4897-87EF-C42D1365C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DD39-9CC5-4641-BDF6-09D30228C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86D81-BE2C-4856-A5CC-44F5263EB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14E70-C8CD-446E-BFCD-04CAB5187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026D-1D3E-4BC9-9640-5B34E3234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01C2-882B-4ADD-ACF1-8A97EE82B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72C16-3C24-441B-92A4-BD17E5C9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FB35-F485-460F-ABE7-F890FAB37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528D-5B71-4CA3-938F-F36C656EC9D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0411-02BC-4F3A-8A8B-0DC3C57D379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Valor Futuro actualizado por la tasa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1997-04-16T17:24:08Z</cp:lastPrinted>
  <dcterms:modified xsi:type="dcterms:W3CDTF">2005-03-15T15:45:40Z</dcterms:modified>
  <cp:revision>15</cp:revision>
  <dc:subject>Planificación financiera</dc:subject>
  <dc:title>PLANIFICACION FINANCIERA</dc:title>
</cp:coreProperties>
</file>