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399CE-1C38-464F-8631-71C8C3839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70FE8-E613-4F0C-AB20-79E792B1D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684DF-C0CC-4D88-88A1-8411A6F8E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B7F3F-35D6-4A94-A1CA-F19A1DDCF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CB3DC7-9CC4-4A51-B5CB-34F0DB33A3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2C596-4AFB-45A6-A38F-6963E031D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BB4A1-B767-4885-A41E-A9ABC947B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77B7A-0E98-4184-BD98-025325207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BC9F9-A760-448C-8576-8775DC43F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983F9-5327-4619-9874-A16E80DD2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3289D-5C6D-47DB-BA84-0C0C9420A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120C8-6E2F-4E88-A775-7E8EE5884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9EDCA-132C-4DF2-8C7E-ABEB97C72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F5FD5-A780-491F-B84D-A2024D8FA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961B9-49D1-49AC-B38D-FDD2DF77B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9299B5-D6D4-47DB-90C2-D8DDD08DF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266D87-65C9-4FF1-981C-B0639BCC1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16AA9-BAEB-45A9-871C-63454AF9D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55465-362B-4B5A-A996-14CA73AB8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14F67-9414-4335-89ED-10C6DD900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E5906-6045-4C6B-A5B1-56FF59B0D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1CC44-C81B-4EF5-99DC-D9AE5D29C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1A3D9-EAAA-41A4-835D-7772467E6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72513-D332-42FF-87E7-F413EC5B7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A54B-E855-4FAF-990D-31556B0DB48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CEEB-2E93-4979-AE4A-E115320E024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500 (1+i) = 500 (1+r)(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 (1+i) / (1+r) = 1,2 / 1,05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8000"/>
          </a:bodyPr>
          <a:p>
            <a:pPr marL="335880" indent="-33588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ALOR PRESENTE = FD * VALOR FUTURO</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 1 / (1 + r) (Factor de Descuento)</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es menor que 1</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 Tasa de rentabilidad</a:t>
            </a:r>
            <a:endParaRPr b="0" lang="en-US" sz="2600" spc="-1" strike="noStrike">
              <a:solidFill>
                <a:srgbClr val="000000"/>
              </a:solidFill>
              <a:latin typeface="Tahoma"/>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 = rentabilidad exigida por el inversionista por un pago aplazado.</a:t>
            </a:r>
            <a:endParaRPr b="0" lang="en-US" sz="2600" spc="-1" strike="noStrike">
              <a:solidFill>
                <a:srgbClr val="000000"/>
              </a:solidFill>
              <a:latin typeface="Tahoma"/>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alor Presente = Valor Futuro actualizado por la tasa </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de rentabilidad exigida.</a:t>
            </a:r>
            <a:endParaRPr b="0" lang="en-US" sz="2600" spc="-1" strike="noStrike">
              <a:solidFill>
                <a:srgbClr val="000000"/>
              </a:solidFill>
              <a:latin typeface="Tahoma"/>
            </a:endParaRPr>
          </a:p>
          <a:p>
            <a:pPr lvl="1" marL="72792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600" spc="-1" strike="noStrike">
                <a:solidFill>
                  <a:srgbClr val="000000"/>
                </a:solidFill>
                <a:latin typeface="Tahoma"/>
              </a:rPr>
              <a:t>Tasa mínima</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Costo de oportunidad del capital</a:t>
            </a:r>
            <a:endParaRPr b="0" lang="en-US" sz="2600" spc="-1" strike="noStrike">
              <a:solidFill>
                <a:srgbClr val="000000"/>
              </a:solidFill>
              <a:latin typeface="Tahom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
            </a:r>
            <a:r>
              <a:rPr b="0" lang="en-US"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3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4"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5"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4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4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5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5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dc:language>en-US</dc:language>
  <cp:lastModifiedBy>Eduardo Contreras</cp:lastModifiedBy>
  <cp:lastPrinted>1997-04-16T17:24:08Z</cp:lastPrinted>
  <dcterms:modified xsi:type="dcterms:W3CDTF">2005-03-15T15:45:40Z</dcterms:modified>
  <cp:revision>15</cp:revision>
  <dc:subject>Planificación financiera</dc:subject>
  <dc:title>PLANIFICACION FINANCIERA</dc:title>
</cp:coreProperties>
</file>