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B2DB3-6249-4EC6-A97B-CC3EBDE1B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A96CC-AD07-414C-8B46-BC50D9F94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4D718-783D-4775-B862-6E36508C4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4CCB9-24A2-4643-BA17-EFA1F0498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00E46-EB9C-489A-AB75-6B6B97258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DA1CB-D1E4-4C8C-94C0-BD6DBB1CB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706D5-FCAA-4612-A672-09AE8E4E7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86843-1BD6-4CA9-9ADF-5E6AEAC3D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18078-B42C-48A8-810F-5ABB4C31E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7B942-0420-43FE-9E9F-AD7AD3017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B618E-B29E-4009-9162-1C167DE86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EF955-DD77-4E4B-9B68-E1A0FB8C1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123FB-258D-41A0-B4EB-8825B69A0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88F38-C857-4A3F-8AF5-C06A2C77B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05AB2-4F56-47C0-91D2-A7C8518B3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23DDB-C160-46D1-96E3-ADC616625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44C70-0334-43EE-9D17-7244867EA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BE2BD-B62B-481A-8023-F9F602817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8CF93-6318-4C86-ABC5-91272A8C8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4D7A5-64C1-4D6D-9ACF-2C6307CCD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10719-6103-420B-883B-99BEC471E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CB3CB-F1DE-43CA-8937-E9E0617FF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076B5-DC5C-4FD1-B991-451EBC8C8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DC155-7327-43FD-9B8C-02F06D579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F3C7-2592-4F23-81E4-8B3DE42C493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D60C-18EE-467A-B72D-CE3DBD93DF8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0 (1+i) = 500 (1+r)(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i) / (1+r) = 1,2 / 1,05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8000"/>
          </a:bodyPr>
          <a:p>
            <a:pPr marL="335880" indent="-3358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FD * VALOR FUTUR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1 / (1 + r) (Factor de Descuent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es menor que 1</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Tasa de rentabilidad</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rentabilidad exigida por el inversionista por un pago aplazado.</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Valor Futuro actualizado por la tasa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e rentabilidad exigida.</a:t>
            </a:r>
            <a:endParaRPr b="0" lang="en-US" sz="2600" spc="-1" strike="noStrike">
              <a:solidFill>
                <a:srgbClr val="000000"/>
              </a:solidFill>
              <a:latin typeface="Tahoma"/>
            </a:endParaRPr>
          </a:p>
          <a:p>
            <a:pPr lvl="1" marL="72792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600" spc="-1" strike="noStrike">
                <a:solidFill>
                  <a:srgbClr val="000000"/>
                </a:solidFill>
                <a:latin typeface="Tahoma"/>
              </a:rPr>
              <a:t>Tasa mínima</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Costo de oportunidad del capital</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4"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5"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4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4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5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5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Eduardo Contreras</cp:lastModifiedBy>
  <cp:lastPrinted>1997-04-16T17:24:08Z</cp:lastPrinted>
  <dcterms:modified xsi:type="dcterms:W3CDTF">2005-03-15T15:45:40Z</dcterms:modified>
  <cp:revision>15</cp:revision>
  <dc:subject>Planificación financiera</dc:subject>
  <dc:title>PLANIFICACION FINANCIERA</dc:title>
</cp:coreProperties>
</file>