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36476-9B8C-4D6D-B9AE-B38CB560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9293F-7E85-43CA-8F64-508C90A4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A64B-DAB8-453A-B55D-E69232B2D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76C6-1618-4E01-A90A-DA97252EB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2914C-1A42-4C1C-97C9-87DC71DFB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40C36-1126-4F95-AB08-16C78DF92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0CB7E-D8F0-4422-934A-61BBB0330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3BEDA-A7FF-4BCE-9867-1C89D3E31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25D13-33B0-420D-A734-442358E45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F2B4-3EF6-4FB4-9A5E-DF4DF87A9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A76C6-EE35-425E-9F21-AF98E578D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CCCF-709B-42B1-90AE-E345B2A4B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60371-ED55-4090-A3D8-5ADFCDD0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AFB21-454C-4D4C-AA1C-2226D0E16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518AC-5D7C-4FA9-973F-73E3E5F32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9A50F-4EDE-4E2E-935F-82907C681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3DB81-FC97-498A-AF1E-088FF0E315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30A1A-7AA4-458F-9D5B-9CFF7010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DA265-AB88-41CC-BA43-ADF2636E1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438EA-FAE7-4BC1-AE56-77AA321CD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BA849-5A3B-4279-B0D7-B0742B45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42176-544B-4CB1-96DA-31538651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AFE8-C8F5-4BC1-8327-B74F51F36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FF3EA-A6B0-4912-84EC-559FB701A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7E13-5436-4B6F-9F69-D5A2F092909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D230-47C4-4AB4-A3C7-4EC490135AC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alor Presente = Valor Futuro actualizado por la tasa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Eduardo Contreras</cp:lastModifiedBy>
  <cp:lastPrinted>1997-04-16T17:24:08Z</cp:lastPrinted>
  <dcterms:modified xsi:type="dcterms:W3CDTF">2005-03-15T15:45:40Z</dcterms:modified>
  <cp:revision>15</cp:revision>
  <dc:subject>Planificación financiera</dc:subject>
  <dc:title>PLANIFICACION FINANCIERA</dc:title>
</cp:coreProperties>
</file>