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23C7-DC2B-4BAB-A3AD-BDE472A1C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9E80-48B1-44F0-A149-3AD1D85A9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1D9E-FDC2-4649-9057-028560CEE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B863-27D5-42D7-824E-445DA7159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0E7E-72F8-4B71-B288-B7636DA42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0A16-F31E-42BE-A4B0-1D13A50B9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7BC9-EBEA-4FAE-B70E-B91BBCB60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C249-5A46-4CEF-8EC9-2BF09D0DB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911B-A5F5-4285-8AA7-B26D62E7D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23F2-8BF0-47B2-B8C5-A14A7259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A446-CFE9-4E66-BD8B-326F0BBC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D694-4DAA-45BC-B07F-3872E6F5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51FE-A491-448B-8E35-B960B3FA9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¿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uede la calidad de las relaciones laborales afectar la calidad del producto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Krueger y Mas analizan esta pregunta para el caso particular de los neumáticos Bridgestone/Firestone que presentaron fallas importantes e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los encuentran que los neumáticos provenientes de una planta que había tenido conflictos laborales al momento de producción están sobre-representados en el número de neumáticos que presenta fall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5562360" cy="6343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227640" y="333360"/>
            <a:ext cx="2592360" cy="64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tes: Standard errors in parentheses. Standard deviations of dependent variable in bracket s. Dependent variable corresponds 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cidents per year of production, plant of production and calendar year of failure. Incidents in the NHTSA data set (columns 4-6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rrespond to reporting periods prior to August 2000, for failures occurring between January 1991 and December 1999. Incidents 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Firestone Claims data set (columns 1-3) occurred between January 1991 and December 1999 and claims were made before Janu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0. Proportion Original Equipment denotes the proportion of tires produced in the cell that were original equipment for Ford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rcury, or Mazda vehicles. Proportion ATX denotes the proportion of tires produced in the cell that were ATX tires. To adjust f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complete reporting in the NHTSA data set, missing values were imputed by assigning values from other observations with comple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, conditional on available data. Ten imputed data sets were generated. Reported estimates were obtained by averaging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stimates derived from each imputed data set. Standard errors were calculated by taking the square root of the sum of the avera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mpling variance across data sets and the variance of the estimates across the ten imputed data sets (to account for variability due 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utation). Other summary statistics reported for columns 4-6 are the average of the estimates across the imputed data sets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ymbol </a:t>
            </a:r>
            <a:r>
              <a:rPr b="0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represents the scaling parameter for the conditional variance in the negative binomial model. The conditional variance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negative binomial model equals the conditional variance of the Poisson model when </a:t>
            </a:r>
            <a:r>
              <a:rPr b="0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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quals zero. Starred values of </a:t>
            </a:r>
            <a:r>
              <a:rPr b="0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ndic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at we can reject the null hypothesis that </a:t>
            </a:r>
            <a:r>
              <a:rPr b="0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equals zero at a .05 level with the likelihood ratio tes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6237360"/>
            <a:ext cx="1081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403280" y="720720"/>
            <a:ext cx="640872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58920" y="1512720"/>
            <a:ext cx="6697800" cy="485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58920" y="1133640"/>
            <a:ext cx="6626160" cy="53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47640" y="549360"/>
            <a:ext cx="5715000" cy="1342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619280" y="2276640"/>
            <a:ext cx="5572080" cy="1714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692360" y="4076640"/>
            <a:ext cx="553392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692360" y="114480"/>
            <a:ext cx="581976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47800" y="204840"/>
            <a:ext cx="5648400" cy="6448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1989000"/>
            <a:ext cx="176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ia preliminar de sobre-disper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5562720" cy="6629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156360" y="0"/>
            <a:ext cx="2592360" cy="70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s: Robust standard errors in parentheses. Standard deviations of dependent variable in brackets. Dependent variable correspo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 incidents per year of production, plant of production and calendar year of failure. Incidents in the NHTSA data set (columns 4-6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respond to reporting periods prior to August 2000, for failures occurring between January 1991 and December 1999. Incidents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Firestone Claims data set (columns 1-3) occurred between January 1991 and December 1999 and claims were made bef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nuary 2000. Proportion Original Equipment denotes the proportion of tires produced in the cell that were original equipment 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d, Mercury, or Mazda vehicles. Proportion ATX denotes the proportion of tires produced in the cell that were ATX tires. To 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incomplete reporting in the NHTSA data set, missing values were imputed by assigning values from other observations wi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lete data, conditional on available data. Ten imputed data sets were generated. Reported estimates were obtained by averag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estimates derived from each imputed data set. Standard errors were calculated by taking the square root of the sum of the aver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mpling variance across data sets and the variance of the estimates across the ten imputed data sets (to account for variability due 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utation). Other summary statistics reported for columns 4-6 are the average of the estimates across the imputed data se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76240" y="1523880"/>
            <a:ext cx="5591520" cy="3810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771640" y="2637000"/>
            <a:ext cx="30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32360" y="2276640"/>
            <a:ext cx="30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076720" y="2997360"/>
            <a:ext cx="30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8T16:53:05Z</dcterms:created>
  <dc:creator>Gonzalo Reyes</dc:creator>
  <dc:description/>
  <dc:language>en-US</dc:language>
  <cp:lastModifiedBy>Gonzalo Reyes</cp:lastModifiedBy>
  <dcterms:modified xsi:type="dcterms:W3CDTF">2005-11-08T19:17:25Z</dcterms:modified>
  <cp:revision>4</cp:revision>
  <dc:subject/>
  <dc:title>¿Puede la calidad de las relaciones laborales afectar la calidad del producto ?</dc:title>
</cp:coreProperties>
</file>